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29895-5B6F-4037-B93C-9DCA7103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2A9AE-1D77-4AE5-B07D-B331A400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401A3-96B2-4693-80D3-EC93CEEA0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B7944-6D1A-466F-B985-347578AF4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DD102-D244-4338-A0BA-CEEEA2C1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2B71-B32D-41D3-8D20-94AB65E2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EA87-0FBF-413D-BA49-ED2055DC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4B3A-3A72-4E9D-9D89-6FF97014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A2F3-8F5F-4265-A942-44A59974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CCAA-4926-45DB-A2D8-51D3459FF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51149-09C4-4BF0-87D0-84BA0B7D4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050D-D284-42ED-92E9-27DDE607B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A649-C3B2-4988-A1C5-FD0DCFB921C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ULNERABILITE DU SITE ET CROISSANCE URBA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ST ALGERI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AS DES VILLES DE CONSTANTINE ET DE SKIK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mirèche Hamz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Maître de confér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boratoire d’Aménagement du Territo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iversité Mentouri Constant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l’évolution de l’urbanisation. A ceci s’ajoutent une forte concentration de l’habitat sur des sites bien précis tels Saint Jean et Bellevue, une densification élevée de l’habitat spontané notamment à Kaïdi, le quartier de l’avenue du 20 Août et la cité des Marty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xtension s’est également faite sur remblais, connus pour leur instabilité. Les propriétés mécaniques de ces derniers, grenus dans une large mesure, font que les mouvements relèvent de la proportion des vides laissés entre les grains de sables permettant une circulation de l’eau libre. Cette circulation entraîne l’effondrement des terrains sous l’effet de  pressions sus-jacen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utres facteurs aggravent davantage cette instabilité des versants de la ville notamment des pentes élevées, une néotectonique active et une sismicité fréquente.</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question technique des mouvements de terrain à Constantine et de ses environs ne peut être atténuée à l’avenir que par une adaptation du volume et des structures de l’habitat à la capacité portante des sols. Ceci se fera par un choix approprié dans les types de constructions tels les structures légères, amovibles et évolutives. Les structures lourdes sont à prévoir sur des terrains constructibles mécaniquement, tout en préconisant une déconcentration des équipements et des services vers d’autres sites plus conformes (Khroub, Hamma Bouziane, Ain Smara, Aïn El Be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cartographie des risques naturels et du zoning des terrains instables ou potentiellement instables est à instituer dans la gestion des phénomènes urbains. La prise en compte de ce support technique peut à cet effet constituer une base dans l’élaboration d’un  dispositif réglementaire de prévention de ces risques. Ceci doit être soumis évidemment à une surveillance rigoureuse de l’évolution du processus  des versa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e telles approches ont permis d’obtenir des résultants probants dans plusieurs régions exposées à ce fléau. La prévention reste dans tous les cas un des moyens de lutte les plus recommandé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dentification, la définition et l’évaluation du risque lié aux glissements est de ce fait un préalable à toute politique d’aménagement dans les zones instables, lors de l’élaboration des plans de développement des territoires : PDAU, POS, P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question technique des mouvements de terrain à Constantine et de ses environs ne peut être atténuée à l’avenir que par une adaptation du volume et des structures de l’habitat à la capacité portante des sols. Ceci se fera par un choix approprié dans les types de constructions tels les structures légères, amovibles et évolutives. Les structures lourdes sont à prévoir sur des terrains constructibles mécaniquement, tout en préconisant une déconcentration des équipements et des services vers d’autres sites plus conformes (Khroub, Hamma Bouziane, Ain Smara, Aïn El Be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cartographie des risques naturels et du zoning des terrains instables ou potentiellement instables est à instituer dans la gestion des phénomènes urbains. La prise en compte de ce support technique peut à cet effet constituer une base dans l’élaboration d’un  dispositif réglementaire de prévention de ces risques. Ceci doit être soumis évidemment à une surveillance rigoureuse de l’évolution du processus  des versa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e telles approches ont permis d’obtenir des résultants probants dans plusieurs régions exposées à ce fléau. La prévention reste dans tous les cas un des moyens de lutte les plus recommandé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dentification, la définition et l’évaluation du risque lié aux glissements est de ce fait un préalable à toute politique d’aménagement dans les zones instables, lors de l’élaboration des plans de développement des territoires : PDAU, POS, P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e la basse ville de Skikda est construite sur des pentes faibles ce qui favorise la propagation des ondes d’inondation. L’exemple de la crue de décembre 1984 est révélateur à cet eff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zone industrielle fut implantée sur les basses terrasses de l’oued saf-saf. Elle demeure une zone exposée au risque d’inondation, phénomène récurrent notamment lors des crues importantes dont les effets  ont souvent été dévastateurs.  La crue de Décembre 1984 a été à ce sujet exceptionnelle. Au cours de ce mois une lame d’eau de 448 mm a été enregistrée lors de la période du 20/12/1984 au 04/01/ 1985. Lors des journées du 29, 30 et 31/12/1984, une lame d’eau de 297 mm soit 63 % de la moyenne mensuelle a été obtenue . Celle-ci a provoqué un débit de pointe de 558 m3/s le 30/12/1984. Les inondations lors de</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l’oued El akna (cité Salah Boulkeroua), débordement de l’oued Zeramna et inondation des cités du 20 Août,  des allées,  des frères Saker, Timgad, Bouabba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 niveau de la ville de Skikda, le risque d’inondation est ainsi favorisé par des intensités de pluies dépassant la capacité d’absorption des sols, et les embâcles de débris végétaux, de troncs d’arbres, de galets, blocs de bét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élimitation précise de la portée des lames d’inondation dans les zones sujettes à cet effet et aux mouvements de terrain devient évidemment une tâche primordiale dans les problèmes d’amé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artographie des zones vulnérables aux inondations et aux glissements de terrain permettra de mieux maîtriser ces phénomènes et de mettre en œuvre les actions de prévention complémentaires à la protection du tissu urbain de la ville de Skik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03"/>
          <p:cNvPicPr/>
          <p:nvPr/>
        </p:nvPicPr>
        <p:blipFill>
          <a:blip r:embed="rId1"/>
          <a:stretch/>
        </p:blipFill>
        <p:spPr>
          <a:xfrm>
            <a:off x="1231920" y="1033560"/>
            <a:ext cx="7516800" cy="50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01"/>
          <p:cNvPicPr/>
          <p:nvPr/>
        </p:nvPicPr>
        <p:blipFill>
          <a:blip r:embed="rId1"/>
          <a:stretch/>
        </p:blipFill>
        <p:spPr>
          <a:xfrm>
            <a:off x="684360" y="765000"/>
            <a:ext cx="7848360" cy="536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IMG_0189"/>
          <p:cNvPicPr/>
          <p:nvPr/>
        </p:nvPicPr>
        <p:blipFill>
          <a:blip r:embed="rId1"/>
          <a:stretch/>
        </p:blipFill>
        <p:spPr>
          <a:xfrm>
            <a:off x="539640" y="620640"/>
            <a:ext cx="8209080" cy="599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IMG_0199"/>
          <p:cNvPicPr/>
          <p:nvPr/>
        </p:nvPicPr>
        <p:blipFill>
          <a:blip r:embed="rId1"/>
          <a:stretch/>
        </p:blipFill>
        <p:spPr>
          <a:xfrm>
            <a:off x="395280" y="569880"/>
            <a:ext cx="8280360" cy="545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roissance urbaine des villes algériennes, dans l’ensemble de sa dimension spatiale, économique et sociale, se trouve accélérée ces derniers temps par de multiples facteurs : politiques de développement, croissance naturelle, exode rural et surtout la non - maîtrise des facteurs générant celle-ci. D’autre part, la plupart des villes sont situées sur des sites à morphologie contrastée : interfluve (cas de Skikda par exemple), glacis-cône (Mila), lits d’oueds, montagnes, collines… et parfois à géologie complexe (cas de Constantine). Souvent cette croissance s’opère aléatoirement sans une prise en compte des conditions physiques (morphoclimat, géologie, sismicité …). Actuellement, ce type de croissance particulièrement de l’habitat constitue en lui même un processus aggravant l’instabilité des terra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MG_0203"/>
          <p:cNvPicPr/>
          <p:nvPr/>
        </p:nvPicPr>
        <p:blipFill>
          <a:blip r:embed="rId1"/>
          <a:stretch/>
        </p:blipFill>
        <p:spPr>
          <a:xfrm>
            <a:off x="395280" y="304920"/>
            <a:ext cx="8353440" cy="600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N-32-35"/>
          <p:cNvPicPr/>
          <p:nvPr/>
        </p:nvPicPr>
        <p:blipFill>
          <a:blip r:embed="rId1"/>
          <a:stretch/>
        </p:blipFill>
        <p:spPr>
          <a:xfrm>
            <a:off x="395280" y="96840"/>
            <a:ext cx="8497800" cy="666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sentiel des risques naturels à identifier dans ces villes se résume en particulier dans les séismes, les inondations et les glissements de terrain. Ceux-ci et leurs effets induits constituent en réalité des contraintes dans l’élaboration des schémas de développement des villes et de façon générale des milieux anthropisé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émarche, à cet effet, doit prendre en charge dans chaque site les éléments constitutifs de sa morphologie, géologie, l’exposition aux risques ainsi que  sa dynamique éventuel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 étude du site urbain conditionne d’emblée à notre avis les prémices de toute planification urbai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contraintes sus-citées constituent en fait les déterminants des politiques d’aménagement du territoire pour harmoniser l’organisation et la gestion des  espaces en question.</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typologie des sites urbains, selon leurs degré de vulnérabilité, peut conduire à la mise en œuvre d’une stratégie permettant d’instaurer un dispositif légal et réglementaire régissant le développement économique et social des agglomérations. Cette stratégie visera à orienter le développement vers des sites à faible vulnérabilité nulle ou faible. Cette manière d’articuler le développement est un impératif de base à toute politique rationnelle de gestion des territoi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phénomène urbain en Algérie a connu au cours des quatre dernières décennies de profondes mutations tant au niveau du volume de population qu’à celui du nombre d’agglomérations urbaines. Les mutations en question se sont opérées souvent  de façon conjoncturelle et précipitée, voire une absence globale des interférences des déterminants de tout développement dura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période 1962 - 1970,  les strates sommitales de la hiérarchie urbaine ont absorbé l’essentiel des flux migratoires d’origine rurale notam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propension des flux sociaux vers ces niveaux hiérarchiques s’explique par les potentialités offertes en matière d’embauche et d’habitat communément appelés  « biens-vacants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 interférences des déterminants de tout développement dur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ériode 1962 - 1970,  les strates sommitales de la hiérarchie urbaine ont absorbé l’essentiel des flux migratoires d’origine rurale notam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opension des flux sociaux vers ces niveaux hiérarchiques s’explique par les potentialités offertes en matière d’embauche et d’habitat communément appelés  « biens-vacants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subissant cette logique sociale, la strate des grandes villes fut rapidement saturée et ne pouvait ainsi contenir ces flux récurrents  en quête d’une vie meille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de telles situations, les grandes villes se sont transformées en un lieu de concentration sociale souvent sans fondements économiques réel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out cela a généré l’apparition d’un habitat qualifié de précaire plus généralement connu sous le vocable de bidonvilles. Cet état  a non seulement  accentué les tensions sociales en raison de la surcharge démographique et de l’insuffisance de l’infrastructure d’accueil, mais surtout il a désarticulé la relation population/espace de vi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ois exemples à cet effet, constituent un cas d’illustration et  caractérisent au mieux les sites concernés par les flux sociaux : cas de Constantine, ville en chapelet sur site accidenté voire montagneux, Mila, un antique glacis-cône et Skikda, sur un ancien vallon. Leur trait commun réside dans le fait que ces sites forment une contrainte physique pour un développement harmonieu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 objectif est d’essayer ici de préciser les contraintes de ces sites représentant dès lors, des handicaps majeurs dans  les processus d’urban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STANTINE : un site corse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ynamique spatiale  de Constantine s’est faite plus particulièrement sur des espaces immédiats du rocher comme le stipulait le programme CALSAT (1960) dans le cadre du plan de Constantine (1958). Ainsi plusieurs zones d’habitations furent retenues à cet effet: plateau du Mansourah, Bellevue Ouest, Boufrika, Cilo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ès 1958, le déficit en logement était déjà estimé à 100 000. En 1960, le coudiat Aty s’est créé sur une surface de 06 h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 raison de l’afflux incontrôlé des migrants essentiellement d’origine rurale, les prévisions se sont avérées nettement en deçà des normes requises en matière d’urbanisation générant de la sorte une multiplication de noyaux de peuplements sous-intégrés économiquement aux abords du rocher : Bardo, Aouinet El Foul, Tennoudji... Une modification géométrique des talus des versants a été produite, les rendant ainsi vulnérables.</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 1972, on assista alors à un processus d’accélération du phénomène des glissements de terrain à Constantine. Les versants n’ont cessé d’être modelés au cours de ces dernières décennies par divers glissements de terrain rendant ces sites à risques réels. La fréquence des mouvements de terrain et celle des inondations occasionnent actuellement de nombreux dégâts compromettant le développement du tissu urbain de la ville. Les processus concernent quelques 120 hectares et s’individualisent par la complexité de leurs mécanismes. Cette complexité est marquée à la fois par l’ ancienneté de ces mouvements et  leur</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3:01:02Z</dcterms:created>
  <dc:creator>vous</dc:creator>
  <dc:description/>
  <dc:language>en-US</dc:language>
  <cp:lastModifiedBy>HAMZA</cp:lastModifiedBy>
  <dcterms:modified xsi:type="dcterms:W3CDTF">2009-07-04T04:58:02Z</dcterms:modified>
  <cp:revision>24</cp:revision>
  <dc:subject/>
  <dc:title>Diapositive 1</dc:title>
</cp:coreProperties>
</file>