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73F1-8F1D-4AA4-BBC5-B1E2EE487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4363A-788A-4EF0-A409-E7878828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E4D9E-4535-4140-A0B4-A0E4839EC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C3C5B-2A9D-4910-8EAC-6827091A0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9EFEB-6599-4031-85A9-A7C88C986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4FF65-B4E4-4633-937C-C9CD798A8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5DAD-39B3-484E-917E-B9B70D8C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0B8E-5B25-4F78-A2E2-B2E117A0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7F68-98E6-4293-B477-7E8D6ECA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2FDB-40A2-45B1-8E45-374FA118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1BB3-A849-4DEB-BFFA-84289D5D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565C-6589-41F8-924F-B7F09E48F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A147-FFA6-4A32-9B32-643829551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8487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7712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adaan Buk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angguan perkembangan bahasa </a:t>
            </a:r>
            <a:endParaRPr b="0" lang="en-US" sz="3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bicara -&gt; factor genetic, gangguan pendengaran, retardasi mental, kurangnya interaksi anak dengan lingkungan, maturasi yang terlambat, factor keluarga, kembar, psikosis. Selain itu gangguan bicara bisa akibat sumbing, maloklusi, palsi sereb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angguan fungsi vegetatif </a:t>
            </a:r>
            <a:endParaRPr b="0" lang="en-US" sz="32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makan</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fungsi eliminasi, misalnya ngompol</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tidur</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kebiasaan -&gt; membentur-benturkan kepala, menghisap jari, menggigit kuku, mencabut rambut, mengulang kata-kata, menahan nafas dan tiks</a:t>
            </a:r>
            <a:endParaRPr b="0" lang="en-US" sz="2400" spc="-1" strike="noStrike">
              <a:solidFill>
                <a:srgbClr val="000000"/>
              </a:solidFill>
              <a:latin typeface="Arial"/>
            </a:endParaRPr>
          </a:p>
          <a:p>
            <a:pPr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8077320" cy="4267080"/>
          </a:xfrm>
          <a:prstGeom prst="rect">
            <a:avLst/>
          </a:prstGeom>
          <a:noFill/>
          <a:ln w="0">
            <a:noFill/>
          </a:ln>
        </p:spPr>
        <p:txBody>
          <a:bodyPr lIns="90000" rIns="90000" tIns="46800" bIns="46800" anchor="t">
            <a:normAutofit/>
          </a:bodyPr>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Kecemasan. Umumnya kecemasan merupakan bagian dari perkembangan</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Gangguan kepribadian yang terpecah. Kelainan ini mungkin akibat frustrasi dan kemarahan, misalnya berbohong, membangkang, temper tantrum dan agresif.</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Gangguan perkembangan pervasive dan psikosis anak. Misalnya autisme ( gangguan komunikasi verbal, non verbal, gangguan perilaku dan interaksi social)</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isfungsi neorodevelopmental pada usia sekolah. Disfungsi SSP sering disertai dengan kemampuan akademik yang rendah, kelainan perilaku dan masalah interaksi social, misalnya ADHD ( Attention Defisit Hyperactivity Disorder)</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Kelainan saraf akibat trauma ota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3059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tumbuhan</a:t>
            </a:r>
            <a:r>
              <a:rPr b="0" lang="en-US" sz="2400" spc="-1" strike="noStrike">
                <a:solidFill>
                  <a:srgbClr val="000000"/>
                </a:solidFill>
                <a:latin typeface="Arial"/>
              </a:rPr>
              <a:t> adalah bertambahnya ukuran dan jumlah sel serta jaringan interseluler, berarti bertambahnya ukuran fisik dan struktur tubuh dalam arti sebagian atau keseluruhan. Jadi bersifat kuantitatif sehingga dapat diukur dengan satuan panjang atau satuan ber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kembangan</a:t>
            </a:r>
            <a:r>
              <a:rPr b="0" lang="en-US" sz="2400" spc="-1" strike="noStrike">
                <a:solidFill>
                  <a:srgbClr val="000000"/>
                </a:solidFill>
                <a:latin typeface="Arial"/>
              </a:rPr>
              <a:t> adalah bertambahnya  kemampuan struktur dan fungsi tubuh yang lebih kompleks, jadi bersifat kualitatif yang pengukurannya jauh lebih sulit dibandingkan dengan pertumbuh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hapan tumbuh kembang </a:t>
            </a:r>
            <a:endParaRPr b="0" lang="en-US" sz="4000" spc="-1" strike="noStrike">
              <a:solidFill>
                <a:srgbClr val="000000"/>
              </a:solidFill>
              <a:latin typeface="Arial"/>
            </a:endParaRPr>
          </a:p>
        </p:txBody>
      </p:sp>
      <p:sp>
        <p:nvSpPr>
          <p:cNvPr id="46" name="PlaceHolder 2"/>
          <p:cNvSpPr>
            <a:spLocks noGrp="1"/>
          </p:cNvSpPr>
          <p:nvPr>
            <p:ph/>
          </p:nvPr>
        </p:nvSpPr>
        <p:spPr>
          <a:xfrm>
            <a:off x="304560" y="1219320"/>
            <a:ext cx="8381880" cy="5029200"/>
          </a:xfrm>
          <a:prstGeom prst="rect">
            <a:avLst/>
          </a:prstGeom>
          <a:noFill/>
          <a:ln w="0">
            <a:noFill/>
          </a:ln>
        </p:spPr>
        <p:txBody>
          <a:bodyPr lIns="90000" rIns="90000" tIns="46800" bIns="46800" anchor="t">
            <a:normAutofit/>
          </a:bodyPr>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eriode prenatal</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asa embrio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Masa fetus</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eriode neonatal </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eriode Bayi</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Periode bayi dini</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Periode bayi akhir</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riode masa pra sekolah usia 2 – 6 tahun</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Periode sekolah usia 6 – 12 tahun</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Periode Remaja,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k laki – laki 12 -20 tahun ( prapubertas 12-14 tahun),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k perempuan 10 – 18 tahun (prapubertas 10-12 tahun). </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i-ciri pertumbuhan.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ukur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proporsi</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angnya ciri-ciri lama.</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bulnya ciri-ciri baru</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i-ciri perkembanga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libatkan perubah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awal menentukan pertumbuhan selanjutnya </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punyai pola tetap</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iliki tahap berurut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punyai kecepatan berbed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ktor-faktor yang mempengaruhi pertumbuhan dan perkembangan </a:t>
            </a:r>
            <a:endParaRPr b="0" lang="en-US" sz="4000" spc="-1" strike="noStrike">
              <a:solidFill>
                <a:srgbClr val="000000"/>
              </a:solidFill>
              <a:latin typeface="Arial"/>
            </a:endParaRPr>
          </a:p>
        </p:txBody>
      </p:sp>
      <p:sp>
        <p:nvSpPr>
          <p:cNvPr id="5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 internal</a:t>
            </a:r>
            <a:endParaRPr b="0" lang="en-US" sz="32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s/etnik/bangs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uarg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ur</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is kelamin</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ainan genetik</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ainan kromosom</a:t>
            </a:r>
            <a:endParaRPr b="0" lang="en-US" sz="1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 eksternal/lingkungan</a:t>
            </a:r>
            <a:endParaRPr b="0" lang="en-US" sz="32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ktor prenatal </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ktor persalinan, misal trauma lahir, asfiksi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ca natal</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butuhan Dasar Tumbuh Kembang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uh (fisis-biomedi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ih (emosi/kasih sayang)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ah ( stimulas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ngguan perkembangan fisik </a:t>
            </a:r>
            <a:endParaRPr b="0" lang="en-US" sz="32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lebih 120%  -&gt; Obesitas atau kelainan endokrin.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bawah garis normal -&gt; kurang gisi, deprivasi, atau menderita penyakit kronis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kar kepala besar  -&gt; hidrosefalus, megaensefali, hidranensefali, efusi subdural, tumor otak, penyakit Canavan, bayi besar, keturunan, variasi normal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kar kepala kecil -&gt; kraniosinostosis, redardasi mental, bayi kecil, keturunan, variasi normal.</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awakan pendek  -&gt; umur tulang normal sesuai umur biologis  </a:t>
            </a:r>
            <a:endParaRPr b="0" lang="en-US" sz="1800" spc="-1" strike="noStrike">
              <a:solidFill>
                <a:srgbClr val="000000"/>
              </a:solidFill>
              <a:latin typeface="Arial"/>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tumbuhan terlambat -&gt; perawakan pendek -&gt; kelainan endokrin, gisi kurang,umur tulang lebih rendah.</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600" spc="-1" strike="noStrike">
                <a:solidFill>
                  <a:srgbClr val="000000"/>
                </a:solidFill>
                <a:latin typeface="Arial"/>
              </a:rPr>
              <a:t>Gangguan perkembangan motorik</a:t>
            </a:r>
            <a:r>
              <a:rPr b="0" lang="en-US" sz="3200" spc="-1" strike="noStrike">
                <a:solidFill>
                  <a:srgbClr val="000000"/>
                </a:solidFill>
                <a:latin typeface="Arial"/>
              </a:rPr>
              <a:t> </a:t>
            </a:r>
            <a:endParaRPr b="0" lang="en-US" sz="32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keturunan. Pada keluarga tersebut rata-rata perkembangan terlambat</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lingkungan</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kepribadian. Anak penakut</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rdasi mental</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ainan tonus otot. Misalnya pada anak dengan palsi serebral</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a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yakit neoromuskular, misalnya penyakit Duchenne distropi</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k buta</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38:21Z</dcterms:created>
  <dc:creator>user</dc:creator>
  <dc:description/>
  <dc:language>en-US</dc:language>
  <cp:lastModifiedBy>user</cp:lastModifiedBy>
  <dcterms:modified xsi:type="dcterms:W3CDTF">2009-04-14T14:50:14Z</dcterms:modified>
  <cp:revision>3</cp:revision>
  <dc:subject/>
  <dc:title>Gangguan Tumbuh Kembang</dc:title>
</cp:coreProperties>
</file>