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D5AF0-D119-48B5-811A-3257BCAF6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FDD61-E64A-4AEE-8F85-4CF014E55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A14CD-2808-4FC3-B735-8B2169580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C2C0F-3D2F-4F3C-B3C5-5077A99FA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0015D-DDE9-46C8-9439-7BD28FF2A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23BCF-F356-4CB7-B401-4B07ACD1C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2DE6A-C27B-4538-AF4D-ACEA21042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4A66F-715D-4BBD-905E-93B580148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BE571-A015-4364-AD2A-D578DC225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3EB55-8A44-4EF6-9F3C-93D21F1DC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B6FA9-0D6A-4E08-AA5C-62380816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B12BF-0816-41A8-9DE1-94358EABF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0CE8-0BCE-412E-A820-B4A0D88A7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8487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5840"/>
            <a:ext cx="647712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adaan Buk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Gangguan perkembangan bahasa </a:t>
            </a:r>
            <a:endParaRPr b="0" lang="en-US" sz="3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bicara -&gt; factor genetic, gangguan pendengaran, retardasi mental, kurangnya interaksi anak dengan lingkungan, maturasi yang terlambat, factor keluarga, kembar, psikosis. Selain itu gangguan bicara bisa akibat sumbing, maloklusi, palsi sereb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Gangguan fungsi vegetatif </a:t>
            </a:r>
            <a:endParaRPr b="0" lang="en-US" sz="3200" spc="-1" strike="noStrike">
              <a:solidFill>
                <a:srgbClr val="000000"/>
              </a:solidFill>
              <a:latin typeface="Arial"/>
            </a:endParaRPr>
          </a:p>
          <a:p>
            <a:pPr lvl="1" marL="122724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makan</a:t>
            </a:r>
            <a:endParaRPr b="0" lang="en-US" sz="2400" spc="-1" strike="noStrike">
              <a:solidFill>
                <a:srgbClr val="000000"/>
              </a:solidFill>
              <a:latin typeface="Arial"/>
            </a:endParaRPr>
          </a:p>
          <a:p>
            <a:pPr lvl="1" marL="122724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fungsi eliminasi, misalnya ngompol</a:t>
            </a:r>
            <a:endParaRPr b="0" lang="en-US" sz="2400" spc="-1" strike="noStrike">
              <a:solidFill>
                <a:srgbClr val="000000"/>
              </a:solidFill>
              <a:latin typeface="Arial"/>
            </a:endParaRPr>
          </a:p>
          <a:p>
            <a:pPr lvl="1" marL="122724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tidur</a:t>
            </a:r>
            <a:endParaRPr b="0" lang="en-US" sz="2400" spc="-1" strike="noStrike">
              <a:solidFill>
                <a:srgbClr val="000000"/>
              </a:solidFill>
              <a:latin typeface="Arial"/>
            </a:endParaRPr>
          </a:p>
          <a:p>
            <a:pPr lvl="1" marL="122724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kebiasaan -&gt; membentur-benturkan kepala, menghisap jari, menggigit kuku, mencabut rambut, mengulang kata-kata, menahan nafas dan tiks</a:t>
            </a:r>
            <a:endParaRPr b="0" lang="en-US" sz="2400" spc="-1" strike="noStrike">
              <a:solidFill>
                <a:srgbClr val="000000"/>
              </a:solidFill>
              <a:latin typeface="Arial"/>
            </a:endParaRPr>
          </a:p>
          <a:p>
            <a:pPr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8077320" cy="4267080"/>
          </a:xfrm>
          <a:prstGeom prst="rect">
            <a:avLst/>
          </a:prstGeom>
          <a:noFill/>
          <a:ln w="0">
            <a:noFill/>
          </a:ln>
        </p:spPr>
        <p:txBody>
          <a:bodyPr lIns="90000" rIns="90000" tIns="46800" bIns="46800" anchor="t">
            <a:normAutofit/>
          </a:bodyPr>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Kecemasan. Umumnya kecemasan merupakan bagian dari perkembangan</a:t>
            </a:r>
            <a:endParaRPr b="0" lang="en-US" sz="2000" spc="-1" strike="noStrike">
              <a:solidFill>
                <a:srgbClr val="000000"/>
              </a:solidFill>
              <a:latin typeface="Arial"/>
            </a:endParaRPr>
          </a:p>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Gangguan kepribadian yang terpecah. Kelainan ini mungkin akibat frustrasi dan kemarahan, misalnya berbohong, membangkang, temper tantrum dan agresif.</a:t>
            </a:r>
            <a:endParaRPr b="0" lang="en-US" sz="2000" spc="-1" strike="noStrike">
              <a:solidFill>
                <a:srgbClr val="000000"/>
              </a:solidFill>
              <a:latin typeface="Arial"/>
            </a:endParaRPr>
          </a:p>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Gangguan perkembangan pervasive dan psikosis anak. Misalnya autisme ( gangguan komunikasi verbal, non verbal, gangguan perilaku dan interaksi social)</a:t>
            </a:r>
            <a:endParaRPr b="0" lang="en-US" sz="2000" spc="-1" strike="noStrike">
              <a:solidFill>
                <a:srgbClr val="000000"/>
              </a:solidFill>
              <a:latin typeface="Arial"/>
            </a:endParaRPr>
          </a:p>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Disfungsi neorodevelopmental pada usia sekolah. Disfungsi SSP sering disertai dengan kemampuan akademik yang rendah, kelainan perilaku dan masalah interaksi social, misalnya ADHD ( Attention Defisit Hyperactivity Disorder)</a:t>
            </a:r>
            <a:endParaRPr b="0" lang="en-US" sz="2000" spc="-1" strike="noStrike">
              <a:solidFill>
                <a:srgbClr val="000000"/>
              </a:solidFill>
              <a:latin typeface="Arial"/>
            </a:endParaRPr>
          </a:p>
          <a:p>
            <a:pPr lvl="1" marL="122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Kelainan saraf akibat trauma ota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3059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tumbuhan</a:t>
            </a:r>
            <a:r>
              <a:rPr b="0" lang="en-US" sz="2400" spc="-1" strike="noStrike">
                <a:solidFill>
                  <a:srgbClr val="000000"/>
                </a:solidFill>
                <a:latin typeface="Arial"/>
              </a:rPr>
              <a:t> adalah bertambahnya ukuran dan jumlah sel serta jaringan interseluler, berarti bertambahnya ukuran fisik dan struktur tubuh dalam arti sebagian atau keseluruhan. Jadi bersifat kuantitatif sehingga dapat diukur dengan satuan panjang atau satuan ber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kembangan</a:t>
            </a:r>
            <a:r>
              <a:rPr b="0" lang="en-US" sz="2400" spc="-1" strike="noStrike">
                <a:solidFill>
                  <a:srgbClr val="000000"/>
                </a:solidFill>
                <a:latin typeface="Arial"/>
              </a:rPr>
              <a:t> adalah bertambahnya  kemampuan struktur dan fungsi tubuh yang lebih kompleks, jadi bersifat kualitatif yang pengukurannya jauh lebih sulit dibandingkan dengan pertumbuha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hapan tumbuh kembang </a:t>
            </a:r>
            <a:endParaRPr b="0" lang="en-US" sz="4000" spc="-1" strike="noStrike">
              <a:solidFill>
                <a:srgbClr val="000000"/>
              </a:solidFill>
              <a:latin typeface="Arial"/>
            </a:endParaRPr>
          </a:p>
        </p:txBody>
      </p:sp>
      <p:sp>
        <p:nvSpPr>
          <p:cNvPr id="46" name="PlaceHolder 2"/>
          <p:cNvSpPr>
            <a:spLocks noGrp="1"/>
          </p:cNvSpPr>
          <p:nvPr>
            <p:ph/>
          </p:nvPr>
        </p:nvSpPr>
        <p:spPr>
          <a:xfrm>
            <a:off x="304560" y="1219320"/>
            <a:ext cx="8381880" cy="5029200"/>
          </a:xfrm>
          <a:prstGeom prst="rect">
            <a:avLst/>
          </a:prstGeom>
          <a:noFill/>
          <a:ln w="0">
            <a:noFill/>
          </a:ln>
        </p:spPr>
        <p:txBody>
          <a:bodyPr lIns="90000" rIns="90000" tIns="46800" bIns="46800" anchor="t">
            <a:normAutofit/>
          </a:bodyPr>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eriode prenatal</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Masa embrio </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Masa fetus</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eriode neonatal </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Periode Bayi</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Periode bayi dini</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Periode bayi akhir</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eriode masa pra sekolah usia 2 – 6 tahun</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Periode sekolah usia 6 – 12 tahun</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Periode Remaja, </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k laki – laki 12 -20 tahun ( prapubertas 12-14 tahun), </a:t>
            </a:r>
            <a:endParaRPr b="0" lang="en-US" sz="2000" spc="-1" strike="noStrike">
              <a:solidFill>
                <a:srgbClr val="000000"/>
              </a:solidFill>
              <a:latin typeface="Arial"/>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k perempuan 10 – 18 tahun (prapubertas 10-12 tahun). </a:t>
            </a: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5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5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i-ciri pertumbuhan.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ubahan ukuran.</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ubahan proporsi</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langnya ciri-ciri lama.</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bulnya ciri-ciri baru</a:t>
            </a:r>
            <a:endParaRPr b="0" lang="en-US" sz="32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i-ciri perkembangan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melibatkan perubahan</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awal menentukan pertumbuhan selanjutnya </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mempunyai pola tetap</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memiliki tahap berurutan</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kembangan mempunyai kecepatan berbed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ktor-faktor yang mempengaruhi pertumbuhan dan perkembangan </a:t>
            </a:r>
            <a:endParaRPr b="0" lang="en-US" sz="4000" spc="-1" strike="noStrike">
              <a:solidFill>
                <a:srgbClr val="000000"/>
              </a:solidFill>
              <a:latin typeface="Arial"/>
            </a:endParaRPr>
          </a:p>
        </p:txBody>
      </p:sp>
      <p:sp>
        <p:nvSpPr>
          <p:cNvPr id="52"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ktor internal</a:t>
            </a:r>
            <a:endParaRPr b="0" lang="en-US" sz="32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s/etnik/bangsa</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luarga</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ur</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is kelamin</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lainan genetik</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lainan kromosom</a:t>
            </a:r>
            <a:endParaRPr b="0" lang="en-US" sz="16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ktor eksternal/lingkungan</a:t>
            </a:r>
            <a:endParaRPr b="0" lang="en-US" sz="32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ktor prenatal </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ktor persalinan, misal trauma lahir, asfiksia</a:t>
            </a:r>
            <a:endParaRPr b="0"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ca natal</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butuhan Dasar Tumbuh Kembang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butuhan Asuh (fisis-biomedi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butuhan Asih (emosi/kasih sayang)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butuhan Asah ( stimulas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ngguan perkembangan fisik </a:t>
            </a:r>
            <a:endParaRPr b="0" lang="en-US" sz="32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 lebih 120%  -&gt; Obesitas atau kelainan endokrin. </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 bawah garis normal -&gt; kurang gisi, deprivasi, atau menderita penyakit kronis </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gkar kepala besar  -&gt; hidrosefalus, megaensefali, hidranensefali, efusi subdural, tumor otak, penyakit Canavan, bayi besar, keturunan, variasi normal </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gkar kepala kecil -&gt; kraniosinostosis, redardasi mental, bayi kecil, keturunan, variasi normal.</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awakan pendek  -&gt; umur tulang normal sesuai umur biologis  </a:t>
            </a:r>
            <a:endParaRPr b="0" lang="en-US" sz="1800" spc="-1" strike="noStrike">
              <a:solidFill>
                <a:srgbClr val="000000"/>
              </a:solidFill>
              <a:latin typeface="Arial"/>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tumbuhan terlambat -&gt; perawakan pendek -&gt; kelainan endokrin, gisi kurang,umur tulang lebih rendah.</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guan Tumbuh Kemba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600" spc="-1" strike="noStrike">
                <a:solidFill>
                  <a:srgbClr val="000000"/>
                </a:solidFill>
                <a:latin typeface="Arial"/>
              </a:rPr>
              <a:t>Gangguan perkembangan motorik</a:t>
            </a:r>
            <a:r>
              <a:rPr b="0" lang="en-US" sz="3200" spc="-1" strike="noStrike">
                <a:solidFill>
                  <a:srgbClr val="000000"/>
                </a:solidFill>
                <a:latin typeface="Arial"/>
              </a:rPr>
              <a:t> </a:t>
            </a:r>
            <a:endParaRPr b="0" lang="en-US" sz="32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ktor keturunan. Pada keluarga tersebut rata-rata perkembangan terlambat</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ktor lingkungan</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ktor kepribadian. Anak penakut</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rdasi mental</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lainan tonus otot. Misalnya pada anak dengan palsi serebral</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as</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yakit neoromuskular, misalnya penyakit Duchenne distropi</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k buta</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5:38:21Z</dcterms:created>
  <dc:creator>user</dc:creator>
  <dc:description/>
  <dc:language>en-US</dc:language>
  <cp:lastModifiedBy>user</cp:lastModifiedBy>
  <dcterms:modified xsi:type="dcterms:W3CDTF">2009-04-14T14:50:14Z</dcterms:modified>
  <cp:revision>3</cp:revision>
  <dc:subject/>
  <dc:title>Gangguan Tumbuh Kembang</dc:title>
</cp:coreProperties>
</file>