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3"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ecff"/>
                </a:solidFill>
                <a:latin typeface="Arial"/>
              </a:rPr>
              <a:t>Click to move the slide</a:t>
            </a:r>
            <a:endParaRPr b="0" lang="en-US" sz="4400" spc="-1" strike="noStrike">
              <a:solidFill>
                <a:srgbClr val="d6ecff"/>
              </a:solidFill>
              <a:latin typeface="Arial"/>
            </a:endParaRPr>
          </a:p>
        </p:txBody>
      </p:sp>
      <p:sp>
        <p:nvSpPr>
          <p:cNvPr id="4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6"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7"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6DBA-1BB5-418F-B65B-635BA1DA732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F31E-9BFB-4B05-87B8-FF8908FA248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EA75A-F082-457A-A5E3-86C00B5F5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8AF57-6515-4D60-AB86-847091F31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B0789-7F05-4D5D-8088-0DF299883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E6C4C-2040-4F46-89EE-B9A0A527E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39734C9-1131-453E-9E84-45F7F7234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BEBF18-9A23-437A-98CD-610D499C6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E42193-45C4-4A63-977F-5E1D513A6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82CDA8-2EE9-422F-BCAE-3D76DCD11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AFE375-F1C7-4A5E-8BB4-F337D82FD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0DFCAA-80D5-4B39-8CB0-282A98D82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CF91A4-5FE3-4DD4-B840-B1A266FCA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58C0-42E7-40DE-A684-44D4757F3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90D52E-E710-4D42-820F-7383D4BED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8A9DC6-E50E-4519-8EF1-1C194A593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70BCF8-FC32-4DE8-B2FF-C6EF2521E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2C06D5-AD7E-4F47-9C09-3E93FDF6A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EED9ECE-4097-4399-88B9-C7B96AEA8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CA2FFD-BC9D-4A84-B88F-03A22F6B1A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8E054-BD10-4D3D-ADAA-A8754D6BF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DF1D35-063A-4BCE-8A94-723E9B9E23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4D6EA-1685-4F7A-9981-575EEE7C2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A13D5-C208-4F20-A7CE-DD9C257FF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17BAB-E633-49EB-A68F-F28A5E2DB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2DC91-6116-4AED-9AC3-33B022B38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F22DB-4129-4940-BA4F-E697D34FD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266D0-77F0-4455-A236-475D33803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C858A-3E51-4C49-9F98-310FE6BBF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821A7D-68F3-4ED5-BDF2-6CE82CD59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6454C-1B01-4C0B-984D-1BFECEE58E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1A4007-5613-4E14-8DC3-8AD7E20001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48EAF0-B8A6-4C41-A8DA-4FB518BB8D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B0EC6-ABEB-4723-A1D1-5CADDEC849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CE59CC-7F4F-4620-A999-09EAD8B38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F0B9F-22F7-4B35-B11F-DD49E9910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B44F0-6218-40D9-83E3-1C74A1F23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D5C73-A2BE-4B2C-B08F-F173D0357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51693-2B71-44D3-A485-E8FBEC083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7C14A-00D4-4709-A4E9-C82DD1E8E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951AA-164F-4CAD-9329-F45836486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CC716-05BD-4715-BAD3-CA2B472DD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CCD1E-B245-4152-9C31-E66068FFB5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22B726-7D6C-4F3B-A610-1D613818F5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4DA20C-E929-4D84-A9F6-C648B56DFC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EF53DC7-F405-4DA9-9311-B652D8118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4C8B2-D7AA-41D8-AEB6-91095102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B24D028-78CA-458B-B190-2569043F1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07D235-9B57-4559-ADCA-F430A3D1F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4052B0-D1B0-4F96-ABBF-23D4E52E0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9A6C1F-EC67-48F3-8D82-B4CE458350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37019F-959C-417D-94FF-98FBC0541E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C6F628-1A92-4C77-B806-EEA27C821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AAB792-CBD0-4690-AD43-7F5A092D2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1278C6-5CBD-4EE5-9FA6-28994A9CB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A3C57D-F51D-4B92-96F6-0857B7E60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5D3132A-24B0-48F2-8FEC-4512811357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98693-8BD9-4C46-A5B8-E5577FD79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F757064-5732-4052-BC66-BEB6047137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3AAC152-1721-4C3E-9800-4EBB224F61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DBE69B-D6CC-4913-B7DE-BF4148412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90E89F-C5AF-4DB8-8623-51BA77DA0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DEAD5F8-4346-4CA5-A3A3-3E20DAD953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99077B8-03AE-4000-BBA8-F95C9AF68A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90F0498-A590-4148-A996-B186EC23E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00F828-8D20-4951-9F0E-8DFFA4568F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A48B9A-6C24-471F-B973-5609098130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1E7ECE2-152A-46D0-8F47-BCE9C6E0D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EC33-ADCC-44FA-B945-6ED8B4AE6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56286CB-4F6D-404E-AD09-83F7AE1D28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F1C0E75-C3BA-4A63-95E0-EA97F5E473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7436869-B15F-45F7-8E6C-3C2333DE3B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594946-F0EA-4F13-B0D1-B7FBA6989A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79D441-A9C6-4AF4-A055-0A79571F9F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ADFCED-E8FB-4DC5-8CB5-E6F0AD378C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0D118-FCA6-42D7-8F28-2D0AC66387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C09CD3-B045-4429-B612-40109867BA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7C60FE-8C1F-46BA-8AF2-0FFABA0CBC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E5805-C10D-4D75-86CA-F46D03DD70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80EE-2256-430B-8A70-FB325D689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FDF15-7979-49CF-8F16-354308176E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2878C-5567-4689-8E69-BDC6F8D19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3983B8-781C-474E-9193-85D0FA0C44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6932E7-937D-4EB8-9E49-C43C193776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066E5A-1898-47C3-88F5-B09AD06DED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17F5EB0-8B7F-4B11-A79E-C05AF17E5A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B762308-9D2F-4909-9FA0-860A2655D6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3D813D5-A455-4F14-BA0B-C6529EB2FF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5E639A3-5750-446D-83D9-C0D89EE157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D1B4CED-7840-4FCF-8E4E-821BCB6FDD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8208C-C8B2-4D46-9CAB-37B3E77B0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1F0CE95-F5B8-41C1-9A85-F5F19D9CF7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C6F69C6-AD23-40CB-8F3E-591D5B0309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FBDC089-441F-4260-BBEA-6695F5CEE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883C379-45D6-4107-A8D5-9EF769E1AC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C87FBA6-0608-426F-8A67-FD25E54C45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B2C6714-AE3C-4988-B80E-2B2FA43A11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305F511-C071-42B0-9018-5A558A2CE51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BAF0-40AB-48CF-99BC-3E5E90862B7E}"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7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76" name="PlaceHolder 3"/>
          <p:cNvSpPr>
            <a:spLocks noGrp="1"/>
          </p:cNvSpPr>
          <p:nvPr>
            <p:ph type="dt" idx="4"/>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77" name="PlaceHolder 4"/>
          <p:cNvSpPr>
            <a:spLocks noGrp="1"/>
          </p:cNvSpPr>
          <p:nvPr>
            <p:ph type="sldNum" idx="5"/>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7D60-807C-493E-8BB4-574EF9514E9C}" type="slidenum">
              <a:rPr b="1" lang="fr-F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78" name="PlaceHolder 5"/>
          <p:cNvSpPr>
            <a:spLocks noGrp="1"/>
          </p:cNvSpPr>
          <p:nvPr>
            <p:ph type="ftr" idx="6"/>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Group 8"/>
          <p:cNvGrpSpPr/>
          <p:nvPr/>
        </p:nvGrpSpPr>
        <p:grpSpPr>
          <a:xfrm>
            <a:off x="8153280" y="152280"/>
            <a:ext cx="792000" cy="1295280"/>
            <a:chOff x="8153280" y="152280"/>
            <a:chExt cx="792000" cy="1295280"/>
          </a:xfrm>
        </p:grpSpPr>
        <p:sp>
          <p:nvSpPr>
            <p:cNvPr id="11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8"/>
          <p:cNvGrpSpPr/>
          <p:nvPr/>
        </p:nvGrpSpPr>
        <p:grpSpPr>
          <a:xfrm>
            <a:off x="7493040" y="2992320"/>
            <a:ext cx="1337760" cy="2189160"/>
            <a:chOff x="7493040" y="2992320"/>
            <a:chExt cx="1337760" cy="2189160"/>
          </a:xfrm>
        </p:grpSpPr>
        <p:sp>
          <p:nvSpPr>
            <p:cNvPr id="150"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A1EF-FF89-4851-A402-CBD641C14003}"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
          <p:cNvSpPr/>
          <p:nvPr/>
        </p:nvSpPr>
        <p:spPr>
          <a:xfrm>
            <a:off x="-9360" y="6053040"/>
            <a:ext cx="2249280" cy="712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359080" y="6043680"/>
            <a:ext cx="6784920" cy="7142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ecff"/>
                </a:solidFill>
                <a:latin typeface="Arial"/>
              </a:rPr>
              <a:t>Click to edit the title text format</a:t>
            </a:r>
            <a:endParaRPr b="0" lang="en-US" sz="4400" spc="-1" strike="noStrike">
              <a:solidFill>
                <a:srgbClr val="d6ecff"/>
              </a:solidFill>
              <a:latin typeface="Arial"/>
            </a:endParaRPr>
          </a:p>
        </p:txBody>
      </p:sp>
      <p:sp>
        <p:nvSpPr>
          <p:cNvPr id="22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outline text format</a:t>
            </a:r>
            <a:endParaRPr b="0" lang="en-US" sz="2900" spc="-1" strike="noStrike">
              <a:solidFill>
                <a:srgbClr val="ffffff"/>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econd Outline Level</a:t>
            </a:r>
            <a:endParaRPr b="0" lang="en-US" sz="2900" spc="-1" strike="noStrike">
              <a:solidFill>
                <a:srgbClr val="ffffff"/>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ird Outline Level</a:t>
            </a:r>
            <a:endParaRPr b="0" lang="en-US" sz="2900" spc="-1" strike="noStrike">
              <a:solidFill>
                <a:srgbClr val="ffffff"/>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ourth Outline Level</a:t>
            </a:r>
            <a:endParaRPr b="0" lang="en-US" sz="2900" spc="-1" strike="noStrike">
              <a:solidFill>
                <a:srgbClr val="ffffff"/>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fth Outline Level</a:t>
            </a:r>
            <a:endParaRPr b="0" lang="en-US" sz="2900" spc="-1" strike="noStrike">
              <a:solidFill>
                <a:srgbClr val="ffffff"/>
              </a:solidFill>
              <a:latin typeface="Arial"/>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ixth Outline Level</a:t>
            </a:r>
            <a:endParaRPr b="0" lang="en-US" sz="2900" spc="-1" strike="noStrike">
              <a:solidFill>
                <a:srgbClr val="ffffff"/>
              </a:solidFill>
              <a:latin typeface="Arial"/>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eventh Outline Level</a:t>
            </a:r>
            <a:endParaRPr b="0" lang="en-US" sz="2900" spc="-1" strike="noStrike">
              <a:solidFill>
                <a:srgbClr val="ffffff"/>
              </a:solidFill>
              <a:latin typeface="Arial"/>
            </a:endParaRPr>
          </a:p>
        </p:txBody>
      </p:sp>
      <p:sp>
        <p:nvSpPr>
          <p:cNvPr id="228" name="PlaceHolder 3"/>
          <p:cNvSpPr>
            <a:spLocks noGrp="1"/>
          </p:cNvSpPr>
          <p:nvPr>
            <p:ph type="dt" idx="10"/>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229" name="PlaceHolder 4"/>
          <p:cNvSpPr>
            <a:spLocks noGrp="1"/>
          </p:cNvSpPr>
          <p:nvPr>
            <p:ph type="ftr" idx="11"/>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12"/>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d6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FF0D-2A84-4792-8D09-C6455E7F669A}" type="slidenum">
              <a:rPr b="1" lang="fr-FR" sz="1400" spc="-1" strike="noStrike">
                <a:solidFill>
                  <a:srgbClr val="d6ec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7"/>
          <p:cNvSpPr/>
          <p:nvPr/>
        </p:nvSpPr>
        <p:spPr>
          <a:xfrm>
            <a:off x="0" y="1600200"/>
            <a:ext cx="1295280" cy="99072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8"/>
          <p:cNvSpPr/>
          <p:nvPr/>
        </p:nvSpPr>
        <p:spPr>
          <a:xfrm>
            <a:off x="1371600" y="1600200"/>
            <a:ext cx="7772400" cy="99072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27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72"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273" name="PlaceHolder 4"/>
          <p:cNvSpPr>
            <a:spLocks noGrp="1"/>
          </p:cNvSpPr>
          <p:nvPr>
            <p:ph type="sldNum" idx="14"/>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CB94-F9FD-4F68-A1AD-8562CA1B6EB1}" type="slidenum">
              <a:rPr b="1" lang="fr-F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74"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7"/>
          <p:cNvSpPr/>
          <p:nvPr/>
        </p:nvSpPr>
        <p:spPr>
          <a:xfrm>
            <a:off x="0" y="1279440"/>
            <a:ext cx="533520" cy="2286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
          <p:cNvSpPr/>
          <p:nvPr/>
        </p:nvSpPr>
        <p:spPr>
          <a:xfrm>
            <a:off x="590400" y="1279440"/>
            <a:ext cx="8553600" cy="2286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31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16"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52E1-10BD-4025-8D65-CFA26532F572}"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8"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35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57"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358"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4e5b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4697-EBC4-4671-9BAB-8B160B9641A7}" type="slidenum">
              <a:rPr b="1" lang="fr-FR"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6"/>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7"/>
          <p:cNvSpPr/>
          <p:nvPr/>
        </p:nvSpPr>
        <p:spPr>
          <a:xfrm>
            <a:off x="-9360" y="4664160"/>
            <a:ext cx="1463400" cy="712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8"/>
          <p:cNvSpPr/>
          <p:nvPr/>
        </p:nvSpPr>
        <p:spPr>
          <a:xfrm>
            <a:off x="1544760" y="4654440"/>
            <a:ext cx="7599240" cy="712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9"/>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40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02" name="PlaceHolder 3"/>
          <p:cNvSpPr>
            <a:spLocks noGrp="1"/>
          </p:cNvSpPr>
          <p:nvPr>
            <p:ph type="dt" idx="22"/>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403" name="PlaceHolder 4"/>
          <p:cNvSpPr>
            <a:spLocks noGrp="1"/>
          </p:cNvSpPr>
          <p:nvPr>
            <p:ph type="sldNum" idx="23"/>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697F-9A8F-4AEF-A13F-B3C54CDE5CD9}" type="slidenum">
              <a:rPr b="1" lang="fr-F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04" name="PlaceHolder 5"/>
          <p:cNvSpPr>
            <a:spLocks noGrp="1"/>
          </p:cNvSpPr>
          <p:nvPr>
            <p:ph type="ftr" idx="24"/>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ubTitle"/>
          </p:nvPr>
        </p:nvSpPr>
        <p:spPr>
          <a:xfrm>
            <a:off x="2362320" y="6049440"/>
            <a:ext cx="6705360" cy="685800"/>
          </a:xfrm>
          <a:prstGeom prst="rect">
            <a:avLst/>
          </a:prstGeom>
          <a:noFill/>
          <a:ln w="0">
            <a:noFill/>
          </a:ln>
        </p:spPr>
        <p: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w Cen MT"/>
              </a:rPr>
              <a:t>&lt;&lt;&lt; Sara EL ATTAR &lt;&lt;&lt;</a:t>
            </a:r>
            <a:endParaRPr b="0" lang="en-US" sz="2600" spc="-1" strike="noStrike">
              <a:solidFill>
                <a:srgbClr val="ffffff"/>
              </a:solidFill>
              <a:latin typeface="Arial"/>
            </a:endParaRPr>
          </a:p>
        </p:txBody>
      </p:sp>
      <p:sp>
        <p:nvSpPr>
          <p:cNvPr id="449" name="WordArt 5"/>
          <p:cNvSpPr txBox="1"/>
          <p:nvPr/>
        </p:nvSpPr>
        <p:spPr>
          <a:xfrm>
            <a:off x="1116000" y="1916280"/>
            <a:ext cx="7056360" cy="183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XPOSÉ SUR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 CHANGEMENT CLIMATIQU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onclusion</a:t>
            </a:r>
            <a:endParaRPr b="1" lang="en-US" sz="3900" spc="-1" strike="noStrike">
              <a:solidFill>
                <a:srgbClr val="330066"/>
              </a:solidFill>
              <a:latin typeface="Arial"/>
            </a:endParaRPr>
          </a:p>
        </p:txBody>
      </p:sp>
      <p:sp>
        <p:nvSpPr>
          <p:cNvPr id="467" name=""/>
          <p:cNvSpPr txBox="1"/>
          <p:nvPr/>
        </p:nvSpPr>
        <p:spPr>
          <a:xfrm>
            <a:off x="468360" y="2349000"/>
            <a:ext cx="8229600" cy="2357640"/>
          </a:xfrm>
          <a:prstGeom prst="rect">
            <a:avLst/>
          </a:prstGeom>
          <a:noFill/>
          <a:ln w="0">
            <a:noFill/>
          </a:ln>
        </p:spPr>
        <p:txBody>
          <a:bodyPr anchor="t">
            <a:normAutofit/>
          </a:bodyPr>
          <a:p>
            <a:pPr marL="343080" indent="12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Arial"/>
              </a:rPr>
              <a:t>Changeons notre comportement face à l’environne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4e5b6f"/>
              </a:solidFill>
              <a:latin typeface="Arial"/>
            </a:endParaRPr>
          </a:p>
        </p:txBody>
      </p:sp>
      <p:sp>
        <p:nvSpPr>
          <p:cNvPr id="451"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plan</a:t>
            </a:r>
            <a:endParaRPr b="1" lang="en-US" sz="3900" spc="-1" strike="noStrike">
              <a:solidFill>
                <a:srgbClr val="330066"/>
              </a:solidFill>
              <a:latin typeface="Arial"/>
            </a:endParaRPr>
          </a:p>
        </p:txBody>
      </p:sp>
      <p:sp>
        <p:nvSpPr>
          <p:cNvPr id="453" name=""/>
          <p:cNvSpPr txBox="1"/>
          <p:nvPr/>
        </p:nvSpPr>
        <p:spPr>
          <a:xfrm>
            <a:off x="457200" y="1719000"/>
            <a:ext cx="8229600" cy="438156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ntroduction</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finition du changements climatique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hangements climatiques dus à l ’Homm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conséquences des changements climatique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différents accords</a:t>
            </a:r>
            <a:endParaRPr b="0" lang="en-US" sz="28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s effets du serres</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a conclus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Introduction</a:t>
            </a:r>
            <a:endParaRPr b="1" lang="en-US" sz="3900" spc="-1" strike="noStrike">
              <a:solidFill>
                <a:srgbClr val="330066"/>
              </a:solidFill>
              <a:latin typeface="Arial"/>
            </a:endParaRPr>
          </a:p>
        </p:txBody>
      </p:sp>
      <p:sp>
        <p:nvSpPr>
          <p:cNvPr id="455" name=""/>
          <p:cNvSpPr txBox="1"/>
          <p:nvPr/>
        </p:nvSpPr>
        <p:spPr>
          <a:xfrm>
            <a:off x="457200" y="1719000"/>
            <a:ext cx="8229600" cy="438156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 monde est de plus en plus menacé par les catastrophes naturelles ,ces phénomènes sont dues en général par l’activité humaines qui contribue en grande partie au changements cli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Définition du changement climatique</a:t>
            </a:r>
            <a:endParaRPr b="1" lang="en-US" sz="3900" spc="-1" strike="noStrike">
              <a:solidFill>
                <a:srgbClr val="330066"/>
              </a:solidFill>
              <a:latin typeface="Arial"/>
            </a:endParaRPr>
          </a:p>
        </p:txBody>
      </p:sp>
      <p:sp>
        <p:nvSpPr>
          <p:cNvPr id="457" name=""/>
          <p:cNvSpPr txBox="1"/>
          <p:nvPr/>
        </p:nvSpPr>
        <p:spPr>
          <a:xfrm>
            <a:off x="457200" y="1719000"/>
            <a:ext cx="8229600" cy="438156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Un </a:t>
            </a:r>
            <a:r>
              <a:rPr b="1" lang="fr-FR" sz="2900" spc="-1" strike="noStrike">
                <a:solidFill>
                  <a:srgbClr val="000000"/>
                </a:solidFill>
                <a:latin typeface="Arial"/>
              </a:rPr>
              <a:t>changement climatique</a:t>
            </a:r>
            <a:r>
              <a:rPr b="0" lang="fr-FR" sz="2900" spc="-1" strike="noStrike">
                <a:solidFill>
                  <a:srgbClr val="000000"/>
                </a:solidFill>
                <a:latin typeface="Arial"/>
              </a:rPr>
              <a:t> correspond à une modification durable (de la décennie au million d'années) des paramètres statistiques (paramètres moyens, variabilité) du climat global de la Terre ou de ses divers climats régionaux. Ces changements peuvent être dus à des processus intrinsèques à la </a:t>
            </a:r>
            <a:r>
              <a:rPr b="1" lang="fr-FR" sz="2900" spc="-1" strike="noStrike" u="sng">
                <a:solidFill>
                  <a:srgbClr val="000000"/>
                </a:solidFill>
                <a:uFillTx/>
                <a:latin typeface="Arial"/>
              </a:rPr>
              <a:t>Terre</a:t>
            </a:r>
            <a:r>
              <a:rPr b="1" lang="fr-FR" sz="2900" spc="-1" strike="noStrike">
                <a:solidFill>
                  <a:srgbClr val="000000"/>
                </a:solidFill>
                <a:latin typeface="Arial"/>
              </a:rPr>
              <a:t>,</a:t>
            </a:r>
            <a:r>
              <a:rPr b="0" lang="fr-FR" sz="2900" spc="-1" strike="noStrike">
                <a:solidFill>
                  <a:srgbClr val="000000"/>
                </a:solidFill>
                <a:latin typeface="Arial"/>
              </a:rPr>
              <a:t> à des influences extérieures  ou, plus récemment, aux activités humaine</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hangements climatiques dus a l’Homme</a:t>
            </a:r>
            <a:endParaRPr b="1" lang="en-US" sz="3900" spc="-1" strike="noStrike">
              <a:solidFill>
                <a:srgbClr val="330066"/>
              </a:solidFill>
              <a:latin typeface="Arial"/>
            </a:endParaRPr>
          </a:p>
        </p:txBody>
      </p:sp>
      <p:sp>
        <p:nvSpPr>
          <p:cNvPr id="459" name=""/>
          <p:cNvSpPr txBox="1"/>
          <p:nvPr/>
        </p:nvSpPr>
        <p:spPr>
          <a:xfrm>
            <a:off x="457200" y="1719000"/>
            <a:ext cx="8229600" cy="4381560"/>
          </a:xfrm>
          <a:prstGeom prst="rect">
            <a:avLst/>
          </a:prstGeom>
          <a:solidFill>
            <a:srgbClr val="ffffff"/>
          </a:solid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s changements sont dus à l'industrialisation de la planète et à l'utilisation massive d'</a:t>
            </a:r>
            <a:r>
              <a:rPr b="0" lang="fr-FR" sz="2800" spc="-1" strike="noStrike" u="sng">
                <a:solidFill>
                  <a:srgbClr val="000000"/>
                </a:solidFill>
                <a:uFillTx/>
                <a:latin typeface="Arial"/>
              </a:rPr>
              <a:t>énergies fossiles</a:t>
            </a:r>
            <a:r>
              <a:rPr b="0" lang="fr-FR" sz="2800" spc="-1" strike="noStrike">
                <a:solidFill>
                  <a:srgbClr val="000000"/>
                </a:solidFill>
                <a:latin typeface="Arial"/>
              </a:rPr>
              <a:t> Alors que les changements climatiques naturels se font sur de très longues périodes, ce qui implique une certaine adaptation des </a:t>
            </a:r>
            <a:r>
              <a:rPr b="0" lang="fr-FR" sz="2800" spc="-1" strike="noStrike" u="sng">
                <a:solidFill>
                  <a:srgbClr val="000000"/>
                </a:solidFill>
                <a:uFillTx/>
                <a:latin typeface="Arial"/>
              </a:rPr>
              <a:t>espèces</a:t>
            </a:r>
            <a:r>
              <a:rPr b="0" lang="fr-FR" sz="2800" spc="-1" strike="noStrike">
                <a:solidFill>
                  <a:srgbClr val="000000"/>
                </a:solidFill>
                <a:latin typeface="Arial"/>
              </a:rPr>
              <a:t> animales et végé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Les conséquences du changement climatique</a:t>
            </a:r>
            <a:endParaRPr b="1" lang="en-US" sz="3900" spc="-1" strike="noStrike">
              <a:solidFill>
                <a:srgbClr val="330066"/>
              </a:solidFill>
              <a:latin typeface="Arial"/>
            </a:endParaRPr>
          </a:p>
        </p:txBody>
      </p:sp>
      <p:sp>
        <p:nvSpPr>
          <p:cNvPr id="461" name=""/>
          <p:cNvSpPr txBox="1"/>
          <p:nvPr/>
        </p:nvSpPr>
        <p:spPr>
          <a:xfrm>
            <a:off x="457200" y="1719000"/>
            <a:ext cx="8229600" cy="43815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e réchauffement climatique devrait produire d'autres changements :</a:t>
            </a:r>
            <a:br>
              <a:rPr sz="2200"/>
            </a:br>
            <a:r>
              <a:rPr b="0" lang="fr-FR" sz="2200" spc="-1" strike="noStrike">
                <a:solidFill>
                  <a:srgbClr val="000000"/>
                </a:solidFill>
                <a:latin typeface="Arial"/>
              </a:rPr>
              <a:t>– retrait des glaciers,</a:t>
            </a:r>
            <a:br>
              <a:rPr sz="2200"/>
            </a:br>
            <a:r>
              <a:rPr b="0" lang="fr-FR" sz="2200" spc="-1" strike="noStrike">
                <a:solidFill>
                  <a:srgbClr val="000000"/>
                </a:solidFill>
                <a:latin typeface="Arial"/>
              </a:rPr>
              <a:t>– élévation du niveau moyen des océans,</a:t>
            </a:r>
            <a:br>
              <a:rPr sz="2200"/>
            </a:br>
            <a:r>
              <a:rPr b="0" lang="fr-FR" sz="2200" spc="-1" strike="noStrike">
                <a:solidFill>
                  <a:srgbClr val="000000"/>
                </a:solidFill>
                <a:latin typeface="Arial"/>
              </a:rPr>
              <a:t>– modification des régimes de précipitations pouvant entraîner inondations et sécheresses,</a:t>
            </a:r>
            <a:br>
              <a:rPr sz="2200"/>
            </a:br>
            <a:r>
              <a:rPr b="0" lang="fr-FR" sz="2200" spc="-1" strike="noStrike">
                <a:solidFill>
                  <a:srgbClr val="000000"/>
                </a:solidFill>
                <a:latin typeface="Arial"/>
              </a:rPr>
              <a:t>– augmentation de la fréquence et de l'intensité des événements climatiques extrêmes comme les ouragans ou les cyclones,</a:t>
            </a:r>
            <a:br>
              <a:rPr sz="2200"/>
            </a:b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     </a:t>
            </a:r>
            <a:r>
              <a:rPr b="0" lang="fr-FR" sz="2200" spc="-1" strike="noStrike">
                <a:solidFill>
                  <a:srgbClr val="000000"/>
                </a:solidFill>
                <a:latin typeface="Arial"/>
              </a:rPr>
              <a:t>Une part de ces changements a déjà commencé et peut être reliée au réchauffement climatique. C'est en particulier le cas de la fonte des glaciers</a:t>
            </a:r>
            <a:r>
              <a:rPr b="0" i="1" lang="fr-FR"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Les différents accords et protocoles</a:t>
            </a:r>
            <a:endParaRPr b="1" lang="en-US" sz="3900" spc="-1" strike="noStrike">
              <a:solidFill>
                <a:srgbClr val="330066"/>
              </a:solidFill>
              <a:latin typeface="Arial"/>
            </a:endParaRPr>
          </a:p>
        </p:txBody>
      </p:sp>
      <p:sp>
        <p:nvSpPr>
          <p:cNvPr id="463" name=""/>
          <p:cNvSpPr txBox="1"/>
          <p:nvPr/>
        </p:nvSpPr>
        <p:spPr>
          <a:xfrm>
            <a:off x="457200" y="1719000"/>
            <a:ext cx="8229600" cy="438156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 protocoles de Kyoto</a:t>
            </a: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s accords de Copenhagu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Les gaz à effets de serre</a:t>
            </a:r>
            <a:endParaRPr b="1" lang="en-US" sz="3900" spc="-1" strike="noStrike">
              <a:solidFill>
                <a:srgbClr val="330066"/>
              </a:solidFill>
              <a:latin typeface="Arial"/>
            </a:endParaRPr>
          </a:p>
        </p:txBody>
      </p:sp>
      <p:sp>
        <p:nvSpPr>
          <p:cNvPr id="465" name=""/>
          <p:cNvSpPr txBox="1"/>
          <p:nvPr/>
        </p:nvSpPr>
        <p:spPr>
          <a:xfrm>
            <a:off x="457200" y="1719000"/>
            <a:ext cx="8229600" cy="438156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s </a:t>
            </a:r>
            <a:r>
              <a:rPr b="1" lang="fr-FR" sz="2900" spc="-1" strike="noStrike">
                <a:solidFill>
                  <a:srgbClr val="000000"/>
                </a:solidFill>
                <a:latin typeface="Arial"/>
              </a:rPr>
              <a:t>gaz à effet de serre</a:t>
            </a:r>
            <a:r>
              <a:rPr b="0" lang="fr-FR" sz="2900" spc="-1" strike="noStrike">
                <a:solidFill>
                  <a:srgbClr val="000000"/>
                </a:solidFill>
                <a:latin typeface="Arial"/>
              </a:rPr>
              <a:t> (GES) sont des composants gazeux qui absorbent le rayonnement infrarouge émis par la surface terrestre, contribuant à l'effet de serre. L'augmentation de leur concentration dans l'atmosphère terrestre est un des facteurs qui sont à l'origine du récent réchauffement climatiqu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54:45Z</dcterms:created>
  <dc:creator>Ivandro</dc:creator>
  <dc:description/>
  <dc:language>en-US</dc:language>
  <cp:lastModifiedBy>Mouad</cp:lastModifiedBy>
  <dcterms:modified xsi:type="dcterms:W3CDTF">2011-11-30T09:41:38Z</dcterms:modified>
  <cp:revision>55</cp:revision>
  <dc:subject/>
  <dc:title>Exposé sur le changement climatique</dc:title>
</cp:coreProperties>
</file>