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88F-4DD3-4566-A3D7-79C13507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4CB-0106-4E6E-8150-1BB79039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C0B-3DFC-4BEE-9E77-6B9CB6B8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91A-A995-4038-A1FC-92CCF242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226-0AEA-4B90-83F8-F7105D8C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584-CEAC-42CB-B690-41B67A2F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441-F1C7-43F2-82F6-659A5D36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1EC-2220-4C08-A4B4-941BED6F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EFE-7F5E-455A-A81E-6A55108C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51E-EAE5-4E27-86D7-F63F906A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955-16C6-4132-8820-A9999C32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938-B113-4C77-8AB1-AF596FC7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00F6-55A4-409B-B7E5-2F8521A360F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6:41:09Z</dcterms:modified>
  <cp:revision>24</cp:revision>
  <dc:subject/>
  <dc:title>슬라이드 1</dc:title>
</cp:coreProperties>
</file>