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1F2-F8E1-4BE1-B83C-D2DFD506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A95D-F015-447F-92CE-C5DC8DC1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2E43-3CD4-475E-A9A5-C543E198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2E3-6623-4812-863B-BED7B229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B907-1E5C-4382-B350-F420E52A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D713-E105-4198-8BAA-6D6A1A83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880-7EA0-45B2-806C-D0E2BEF3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DD3-07A5-4678-9A93-CB6A6464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45D-2A03-405A-8D4F-6DE208D3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2280-5162-419F-9E6A-EC809762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9492-95CA-4AFF-BDF7-0ABD5B26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FAE-80F3-4D8B-BDB4-DDD0701C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A248-F14A-4A22-A68B-46CE13B5F98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6:41:09Z</dcterms:modified>
  <cp:revision>24</cp:revision>
  <dc:subject/>
  <dc:title>슬라이드 1</dc:title>
</cp:coreProperties>
</file>