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05%20Piste%205.wav" ContentType="audio/x-wav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9039-5AFC-40CE-8C2D-8E1C0597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161-E84F-4186-86AD-53F9EFE0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8D1A-E6AA-4B5F-AF52-32B3D64E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A67A-7613-4B03-AA16-CE067C29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AB2-C379-40E2-A847-316DB338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01C9-2A49-49D7-87F3-80B3B3F3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72F0-9619-426D-8128-7EF72481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393C-7B1A-47E5-B2F7-18408EA5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D81-FD37-4B6D-B550-7C245250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0FCF-AAC6-4B21-9584-8DC4BEDE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65F3-E8ED-41D3-8588-7CC0C805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18DE-0EC6-47CE-98A4-8B488C45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FB80-052C-48A1-9014-BAE98DAEC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vettedefrance.com/" TargetMode="External"/><Relationship Id="rId3" Type="http://schemas.openxmlformats.org/officeDocument/2006/relationships/image" Target="../media/image2.jpeg"/><Relationship Id="rId4" Type="http://schemas.openxmlformats.org/officeDocument/2006/relationships/audio" Target="../media/05%20Piste%205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vettedefrance.com/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vettedefrance.com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vettedefrance.com/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vettedefrance.com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907920"/>
            <a:ext cx="3492360" cy="5185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932360" y="1197000"/>
            <a:ext cx="3311640" cy="23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uckingham"/>
              </a:rPr>
              <a:t>Barcelona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uckingham"/>
              <a:ea typeface="Buckingha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uckingham"/>
              </a:rPr>
              <a:t>España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uckingham"/>
              <a:ea typeface="Buckingham"/>
            </a:endParaRPr>
          </a:p>
        </p:txBody>
      </p:sp>
    </p:spTree>
  </p:cSld>
  <p:transition spd="med" advTm="9000">
    <p:comb dir="horz"/>
    <p:sndAc>
      <p:stSnd>
        <p:snd r:embed="rId4" name="05%20Piste%205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207280" cy="57387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207280" cy="5759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207280" cy="5759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207280" cy="5759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207280" cy="5759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207280" cy="5759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207280" cy="57560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207280" cy="5759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207280" cy="57308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207280" cy="5759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8353440" cy="5832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207280" cy="5759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549360"/>
            <a:ext cx="8207280" cy="5759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43280" y="620640"/>
            <a:ext cx="3802320" cy="5616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8360" y="549360"/>
            <a:ext cx="3543120" cy="5759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3600360" cy="5616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076720" y="692280"/>
            <a:ext cx="3368880" cy="5545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3816360" cy="561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826920" y="692280"/>
            <a:ext cx="3600720" cy="5616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3887640" cy="5545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4360" y="692280"/>
            <a:ext cx="3600360" cy="5545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3280" y="620640"/>
            <a:ext cx="3745080" cy="568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84360" y="620640"/>
            <a:ext cx="3600360" cy="56167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3743280" cy="5616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788000" y="620640"/>
            <a:ext cx="3711600" cy="568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16360" y="549360"/>
            <a:ext cx="3800520" cy="568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84360" y="549360"/>
            <a:ext cx="3671640" cy="568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476280"/>
            <a:ext cx="8353440" cy="58435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76280"/>
            <a:ext cx="8207280" cy="5823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8353440" cy="58341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07280" cy="5794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7628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07280" cy="5832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207280" cy="5759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21:31:51Z</dcterms:created>
  <dc:creator>Yvette Nico</dc:creator>
  <dc:description>droits réservés à Yvette de France</dc:description>
  <cp:keywords>1259/2010/yf56</cp:keywords>
  <dc:language>en-US</dc:language>
  <cp:lastModifiedBy>Dolores</cp:lastModifiedBy>
  <dcterms:modified xsi:type="dcterms:W3CDTF">2008-02-10T14:49:46Z</dcterms:modified>
  <cp:revision>1</cp:revision>
  <dc:subject>vacances</dc:subject>
  <dc:title>Barcelone Espag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ew Mexique">
    <vt:lpwstr>Photos De Pierre Pour Yvette</vt:lpwstr>
  </property>
  <property fmtid="{D5CDD505-2E9C-101B-9397-08002B2CF9AE}" pid="3" name="Valler du Rhin">
    <vt:lpwstr>Photos eva Lechner </vt:lpwstr>
  </property>
</Properties>
</file>