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05%20Piste%205.wav" ContentType="audio/x-wav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2DD2-4595-4225-A7D4-62BA4E5E2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BBEA-9427-4B16-B87A-B61FE9742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AECF-D207-47BE-B0DF-ECBA84C7F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61DB-8E6F-43C3-BF31-7B7E3F221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FA90-24D0-4306-945C-518947083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CED6-FBE7-4B87-A405-73BB9F5CD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4B99-19AF-4D5F-9BC6-73C367902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1F67-B3A7-4019-9BB2-E97107A3D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F6F9-6325-49F7-BC08-146946076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C78F-4EB7-44E7-A592-837C01F7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2D38-FDD2-401F-AEB9-BD2FF19D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0B23-78F8-42C6-B56B-9E60162DF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54D69-C260-4DBE-BBF1-55183C0E62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vettedefrance.com/" TargetMode="External"/><Relationship Id="rId3" Type="http://schemas.openxmlformats.org/officeDocument/2006/relationships/image" Target="../media/image2.jpeg"/><Relationship Id="rId4" Type="http://schemas.openxmlformats.org/officeDocument/2006/relationships/audio" Target="../media/05%20Piste%205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vettedefrance.com/" TargetMode="External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vettedefrance.com/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vettedefrance.com/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vettedefrance.com/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71640" y="907920"/>
            <a:ext cx="3492360" cy="5185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932360" y="1197000"/>
            <a:ext cx="3311640" cy="23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Buckingham"/>
              </a:rPr>
              <a:t>Barcelona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Buckingham"/>
              <a:ea typeface="Buckingha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Buckingham"/>
              </a:rPr>
              <a:t>España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Buckingham"/>
              <a:ea typeface="Buckingham"/>
            </a:endParaRPr>
          </a:p>
        </p:txBody>
      </p:sp>
    </p:spTree>
  </p:cSld>
  <p:transition spd="med" advTm="9000">
    <p:comb dir="horz"/>
    <p:sndAc>
      <p:stSnd>
        <p:snd r:embed="rId4" name="05%20Piste%205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68360" y="549360"/>
            <a:ext cx="8207280" cy="573876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68360" y="549360"/>
            <a:ext cx="8207280" cy="57592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68360" y="549360"/>
            <a:ext cx="8207280" cy="57592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68360" y="549360"/>
            <a:ext cx="8207280" cy="57592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68360" y="549360"/>
            <a:ext cx="8207280" cy="57592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68360" y="549360"/>
            <a:ext cx="8207280" cy="57592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68360" y="549360"/>
            <a:ext cx="8207280" cy="575604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68360" y="549360"/>
            <a:ext cx="8207280" cy="57592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comb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68360" y="549360"/>
            <a:ext cx="8207280" cy="573084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comb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68360" y="549360"/>
            <a:ext cx="8207280" cy="57592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95280" y="476280"/>
            <a:ext cx="8353440" cy="583236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comb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68360" y="549360"/>
            <a:ext cx="8207280" cy="57592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comb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549360"/>
            <a:ext cx="8207280" cy="57592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comb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643280" y="620640"/>
            <a:ext cx="3802320" cy="5616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468360" y="549360"/>
            <a:ext cx="3543120" cy="57592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comb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55640" y="692280"/>
            <a:ext cx="3600360" cy="5616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5076720" y="692280"/>
            <a:ext cx="3368880" cy="55450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comb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572000" y="692280"/>
            <a:ext cx="3816360" cy="5616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826920" y="692280"/>
            <a:ext cx="3600720" cy="561636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comb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572000" y="692280"/>
            <a:ext cx="3887640" cy="55450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684360" y="692280"/>
            <a:ext cx="3600360" cy="55450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comb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643280" y="620640"/>
            <a:ext cx="3745080" cy="5688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684360" y="620640"/>
            <a:ext cx="3600360" cy="561672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comb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84360" y="620640"/>
            <a:ext cx="3743280" cy="56167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4788000" y="620640"/>
            <a:ext cx="3711600" cy="568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comb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716360" y="549360"/>
            <a:ext cx="3800520" cy="5688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84360" y="549360"/>
            <a:ext cx="3671640" cy="568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476280"/>
            <a:ext cx="8353440" cy="584352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476280"/>
            <a:ext cx="8207280" cy="5823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95280" y="476280"/>
            <a:ext cx="8353440" cy="583416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8207280" cy="57942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476280"/>
            <a:ext cx="8280360" cy="583236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8207280" cy="583236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68360" y="549360"/>
            <a:ext cx="8207280" cy="57592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3T21:31:51Z</dcterms:created>
  <dc:creator>Yvette Nico</dc:creator>
  <dc:description>droits réservés à Yvette de France</dc:description>
  <cp:keywords>1259/2010/yf56</cp:keywords>
  <dc:language>en-US</dc:language>
  <cp:lastModifiedBy>Dolores</cp:lastModifiedBy>
  <dcterms:modified xsi:type="dcterms:W3CDTF">2008-02-10T14:49:46Z</dcterms:modified>
  <cp:revision>1</cp:revision>
  <dc:subject>vacances</dc:subject>
  <dc:title>Barcelone Espagn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ew Mexique">
    <vt:lpwstr>Photos De Pierre Pour Yvette</vt:lpwstr>
  </property>
  <property fmtid="{D5CDD505-2E9C-101B-9397-08002B2CF9AE}" pid="3" name="Valler du Rhin">
    <vt:lpwstr>Photos eva Lechner </vt:lpwstr>
  </property>
</Properties>
</file>