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B46-6EC9-4BF4-B9E5-63CBAD0D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DB1-6400-4484-B42E-6818D67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347-11C9-4909-973B-7297D788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385-AEBB-4502-B5D8-AC75981B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43A-1399-4289-B572-BD52C837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6082-2DA4-4DCF-9575-6E8DF87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B669-0CC0-4880-A1FE-A7AC7841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327D-B4F7-47F6-8DC1-13F0E76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ED47-240E-4F98-88DD-855D0074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06CB-EAE6-4EFC-9320-A7E32C6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FEFF-D563-49C9-8DCD-BEF185F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C0C-75BE-43BB-BE61-8A74960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EC2-6B17-41F3-B10B-8496899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27F8-FB0E-4675-9C86-020BC31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1B1D-4917-4A7B-A590-5405A4D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0735-71A3-4C36-847A-1407DF52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37C0-D80A-4083-AAF8-C1E4448E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6FE-A499-4F22-927A-F15B4FE4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E2D-8B2C-495D-ACF5-2C17FD2C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D46-72B0-4CEB-817F-748DF735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A10-0B8D-4559-B14B-A9BBE3B0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7EE-3D0A-4775-92A8-E3573D5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0A6-A6C5-43ED-87ED-52A4B44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D79-E107-4820-A8FC-AF2ADBD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FD5-79E4-428F-AA75-0A4138741F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41D6-DF77-4ACB-B9E3-2D8798405F5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Arial Black"/>
              </a:rPr>
              <a:t>MODELOS DE DESARROLL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y Procesos Af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El aprendizaje precede al desarroll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maduración prepara y posibilita el aprendizaje y el aprendizaje estimula y hace avanzar el proceso de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Una vez internalizado el lenguaje los desarrollo dependen de cuanto se incremente el aprendiz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pendencia e interactividad de los tres proc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El aprendizaje es desarroll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aprendizaje se da en la medida que el niño se desarrolla y vicever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odos los desarrollos están mediados por el aprendizaje, pero el desarrollo regula que se apre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delo contextual dialéc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Mecanicis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: sucesión de cambios, movimientos y acciones análogos a la máqu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+= ensayo y error [aprendizaje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ción generadora de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sión pragmática y positiv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xplicación y pre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pistemología realista y empi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ijou y Baer (1978) y Overton y Reese (19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Organicis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ujeto: organismos biológico, activo y autoorgan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rácter interno: inferencias ló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Énfasis en carácter estructural y dinámico. Mirada sisté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cuencia de estadios. Transi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pistemología racional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canismos de homeostasis y equilib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aldwin, Werner y Pia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omputacion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mulación eficaz de la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Énfasis en el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pistemología Funcional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delos de micro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como crecimiento de la mem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erry Fodor, Neopiagetianos: Robbie Case y Juan Pascual-Le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aja Neg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EC: inputs-outputs-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peraciona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: incremento de los aprendiz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stintas generaciones de conduct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prendizaje Social: Albert Band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ontextual sociocultur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ey de la doble 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dependiente de una cul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Zona de Desarrollo Próx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Énfasis en el desarrollo del lenguaje y del dis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ilosofía dialéctica marx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gotsky y la Tro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ontextual dialéct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: cambios culturales + cambios individu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versos factores explicativos: biológicos, sociales, culturales e histór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rácter multi causal y multidirec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altes (1987), Wallon, (1941), Riegel, (1974), Cole (1996), Rogoff (1982), Wertsch (1993), Bruner (200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b7"/>
                </a:solidFill>
                <a:latin typeface="Arial Black"/>
              </a:rPr>
              <a:t>Maduración, aprendizaje y desarrollo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El desarrollo precede el aprendiza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maduración es necesaria para aprender al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aprendizaje no influye en el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aduración= procesos biológ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aprendizaje no promueve ni acelera el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03:24Z</dcterms:created>
  <dc:creator>Milton Eduardo</dc:creator>
  <dc:description/>
  <dc:language>en-US</dc:language>
  <cp:lastModifiedBy>milton.bermudez</cp:lastModifiedBy>
  <dcterms:modified xsi:type="dcterms:W3CDTF">2011-01-19T13:57:10Z</dcterms:modified>
  <cp:revision>19</cp:revision>
  <dc:subject/>
  <dc:title>MODELOS DE DESARROLLO</dc:title>
</cp:coreProperties>
</file>