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0BF1-FEFC-4B5A-9C79-F5B0C8B8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132C-EB61-4888-BC9F-36C2A6EB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0BD1-7DCB-4410-BFBD-4BC7C628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5E63-AAAD-4D11-8E1F-9A356E5D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FCB0-7667-428E-ACE5-11B7E3CF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6AE4-90C3-4C76-8BC7-D2752745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3F66-CA0E-45C4-BC2C-25C7D300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71A5-D928-48C7-A913-A3478686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3617-05C5-44B6-B48E-439FF870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F6A4-05A0-436E-AD3C-4231CC55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5A04-9FBD-435F-9E13-FDA1A342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B705-08EF-4B3E-9B87-A543DB2B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4BB1-91F0-444E-8AFF-064C7AFC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EEFA-E642-4CA6-988C-F11541E3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D946-8213-4C26-9AE0-340B7D85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E105-3EA6-47A6-A7E8-9676F404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035D-A6FE-48DC-AE31-742AA47D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C776-CB0D-4EA8-A10E-0C5A4A7D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815-C19D-4864-AC09-2F0AC3FF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C2F6-4725-47B5-A6DC-E9A89858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EEF9-BB7C-4045-BD66-CA4596E9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6645-ADED-418B-9FB1-72095C0D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0C3-7FA5-4F7E-9CE5-7904AFCC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B521-F084-4CC0-88E7-E8D63C7C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EA75-E646-4C1A-B535-4B0CBFF05FC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87C3-67C9-4BA7-A395-854042D55E0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b7"/>
                </a:solidFill>
                <a:latin typeface="Arial Black"/>
              </a:rPr>
              <a:t>MODELOS DE DESARROLLO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sarrollo y Procesos Afe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b7"/>
                </a:solidFill>
                <a:latin typeface="Arial Black"/>
              </a:rPr>
              <a:t>El aprendizaje precede al desarroll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a maduración prepara y posibilita el aprendizaje y el aprendizaje estimula y hace avanzar el proceso de desarroll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Una vez internalizado el lenguaje los desarrollo dependen de cuanto se incremente el aprendiza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pendencia e interactividad de los tres proces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b7"/>
                </a:solidFill>
                <a:latin typeface="Arial Black"/>
              </a:rPr>
              <a:t>El aprendizaje es desarroll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aprendizaje se da en la medida que el niño se desarrolla y vicever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odos los desarrollos están mediados por el aprendizaje, pero el desarrollo regula que se apren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odelo contextual dialéct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b7"/>
                </a:solidFill>
                <a:latin typeface="Arial Black"/>
              </a:rPr>
              <a:t>Modelo Mecanicis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sarrollo: sucesión de cambios, movimientos y acciones análogos a la máqu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+= ensayo y error [aprendizaje]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cción generadora de desarroll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Visión pragmática y positiv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xplicación y predi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pistemología realista y empir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Bijou y Baer (1978) y Overton y Reese (197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b7"/>
                </a:solidFill>
                <a:latin typeface="Arial Black"/>
              </a:rPr>
              <a:t>Modelo Organicis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ujeto: organismos biológico, activo y autoorganiz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arácter interno: inferencias lóg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Énfasis en carácter estructural y dinámico. Mirada sistém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ecuencia de estadios. Transi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pistemología racionalis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ecanismos de homeostasis y equilibr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Baldwin, Werner y Pia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b7"/>
                </a:solidFill>
                <a:latin typeface="Arial Black"/>
              </a:rPr>
              <a:t>Modelo Computacion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imulación eficaz de las fun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Énfasis en el softw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pistemología Funcionalis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odelos de micro desarroll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sarrollo como crecimiento de la mem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Jerry Fodor, Neopiagetianos: Robbie Case y Juan Pascual-Le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b7"/>
                </a:solidFill>
                <a:latin typeface="Arial Black"/>
              </a:rPr>
              <a:t>Modelo Caja Neg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EC: inputs-outputs-feedba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peracionalis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sarrollo: incremento de los aprendizaj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istintas generaciones de conducti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prendizaje Social: Albert Band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b7"/>
                </a:solidFill>
                <a:latin typeface="Arial Black"/>
              </a:rPr>
              <a:t>Modelo contextual sociocultur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ey de la doble form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sarrollo dependiente de una cultu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Zona de Desarrollo Próx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Énfasis en el desarrollo del lenguaje y del discur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Filosofía dialéctica marxis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Vigotsky y la Tro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b7"/>
                </a:solidFill>
                <a:latin typeface="Arial Black"/>
              </a:rPr>
              <a:t>Modelo contextual dialéctic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sarrollo: cambios culturales + cambios individu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iversos factores explicativos: biológicos, sociales, culturales e histór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arácter multi causal y multidirecc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Baltes (1987), Wallon, (1941), Riegel, (1974), Cole (1996), Rogoff (1982), Wertsch (1993), Bruner (200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b7"/>
                </a:solidFill>
                <a:latin typeface="Arial Black"/>
              </a:rPr>
              <a:t>Maduración, aprendizaje y desarrollo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b7"/>
                </a:solidFill>
                <a:latin typeface="Arial Black"/>
              </a:rPr>
              <a:t>El desarrollo precede el aprendizaj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a maduración es necesaria para aprender al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aprendizaje no influye en el desarroll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aduración= procesos biológ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aprendizaje no promueve ni acelera el desarroll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4:03:24Z</dcterms:created>
  <dc:creator>Milton Eduardo</dc:creator>
  <dc:description/>
  <dc:language>en-US</dc:language>
  <cp:lastModifiedBy>milton.bermudez</cp:lastModifiedBy>
  <dcterms:modified xsi:type="dcterms:W3CDTF">2011-01-19T13:57:10Z</dcterms:modified>
  <cp:revision>19</cp:revision>
  <dc:subject/>
  <dc:title>MODELOS DE DESARROLLO</dc:title>
</cp:coreProperties>
</file>