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C9F-7DAB-4AFB-AFBE-0A372232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A62-2195-4C90-8C0B-964333DC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563-E7EB-434D-BE26-DD95203C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A58-54F8-4712-8A9C-CE486D43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69D-DF92-43CC-A82B-BFFA8D91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554-4F98-4736-B895-69EFDFFA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CF0-7D65-4AB0-ADC8-CCD5820B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56F-C4E7-40F9-8659-3DB91E6F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8D18-49E1-48F0-82AB-0E6F06CB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1A0-E64C-4587-AEC8-505ABD3D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AE5-628B-46C1-AD89-C37637F6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996-82FA-4BD5-AF5E-C7778097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AC12-ABF7-4B9B-A386-12E34AE6EF6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t.wikipedia.org/wiki/Marmellata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042920" y="631080"/>
            <a:ext cx="748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arete cellulare è una formazione esterna alla mem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ulare delle cellule vegetali, prodotta dalla cellula ste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È costituita da più strati ed è dotata di notevole rigid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Antonella\Desktop\Senza titolo-1.jpg"/>
          <p:cNvPicPr/>
          <p:nvPr/>
        </p:nvPicPr>
        <p:blipFill>
          <a:blip r:embed="rId1"/>
          <a:srcRect l="1012" t="2878" r="0" b="0"/>
          <a:stretch/>
        </p:blipFill>
        <p:spPr>
          <a:xfrm>
            <a:off x="1763640" y="2781360"/>
            <a:ext cx="5459400" cy="3778200"/>
          </a:xfrm>
          <a:prstGeom prst="rect">
            <a:avLst/>
          </a:prstGeom>
          <a:ln w="0">
            <a:noFill/>
          </a:ln>
        </p:spPr>
      </p:pic>
      <p:sp>
        <p:nvSpPr>
          <p:cNvPr id="43" name="CasellaDiTesto 3"/>
          <p:cNvSpPr/>
          <p:nvPr/>
        </p:nvSpPr>
        <p:spPr>
          <a:xfrm>
            <a:off x="1908000" y="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A PARETE CELLU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Antonella\Desktop\parete pri.jpg"/>
          <p:cNvPicPr/>
          <p:nvPr/>
        </p:nvPicPr>
        <p:blipFill>
          <a:blip r:embed="rId1"/>
          <a:srcRect l="0" t="0" r="26782" b="0"/>
          <a:stretch/>
        </p:blipFill>
        <p:spPr>
          <a:xfrm>
            <a:off x="3022560" y="1125360"/>
            <a:ext cx="6121440" cy="5423040"/>
          </a:xfrm>
          <a:prstGeom prst="rect">
            <a:avLst/>
          </a:prstGeom>
          <a:ln w="0">
            <a:noFill/>
          </a:ln>
        </p:spPr>
      </p:pic>
      <p:cxnSp>
        <p:nvCxnSpPr>
          <p:cNvPr id="82" name="Connettore 2 6"/>
          <p:cNvCxnSpPr/>
          <p:nvPr/>
        </p:nvCxnSpPr>
        <p:spPr>
          <a:xfrm flipH="1">
            <a:off x="6428880" y="3642120"/>
            <a:ext cx="858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CasellaDiTesto 7"/>
          <p:cNvSpPr/>
          <p:nvPr/>
        </p:nvSpPr>
        <p:spPr>
          <a:xfrm>
            <a:off x="250920" y="0"/>
            <a:ext cx="8893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La parete seco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alcune cellule, terminata la deposizione della parete primaria ,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ll’interno di ess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iziano a formarsi  nuovi strati di parete  che nell’insieme costituiscono la parete second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sellaDiTesto 8"/>
          <p:cNvSpPr/>
          <p:nvPr/>
        </p:nvSpPr>
        <p:spPr>
          <a:xfrm>
            <a:off x="179280" y="155736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o spessore può essere molto elevato ( 3-5 micron ) tanto che il lume cellulare è  così ridotto che la cellula muor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9"/>
          <p:cNvSpPr/>
          <p:nvPr/>
        </p:nvSpPr>
        <p:spPr>
          <a:xfrm>
            <a:off x="179280" y="2997360"/>
            <a:ext cx="306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macrofibrille di uno strato sono disposte parallelamente tra di loro mentre  formano con quelle dello strato adiacente un angolo di 90°. Questo conferisce enorme resistenza della parete in tutte le direzioni. La parete secondaria per l’assenza di altre componenti presenti nella primaria  ( come le pectine ) è molto più rigida e inestensib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M-5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07000"/>
          </a:xfrm>
          <a:prstGeom prst="rect">
            <a:avLst/>
          </a:prstGeom>
          <a:ln w="0">
            <a:noFill/>
          </a:ln>
        </p:spPr>
      </p:pic>
      <p:sp>
        <p:nvSpPr>
          <p:cNvPr id="87" name="CasellaDiTesto 2"/>
          <p:cNvSpPr/>
          <p:nvPr/>
        </p:nvSpPr>
        <p:spPr>
          <a:xfrm>
            <a:off x="468360" y="476280"/>
            <a:ext cx="82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dificazioni particolari della par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IG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erte cellule come quelle dei vasi del tessuto conduttore o le cellule dei tessuti meccanici di sostegno hanno le pareti impregnate di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lign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un complesso polimero che rende estremamente rigide le pareti stess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CasellaDiTesto 2"/>
          <p:cNvSpPr/>
          <p:nvPr/>
        </p:nvSpPr>
        <p:spPr>
          <a:xfrm>
            <a:off x="684360" y="26028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UTI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cellule epidermiche hanno le pareti rivolte all’esterno impregnate di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cut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una sostanza di natura lipidica che  impermeabilizza la superficie riducendo la perdita d’acqua per evapora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cutina ricopre la superficie esterna formando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cuticol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he è tanto più spessa quanto più è arido il clima in cui la pianta è adatt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http://t1.gstatic.com/images?q=tbn:ANd9GcRWLYD7S6zl1nAN8EGP24SPib93M89nxPS1c1-29-dTEOrg_BVHNmHS8Sg4BA"/>
          <p:cNvPicPr/>
          <p:nvPr/>
        </p:nvPicPr>
        <p:blipFill>
          <a:blip r:embed="rId1"/>
          <a:stretch/>
        </p:blipFill>
        <p:spPr>
          <a:xfrm>
            <a:off x="1116000" y="2637000"/>
            <a:ext cx="633564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asellaDiTesto 1"/>
          <p:cNvSpPr/>
          <p:nvPr/>
        </p:nvSpPr>
        <p:spPr>
          <a:xfrm>
            <a:off x="684360" y="62064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cutina può essere associata a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er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e rendono ancor più impermeabile la superfi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www.istitutosangiovannibosco.net/cennini_donbosco/e-learning/percorsi%20di%20scienze/alimentazione/immagini_alimentazione/pruina.jpg"/>
          <p:cNvPicPr/>
          <p:nvPr/>
        </p:nvPicPr>
        <p:blipFill>
          <a:blip r:embed="rId1"/>
          <a:stretch/>
        </p:blipFill>
        <p:spPr>
          <a:xfrm>
            <a:off x="684360" y="1628640"/>
            <a:ext cx="3379680" cy="295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2.bp.blogspot.com/_3smkUSko2Ds/Sxeqek729iI/AAAAAAAAA-8/bZAJygm1d40/s320/Mela+annurca.jpg"/>
          <p:cNvPicPr/>
          <p:nvPr/>
        </p:nvPicPr>
        <p:blipFill>
          <a:blip r:embed="rId2"/>
          <a:stretch/>
        </p:blipFill>
        <p:spPr>
          <a:xfrm>
            <a:off x="5003640" y="1413000"/>
            <a:ext cx="3360960" cy="252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bidorbuy.co.za/user_images/651/390651_Aloe_brevifolia2.jpg"/>
          <p:cNvPicPr/>
          <p:nvPr/>
        </p:nvPicPr>
        <p:blipFill>
          <a:blip r:embed="rId3"/>
          <a:stretch/>
        </p:blipFill>
        <p:spPr>
          <a:xfrm>
            <a:off x="2987640" y="3860640"/>
            <a:ext cx="374508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sellaDiTesto 1"/>
          <p:cNvSpPr/>
          <p:nvPr/>
        </p:nvSpPr>
        <p:spPr>
          <a:xfrm>
            <a:off x="82692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UBER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2"/>
          <p:cNvSpPr/>
          <p:nvPr/>
        </p:nvSpPr>
        <p:spPr>
          <a:xfrm>
            <a:off x="539640" y="1052640"/>
            <a:ext cx="81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cellule dei tessuti di rivestimento del fusto e della radice possono avere le pareti impregnat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uber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una sostanza che impermeabilizza le cellul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no spesso strato di suberina determina la morte della cellula perché vengono impediti gli scambi di materiali tra interno e esterno della cellula, ma resta la parete che protegge i tessuti sottostanti ( sughero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:\Documenti\Scansioni personali\2007-03 (mar)\scansione0013.jpg"/>
          <p:cNvPicPr/>
          <p:nvPr/>
        </p:nvPicPr>
        <p:blipFill>
          <a:blip r:embed="rId1"/>
          <a:stretch/>
        </p:blipFill>
        <p:spPr>
          <a:xfrm>
            <a:off x="1349280" y="3141720"/>
            <a:ext cx="5526360" cy="3483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tangolo 3"/>
          <p:cNvSpPr/>
          <p:nvPr/>
        </p:nvSpPr>
        <p:spPr>
          <a:xfrm>
            <a:off x="1116000" y="1484280"/>
            <a:ext cx="698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)  permette alla cellula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cquisire una forma defini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 protegge da danni ed infezioni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ausati dall’attacco di  batteri e funghi   patogen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3)  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regola e limita la quantità d’acqua che la cellula può assumer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ll’ambiente esterno e le impedisce quindi di scoppiare in ambienti con basse concentrazioni saline ( ipotonic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4)   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ornisce resistenza e protezione alla cellul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per il suo carattere di scatola rigi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5) 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terviene attivamente in molti processi fisiologic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es. assorbimento, diffusione e trasporto d’acqua, traspirazione, e riconoscimento tra cellule 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sellaDiTesto 4"/>
          <p:cNvSpPr/>
          <p:nvPr/>
        </p:nvSpPr>
        <p:spPr>
          <a:xfrm>
            <a:off x="1042920" y="765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FUNZIONI DELLA PA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95280" y="17892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parete si forma durante le fasi finali della divisione cellulare ( mitosi ) con la formazione di un setto di separazione delle due cellule figlie, chiama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MELLA MEDI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o l’interno, ciascuna cellula formerà successivamente un deposito di varie sostanze che viene chiama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ETE PRIM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 la cellula ha terminato il proprio accrescimento e si differenzia, si può depositar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l’interno della parete prim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n altro strato più spesso e robusto che forma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ETE SECOND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63640" y="3467160"/>
            <a:ext cx="59594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image036"/>
          <p:cNvPicPr/>
          <p:nvPr/>
        </p:nvPicPr>
        <p:blipFill>
          <a:blip r:embed="rId1"/>
          <a:stretch/>
        </p:blipFill>
        <p:spPr>
          <a:xfrm>
            <a:off x="1476360" y="404640"/>
            <a:ext cx="4437000" cy="609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946800" y="1144440"/>
            <a:ext cx="131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itoplasm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13280" y="3213000"/>
            <a:ext cx="104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im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198680" y="404640"/>
            <a:ext cx="2308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embrana plas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225680" y="765000"/>
            <a:ext cx="340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rete secondaria pluristratific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182120" y="1197000"/>
            <a:ext cx="1796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mella me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135400" y="3357720"/>
            <a:ext cx="2308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embrana plas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984920" y="5753160"/>
            <a:ext cx="282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ssitura fibrille di cel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rete seco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1644120" y="6093000"/>
            <a:ext cx="1718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rete prim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1238760" y="5373720"/>
            <a:ext cx="10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m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e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1187280" y="620640"/>
            <a:ext cx="1368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asellaDiTesto 12"/>
          <p:cNvSpPr/>
          <p:nvPr/>
        </p:nvSpPr>
        <p:spPr>
          <a:xfrm>
            <a:off x="250920" y="189000"/>
            <a:ext cx="8353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mella me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lamella mediana si origina alla fine della mitosi, da vescicole provenienti dall’apparato di Golg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icche di sostanze pectiche *, di proteine strutturali e enzimatiche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 spessore è di circa un decimo di mic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13"/>
          <p:cNvSpPr/>
          <p:nvPr/>
        </p:nvSpPr>
        <p:spPr>
          <a:xfrm>
            <a:off x="250920" y="5103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sostanze pectiche ( o pectina) : insieme di polisaccaridi ( cioè zuccheri complessi ) formati da catene di acido galatturonico cui si legano molecole di zuccheri come ramnosio,  galattosio e arabinos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 pectine hanno consistenza gelatinosa, sono utilizzate nell'industria alimentare come nella realizzazione di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marmellate e confettu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assumendo la denominazione di E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http://www.torinoscienza.it/media/giochi/ciclo/apicipolla.jpg"/>
          <p:cNvPicPr/>
          <p:nvPr/>
        </p:nvPicPr>
        <p:blipFill>
          <a:blip r:embed="rId2"/>
          <a:stretch/>
        </p:blipFill>
        <p:spPr>
          <a:xfrm>
            <a:off x="4284720" y="1879560"/>
            <a:ext cx="4048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1"/>
          <p:cNvSpPr/>
          <p:nvPr/>
        </p:nvSpPr>
        <p:spPr>
          <a:xfrm>
            <a:off x="539640" y="404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unicazione tra le cellule figlie è consentita da alcune aperture in corrispondenza dei canalicoli del reticolo endoplasmatico , chiamate PLASMODES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che con il successivo ispessimento della parete i plasmodesmi , in forma di sottili canali, continuano ad assicurare gli scambi di sostanze tra le cellule adiace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2"/>
          <p:cNvSpPr/>
          <p:nvPr/>
        </p:nvSpPr>
        <p:spPr>
          <a:xfrm>
            <a:off x="2286000" y="2136600"/>
            <a:ext cx="4572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rocanali"/>
          <p:cNvPicPr/>
          <p:nvPr/>
        </p:nvPicPr>
        <p:blipFill>
          <a:blip r:embed="rId1"/>
          <a:stretch/>
        </p:blipFill>
        <p:spPr>
          <a:xfrm>
            <a:off x="1258920" y="2852640"/>
            <a:ext cx="64818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asellaDiTesto 1"/>
          <p:cNvSpPr/>
          <p:nvPr/>
        </p:nvSpPr>
        <p:spPr>
          <a:xfrm>
            <a:off x="324000" y="0"/>
            <a:ext cx="7993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a parete pri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parete primaria si trova immediatamente all’esterno della membrana cellulare ed è formata da fibrille di cellulosa* immerse in una matrice di sostanze pectiche e emicellulose** a cui si aggiungono proteine e lipidi. Lo spessore varia tra 0.1 e 1 mic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sellaDiTesto 2"/>
          <p:cNvSpPr/>
          <p:nvPr/>
        </p:nvSpPr>
        <p:spPr>
          <a:xfrm>
            <a:off x="395280" y="1916280"/>
            <a:ext cx="45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proteine presenti nella parete sono soprattutto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licoprote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proteine legate a zuccheri ) come 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estens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he regolano l’elasticità della parete e 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lect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he sono responsabili nel riconoscimento e nella compatibilità tra superfici cellulari (permettono per esempio  al granulo pollinico il riconoscimento del pistillo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www.3bscientific.it/thumblibrary/W13105/W13105_01_140_140_Anatomia-delle-fanerogame-Inglese.jpg"/>
          <p:cNvPicPr/>
          <p:nvPr/>
        </p:nvPicPr>
        <p:blipFill>
          <a:blip r:embed="rId1"/>
          <a:srcRect l="2470" t="2470" r="30897" b="3746"/>
          <a:stretch/>
        </p:blipFill>
        <p:spPr>
          <a:xfrm>
            <a:off x="5796000" y="2133720"/>
            <a:ext cx="3024000" cy="42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CasellaDiTesto 4"/>
          <p:cNvSpPr/>
          <p:nvPr/>
        </p:nvSpPr>
        <p:spPr>
          <a:xfrm>
            <a:off x="324000" y="4653000"/>
            <a:ext cx="46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*cellulosa :      omopolisaccaride  formato  da catene di   β-gluco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** emicellulose:   eteropolisaccaridi   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 catene con più monosaccaridi diver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468360" y="0"/>
            <a:ext cx="79200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alibri"/>
              </a:rPr>
              <a:t>CELLUL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cellulosa è un polimero del GLUCOSIO che è uno zucchero a 6 atomi di carbon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varie molecole di glucosio sono legate tra loro mediant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EGAMI GLUCOSIDICI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β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-1,4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ioè le molecole di glucosio sono ruotate le une rispetto alle altre di 180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disaccaridi di glucosio legati mediante legami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1,4 sono chiamat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ELLOBIOSIO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2411280" y="3716280"/>
            <a:ext cx="6300720" cy="2925720"/>
            <a:chOff x="2411280" y="3716280"/>
            <a:chExt cx="6300720" cy="2925720"/>
          </a:xfrm>
        </p:grpSpPr>
        <p:pic>
          <p:nvPicPr>
            <p:cNvPr id="71" name="Picture 5" descr="Avers-2"/>
            <p:cNvPicPr/>
            <p:nvPr/>
          </p:nvPicPr>
          <p:blipFill>
            <a:blip r:embed="rId1"/>
            <a:stretch/>
          </p:blipFill>
          <p:spPr>
            <a:xfrm>
              <a:off x="2411280" y="3716280"/>
              <a:ext cx="630072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6"/>
            <p:cNvSpPr/>
            <p:nvPr/>
          </p:nvSpPr>
          <p:spPr>
            <a:xfrm>
              <a:off x="2411280" y="5747040"/>
              <a:ext cx="141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CELLUL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2489760" y="4618800"/>
              <a:ext cx="141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AMI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nutrition.jbpub.com/resources/images/images/fiber.gif"/>
          <p:cNvPicPr/>
          <p:nvPr/>
        </p:nvPicPr>
        <p:blipFill>
          <a:blip r:embed="rId1"/>
          <a:stretch/>
        </p:blipFill>
        <p:spPr>
          <a:xfrm>
            <a:off x="900000" y="1989000"/>
            <a:ext cx="7005600" cy="458640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2"/>
          <p:cNvSpPr/>
          <p:nvPr/>
        </p:nvSpPr>
        <p:spPr>
          <a:xfrm>
            <a:off x="3286800" y="1844640"/>
            <a:ext cx="17337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ibre di cel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sellaDiTesto 3"/>
          <p:cNvSpPr/>
          <p:nvPr/>
        </p:nvSpPr>
        <p:spPr>
          <a:xfrm>
            <a:off x="5084640" y="2852640"/>
            <a:ext cx="1358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acrofibr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4"/>
          <p:cNvSpPr/>
          <p:nvPr/>
        </p:nvSpPr>
        <p:spPr>
          <a:xfrm>
            <a:off x="7172640" y="3429000"/>
            <a:ext cx="130104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icrofibr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sellaDiTesto 5"/>
          <p:cNvSpPr/>
          <p:nvPr/>
        </p:nvSpPr>
        <p:spPr>
          <a:xfrm>
            <a:off x="1914120" y="5732640"/>
            <a:ext cx="119412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olecole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ellul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6"/>
          <p:cNvSpPr/>
          <p:nvPr/>
        </p:nvSpPr>
        <p:spPr>
          <a:xfrm>
            <a:off x="324000" y="260280"/>
            <a:ext cx="84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molecole della cellulosa sono deposte l’una parallelamente all’altra a formare delle micelle, più micelle si organizzano a formare microfibrille e queste si uniscono a costituire una macrofibrilla . a formare un reticolo lasso immerso in abbondante matric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macrofibrille  orientate in varie direzioni si dispong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sellaDiTesto 7"/>
          <p:cNvSpPr/>
          <p:nvPr/>
        </p:nvSpPr>
        <p:spPr>
          <a:xfrm>
            <a:off x="3857760" y="5084640"/>
            <a:ext cx="8438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ic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8:28:15Z</dcterms:created>
  <dc:creator>daniela</dc:creator>
  <dc:description/>
  <dc:language>en-US</dc:language>
  <cp:lastModifiedBy>daniela</cp:lastModifiedBy>
  <dcterms:modified xsi:type="dcterms:W3CDTF">2012-02-15T20:25:31Z</dcterms:modified>
  <cp:revision>20</cp:revision>
  <dc:subject/>
  <dc:title>Diapositiva 1</dc:title>
</cp:coreProperties>
</file>