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AE93-2EF8-4A64-B988-B8444CF5C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96CC-640B-493E-88F9-39DCA349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7C8-DADA-4736-BFEC-94C957F0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EEA-F26E-4646-B0F1-FDEC51C4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3C0-F665-436E-BA4E-25D68130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160-44AA-488D-AC41-2A26D567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D89-101A-4EBF-B2DD-B737A20A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67F-6DEB-4890-A48B-7F377550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429A-6B09-4D86-AB4D-13D2D7F2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0331-96DB-475E-A3A1-7B424A1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DFFA-0D35-455C-B2D1-8C1FE1D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253-3366-4842-A8C3-E715790C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0314-012A-41F5-97C6-18C4E20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C55-1A54-41BC-938C-8C36AA75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C351-35A2-4CDA-9565-739257D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FFA-4F65-4A49-B78B-E0ECE52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DFD-249F-412C-8BA5-A87E19A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9D35-E222-440E-827E-B86A498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3B1F-7456-427C-9ADE-3DFDBD03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EE52-8816-4BD5-9DE1-DB632453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B1A2-AEDC-4D70-B1D8-E19DF96E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DA1E-11D3-4F42-9D31-A784B67B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4F31-4F43-498B-95CD-4CCF1DF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4AD3-C300-48D1-9D55-785290A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14E-E775-40B9-AED2-E7D6E50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9B30-A926-4461-AFBC-C1F9408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5A01-8249-4C08-AB25-E42F0169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5241-2656-4554-9494-0864CAD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AF6A-D273-43DC-86E0-7BAE039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D23A-386F-4623-94C7-D97B3623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DFC3-5A4F-46C8-9342-EA391879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B4DC-1522-46F0-AE23-ED3EB75A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64BBE-4918-4685-9F99-E2DFB406CB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185D4-1BF1-480E-A8DF-6D2338DA3D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F8BA0-25F6-4663-BB8F-F49892417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A9D-62B1-4784-BF1A-1747F1A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15A4E-D6E8-4878-92FD-DEE4E8DEBD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143D2-449A-425B-AD07-ED86B480A1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DBFBE-8F47-4B92-B4AB-52A886F4C7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109B8-6E53-42A0-BADA-D1A548A090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829DE-6174-4F85-A82D-6A19663C69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DEDE1-E774-443C-91BE-3A7A56E240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2C300-E61B-4ED1-BCE9-ACCDE4C2EB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E1F63-3CDD-4B9D-837F-1AA5BDBFFC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F2741-625C-4851-A04A-9D707FB522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42DE0-D91F-42C9-B186-28C8C36A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AD5-A684-4410-8B67-E2F2DED8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57C10-FC1D-4ADE-A3FB-4BC97299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5D464-2E22-4FDC-8F0E-613ACDC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6AF6E-B6E8-4ADA-95CC-CDB6A5E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24636-3480-4F7F-857B-53C4E76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4C0FF-EA94-49DD-884A-88BCE1A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B1B14-232E-41E9-8B54-E7798BE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04026-0645-4FBD-AD5C-7C86396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D5B57-06A1-48A3-A70D-629412D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C9695-7EE6-45ED-8013-913A358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B56E1-8E09-4E9E-AFC1-06B69EA2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704-9214-4C54-9646-D8DDE6D7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7E476-9AE1-4488-929B-E77E2BBE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4F86B-F153-4D42-A49C-6C1E6216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27F97-5724-49C0-B8FC-8EC66DE7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14F82-1F43-4453-AB48-F370ADE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05F6A-AD93-48FE-B1EE-67A90634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AAF7D-6217-45D0-8277-C735678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494B1E-04B4-482B-B717-F0F9AB29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16240-E65C-401E-9FDD-C23B2EF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B62DE-F662-42F3-9678-DF1F484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6D564-2289-4A8D-AC8D-030FF77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CE7-B093-4D04-A14C-5FFA076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A8D4A-7AFE-4199-8DB6-6F060EE8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F2F53-D7A7-4697-AB61-96E6B85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A950C-4069-406B-93B3-2AF94F7D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C772C-53DC-4C71-B18A-9A283AF8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8A7EE-C731-4822-94E6-5DE1FF8E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7A5CD-C512-4DCC-A522-AAE296F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E5AC9-76EF-4356-85EC-86F428DB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75C07-CF0E-4F25-ADFC-8002965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F8A9B-13AC-4179-88E9-DDD8376C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9774E-2A49-472D-8063-4A9B422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DFD-97E4-4BB1-A0BA-9A438FC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771FA-4863-4F9E-B3CE-38CEEFDC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C5FB2-A7E7-482F-BF23-29FD43A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E154C-250F-4399-81FF-BAD99700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70CB4-DDCA-4E80-8A44-89FF9F5E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71BA6-3114-4EF8-8B39-A172EC0F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D3E-7C52-44AF-BB16-6B68F5E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formation Technology Project Management, Fifth Edition, Copyright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F85-F6CD-420F-A3CA-82A3BDDB9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3D6F-ACAA-4F79-BA3C-6E015986F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E31F-7E6B-4C68-82C9-07951F44E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152352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68EF-4E95-4A05-B950-CEE29A2B7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FCF6-D95E-4CD2-9329-DABCA27DF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0C59-3670-45B1-AAF3-F6EC0C30A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9628-3BFF-46CA-9734-F0F77D365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roject Communications Management</a:t>
            </a:r>
            <a:endParaRPr b="0" lang="en-US" sz="3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46E-D1BE-4340-BFC9-4969CFED8A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Importance of Face-to-Face Communica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ays that in a face-to-face inte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 percent of communication is through bod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percent of communication is through how the words ar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percent of communication is through the content or words that are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more than just the actual words someone is s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’s tone of voice and body language say a lot about how he or she really f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0DB3-E42A-45F8-89F0-B5FE2AE191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253800"/>
            <a:ext cx="8381880" cy="812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2: Media Choice Tabl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1676520" y="988920"/>
            <a:ext cx="5715000" cy="54882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1954-59AD-4DFC-849D-DECE29B8F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Other Communication Consider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does the receiver interpret a message exactly as the sender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location and cultural background affect the complexity of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orking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ultural 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E4B-0353-4570-8546-ACBE292F8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etermining the Number of Communications Channe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people involved increases, the complexity of communications increases because there are more communications channels or pathways through which people can 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munications channels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-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peopl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3975-AEEF-4A2B-AADC-CED6FDC973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2: The Impact of the Number of People on Communications Channe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1219320" y="1978200"/>
            <a:ext cx="6933960" cy="449892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C4D8-3939-46FF-BCA2-849F7ECB01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erformance Repor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where the project stands at a specific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what the project team has accomplished during a certain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ict future project status and progress based on past information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87D-A536-4CC6-81AE-A18DC1FAE1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Managing Stakeholder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s must understand and work with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vise a way to identify and resolv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tool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26080">
              <a:spcBef>
                <a:spcPts val="29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 manage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26080">
              <a:spcBef>
                <a:spcPts val="29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17D2-5A2E-4C7A-9B12-F8145D2088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able 10-3: Expectations Management Matrix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869-DA95-4E11-AE1B-30EE46F5FB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Tbl10-03a.bmp"/>
          <p:cNvPicPr/>
          <p:nvPr/>
        </p:nvPicPr>
        <p:blipFill>
          <a:blip r:embed="rId1"/>
          <a:srcRect l="0" t="3403" r="0" b="0"/>
          <a:stretch/>
        </p:blipFill>
        <p:spPr>
          <a:xfrm>
            <a:off x="1752480" y="755640"/>
            <a:ext cx="4648320" cy="4502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Tbl10-03b.bmp"/>
          <p:cNvPicPr/>
          <p:nvPr/>
        </p:nvPicPr>
        <p:blipFill>
          <a:blip r:embed="rId2"/>
          <a:srcRect l="0" t="18873" r="0" b="0"/>
          <a:stretch/>
        </p:blipFill>
        <p:spPr>
          <a:xfrm>
            <a:off x="1752480" y="5210280"/>
            <a:ext cx="46483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4: Issue Lo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E5A-2F4A-4ECF-89B6-29921B01D7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Tbl10-04.bmp"/>
          <p:cNvPicPr/>
          <p:nvPr/>
        </p:nvPicPr>
        <p:blipFill>
          <a:blip r:embed="rId1"/>
          <a:srcRect l="0" t="9385" r="0" b="0"/>
          <a:stretch/>
        </p:blipFill>
        <p:spPr>
          <a:xfrm>
            <a:off x="228600" y="1890720"/>
            <a:ext cx="872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Suggestions for Improving Project Communic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conflicts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better communicat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effectiv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-mail and other technologies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emplates for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CC9-96A6-4493-BCF8-067903338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382240" cy="895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Communications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Management Process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s pl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determining the information and communications needs of the 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aking needed information available to project stakeholders in a timely m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llecting and disseminating performance information, including status reports, progress measurement, and fore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anaging communications to satisfy the needs and expectations of project stakeholders and to resolv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C02A-D44A-4E64-B267-B189542BAD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flict Handling Mod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ro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rectly face a conflict using a problem-solv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 a give-and-tak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-emphasize areas of difference and emphasize areas of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win-los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draw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treat or withdraw from an actual or potential dis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0E6-525E-4C54-A77D-DD62DDB69A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flict Can Be Good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ften produces important results, such as new ideas, better alternatives, and motivation to work harder and more collabor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th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formance to the values or ethical standards of a group; groupthink can develop if there are no conflicting view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uggests that task-related conflict often improves team performance, but emotional conflict often depresses tea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DF6F-8D3B-4A4C-B274-F53FE3D8A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eveloping Better Communication Skil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ies and formal degree programs for IT professionals often neglect the importance of speaking, writing, and liste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rganizations become more global, they realize they must invest in ways to improve communication with people from different countries an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leadership to impro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C5F3-EA49-420F-B890-A8BAE9A160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Running Effective Meeting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a meeting can be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urpose and intended outcome of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o should attend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genda to participants before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handouts and visual aids, and make logistical arrangements ahea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eting profes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F41-EAD1-467C-A249-D2135D02C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31880"/>
            <a:ext cx="830556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Using E-Mail, Instant Messaging, and Collaborative Tools Effectivel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that e-mail, instant messaging, or collaborative tools are an appropriate medium for what you want to communic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ure to send information to the right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aningful subject lines and limit the content of emails to one main subject, and be as clear and concise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ure to authorize the right people to share and edit your collaborativ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39C-483B-4275-9926-B2CD7DDA2C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Using Templates for Project Communic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technical people are afraid to ask for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examples and templates for project communications saves time and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tions can develop their own templates, use some provided by outside organizations, or use samples from text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that research shows that companies that excel in project management make effective use of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E1A0-D355-41FD-A898-16ABA0E52A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11000"/>
            <a:ext cx="8140680" cy="812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3: Sample Template for a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Descrip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295280" y="1547640"/>
            <a:ext cx="6477120" cy="49294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785-C93C-468F-BAE8-38458C5C0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5: Sample Template for a Monthly Progress Repor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381960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26D-EAE9-47E1-ADFE-50E1E3336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6: Final Projec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ocumentation Item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400" name="Picture 4" descr="Tbl10-06a"/>
          <p:cNvPicPr/>
          <p:nvPr/>
        </p:nvPicPr>
        <p:blipFill>
          <a:blip r:embed="rId1"/>
          <a:srcRect l="0" t="8936" r="0" b="0"/>
          <a:stretch/>
        </p:blipFill>
        <p:spPr>
          <a:xfrm>
            <a:off x="380880" y="1768320"/>
            <a:ext cx="8382240" cy="3108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Tbl10-06b"/>
          <p:cNvPicPr/>
          <p:nvPr/>
        </p:nvPicPr>
        <p:blipFill>
          <a:blip r:embed="rId2"/>
          <a:srcRect l="0" t="22107" r="0" b="0"/>
          <a:stretch/>
        </p:blipFill>
        <p:spPr>
          <a:xfrm>
            <a:off x="380880" y="4981680"/>
            <a:ext cx="8534520" cy="13428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A118-C228-42C5-91AC-1E14FED2A2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Lessons Learned Report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manager and project team members should each prepa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-learned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lective statement that documents important things an individual learned from working on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manager often combines information from all of the lessons-learned reports into a project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CC8-AB9F-4C8D-8420-6C92CB4261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Figure 10-1: Project Communications Management Summary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A2F8-77E0-4FE2-8E4B-91A62BBF6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Fig10-01.bmp"/>
          <p:cNvPicPr/>
          <p:nvPr/>
        </p:nvPicPr>
        <p:blipFill>
          <a:blip r:embed="rId1"/>
          <a:srcRect l="0" t="0" r="0" b="9768"/>
          <a:stretch/>
        </p:blipFill>
        <p:spPr>
          <a:xfrm>
            <a:off x="914400" y="1685880"/>
            <a:ext cx="73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Archiv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important to organize and prepare project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arch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complete set of organized project records that provide an accurate history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chives can provide valuable information for future project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69B1-3D3A-4AAE-A2FA-0016CEEBE3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Web Sit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oject teams create a project Web site to store important product documents and o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the site using various types of software, such as enterprise project management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4DFE-95ED-46CC-92C5-1E0B1D1E4D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4: Microsoft Office Enterprise Project Management (EPM) Solu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B76F-F534-4606-A85A-C499CE618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Fig10-04.bmp"/>
          <p:cNvPicPr/>
          <p:nvPr/>
        </p:nvPicPr>
        <p:blipFill>
          <a:blip r:embed="rId1"/>
          <a:srcRect l="0" t="0" r="0" b="8553"/>
          <a:stretch/>
        </p:blipFill>
        <p:spPr>
          <a:xfrm>
            <a:off x="990720" y="1887480"/>
            <a:ext cx="7391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00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project communications management is to ensure timely and appropriate generation, collection, dissemination, storage, and disposition of proje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00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rocess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82BE-50F1-47B2-9C56-2B45424FD9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Plann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ject should include some typ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s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a document that guides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stakeholder analysis for project communications also aids in communications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19C9-6EF8-436A-8FAC-A55362494D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Managemen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lan Content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communication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o be communicated, including format, content, and level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who will receive the information and who will produc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methods or technologies for conveying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CFB-1FC0-4EA3-BF22-71B2ECE515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Managemen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lan Contents (continued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tion procedures for resolv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procedures for updating the communications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lossary of common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0CF9-CC46-4584-AC66-AAD4BB2B26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Table 10-1: Sample Stakeholder Analysis for Project Communications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6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6B63-7315-4836-B160-AC193BCCD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Tbl10-01.bmp"/>
          <p:cNvPicPr/>
          <p:nvPr/>
        </p:nvPicPr>
        <p:blipFill>
          <a:blip r:embed="rId1"/>
          <a:srcRect l="0" t="3500" r="0" b="0"/>
          <a:stretch/>
        </p:blipFill>
        <p:spPr>
          <a:xfrm>
            <a:off x="990720" y="1752480"/>
            <a:ext cx="6400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Information Distribu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8676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onsideration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echnology to enhance inform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nd informal methods for distrib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2DA-A403-403B-BC31-6C454E8A93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istributing Information in an Effective and Timely Manner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ury cruci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afraid to report ba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communication via meetings and informal talks helps bring importan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nd 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into the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46B-8148-480A-AAA4-C0317CB63D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23:10:12Z</dcterms:created>
  <dc:creator>Course Technology</dc:creator>
  <dc:description/>
  <dc:language>en-US</dc:language>
  <cp:lastModifiedBy>admin</cp:lastModifiedBy>
  <dcterms:modified xsi:type="dcterms:W3CDTF">2011-12-18T20:29:45Z</dcterms:modified>
  <cp:revision>145</cp:revision>
  <dc:subject/>
  <dc:title>Chapter 10</dc:title>
</cp:coreProperties>
</file>