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2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2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0F29-35E9-4A16-85A4-C298A37A1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202E-F676-4327-996B-C1D8FFBBD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911-0F54-40FA-B130-0026B82DB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B40-6A63-401C-8A3C-CB29F588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301-F881-41A2-9617-E2FDC428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857C-3AEE-40A3-9988-5FEE22C9F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B8425-1978-4605-A4DC-4E6187D29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EB618-BDD0-407A-90E0-C7B75110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0460-0FA3-476B-AF0A-905C78A3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B0C1-CB58-4DAA-899C-35352122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3A5E-6C57-4C6F-A035-8ED64B467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8AC0B-46E0-4F37-8EEE-C7EC0E7E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AFB3-BF0F-462F-9431-93D5006E2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EF37-E48C-414F-AD18-F2BAD961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98C0-6793-4CB9-9976-0AD173C6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4CDA-F947-4278-AA81-FFDAD317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486B-43AD-4576-808C-F19B7575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8242-ABA5-4239-88CE-6ECE7826E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B79D-90EA-480A-AB12-2FA3D060A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CCC46-E778-4F82-9AF5-6CAB5E13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C7728-9D09-481E-8959-FFC34565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8B27B-1BEE-47DD-AEB7-493ED7B7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4BF2E-BAD7-4215-A762-C1D9695C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BD16F-0D70-43CC-871E-526EED33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C88-D62E-40C0-9A67-DF081F42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CC326-E75D-44B8-B5A6-0125BBF1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DE0E5-859B-4B77-A935-12FCBE74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A74C9-4C6F-48BD-8F0E-53DBFC1F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295F-4B7F-4D8A-B829-1D7FF4AE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6CEAA-C84F-4289-BF25-5C478053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B8DF-8DFF-45EC-B857-021597983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DC32C-B451-45AF-95FA-7823675B5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E0DB99-7429-4BFC-AEEE-F0A0674814B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8A5B2B-3C5A-46B7-865C-70B0FE050EC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8F76C6-D84B-4E35-B372-CEBE25A58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60C-A292-4666-9851-C4EEB413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10F314-25E0-4060-B6EE-5A812D293B3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07BA2C-2994-481E-8092-071673377E1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A9B55C-D499-4DB3-9832-46A0F6B3355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6AE567-AA23-4DC0-B169-53EFE8556FB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CB0DB3-6A56-41CE-A3EF-CFFC6ABC07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095B3F-4FA4-4666-9226-3FD2C86BA9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0FFC44-D4EB-4CF5-805D-3F184374673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7DC0A-F076-4882-9F17-E1AA54A08C8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0AB68D-FC42-45B2-85F8-E0D9F4F6615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FA6A15-9B3A-4982-B9ED-E22C4E74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E24-C01A-42A4-8154-688E49E5C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0497E7-9B91-4D6B-AF82-B7F97093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49FF2-FE51-4A9F-9C91-97D4F1B9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0C92BF-4CCF-46E0-9721-FD0BF781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DDFC92-520C-4233-9E39-7C3C1C8D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B8018-65C5-42A3-8F7F-A5310F61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E86190-BF97-4D23-9E81-B9B451B1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8082A-63BB-4DFA-B3E6-DCA8E725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9246ED-FDFE-4211-AD4F-CB92A51E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A1E0EF-E39B-4D22-963A-3CBE13BA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87BFA-FC65-4870-BAE0-C777C48C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28EC-184E-41CB-981C-76D45277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4BE046-217B-4899-BEA7-A5F26879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2405F5-785E-4C38-BA2E-734D205C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6C1880-3CCD-4A74-A8ED-7BA5F811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44045D-2F43-4FA1-9643-DF5B697D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E5541F-E69F-4497-939F-AEE8A919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D17EF9-03DF-46A0-B014-7B5BC86EF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21B73-4D01-46DD-BC30-C2B778BC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BAA88F-9F21-4C5E-A643-6293993A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EE4080-02FE-4B4C-88F3-10F2F65B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BD308C-1623-47DF-9670-A5C7A540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5D2-38EC-448C-90D2-93CC2C56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AB4ADF-9EAE-4985-BF07-B0AEFFFC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168C1B-78B3-4632-9E33-0B0F5851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0B10EF-F11F-4AE6-96D5-828705613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09E9AB-FFDD-4A2C-A361-BC3006C2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7ECD14-A7C8-4E04-8E4F-53DD7D71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BC83C3-7ADB-4BA8-B439-6C2169F8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9EF957-629F-45E7-B7C0-9B98C1D6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CEE958-24C9-493B-B9B2-546D986A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3230D5-29B8-4343-A451-95E6BC62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DDA26D-D118-4F48-849F-11B9B2A1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BCAC-837F-48AA-B829-85278BDD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BFA1BC-6004-4B3F-8A26-0F042338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11FC15-06F4-43E7-A3D8-ABC02195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0E361F-2BAE-4883-BF84-C6363109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5B7CD-FA3F-4370-8155-7F430366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CB197D-74EA-4B13-99F3-3107E3EE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1382-C7DC-4F6E-8F7E-278BABD2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lnSpc>
                <a:spcPct val="90000"/>
              </a:lnSpc>
              <a:spcBef>
                <a:spcPts val="300"/>
              </a:spcBef>
              <a:buClr>
                <a:srgbClr val="8989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00"/>
              </a:spcBef>
              <a:buClr>
                <a:srgbClr val="8989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Information Technology Project Management, Fifth Edition, Copyright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90000"/>
              </a:lnSpc>
              <a:spcBef>
                <a:spcPts val="300"/>
              </a:spcBef>
              <a:buClr>
                <a:srgbClr val="8989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8989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4F6E-15D2-4B7A-8B67-AD8A91F330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48E7-5CB8-4B93-AA46-761E92791A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D139-270B-435C-A3C9-6045516F2A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10"/>
          </p:nvPr>
        </p:nvSpPr>
        <p:spPr>
          <a:xfrm>
            <a:off x="1523520" y="64008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1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681D-E8DE-45E8-87D4-1377781466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74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55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C145-F189-4D93-947B-6377DE45F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B657-0AC9-4414-8DD7-80599FF6A0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0D89-3BCF-4A01-8DC4-7D079652E8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3520" y="1600200"/>
            <a:ext cx="7772400" cy="1349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Project Communications Management</a:t>
            </a:r>
            <a:endParaRPr b="0" lang="en-US" sz="3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9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3C6E-E531-4F12-8C4D-B99E1232A9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Importance of Face-to-Face Communication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ays that in a face-to-face intera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8 percent of communication is through bod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 percent of communication is through how the words are 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 percent of communication is through the content or words that are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 attention to more than just the actual words someone is sa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’s tone of voice and body language say a lot about how he or she really fe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02D7-573C-4FB9-A6E9-8616522749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560" y="253800"/>
            <a:ext cx="8381880" cy="812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Table 10-2: Media Choice Table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pic>
        <p:nvPicPr>
          <p:cNvPr id="348" name="Picture 3" descr=""/>
          <p:cNvPicPr/>
          <p:nvPr/>
        </p:nvPicPr>
        <p:blipFill>
          <a:blip r:embed="rId1"/>
          <a:stretch/>
        </p:blipFill>
        <p:spPr>
          <a:xfrm>
            <a:off x="1676520" y="988920"/>
            <a:ext cx="5715000" cy="5488200"/>
          </a:xfrm>
          <a:prstGeom prst="rect">
            <a:avLst/>
          </a:prstGeom>
          <a:ln w="0">
            <a:noFill/>
          </a:ln>
        </p:spPr>
      </p:pic>
      <p:sp>
        <p:nvSpPr>
          <p:cNvPr id="349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DF78-D210-4F4C-941D-F3B63A388B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Other Communication Consideration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ly does the receiver interpret a message exactly as the sender inte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graphic location and cultural background affect the complexity of project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working ho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ultural n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567D-EA53-482E-9A4B-16962580987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Determining the Number of Communications Channel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number of people involved increases, the complexity of communications increases because there are more communications channels or pathways through which people can 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ommunications channels =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(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-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umber of peopl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199C-1A51-4F34-AC3E-2A0FE37E7A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320" y="9140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Figure 10-2: The Impact of the Number of People on Communications Channel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1219320" y="1978200"/>
            <a:ext cx="6933960" cy="4498920"/>
          </a:xfrm>
          <a:prstGeom prst="rect">
            <a:avLst/>
          </a:prstGeom>
          <a:ln w="0">
            <a:noFill/>
          </a:ln>
        </p:spPr>
      </p:pic>
      <p:sp>
        <p:nvSpPr>
          <p:cNvPr id="35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DCF5-2BCE-4969-B191-499E26FA216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Performance Reporting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reporting keeps stakeholders informed about how resources are being used to achieve projec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 repo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 where the project stands at a specific point i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repor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cribe what the project team has accomplished during a certain period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dict future project status and progress based on past information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2956-4480-43DA-A78A-60E255B0D0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Managing Stakeholder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rs must understand and work with various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vise a way to identify and resolve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important tool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26080">
              <a:spcBef>
                <a:spcPts val="2999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ations management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800" indent="-226080">
              <a:spcBef>
                <a:spcPts val="2999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 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DEBE2-5186-46CC-9536-D8988D8A8B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Arial"/>
              </a:rPr>
              <a:t>Table 10-3: Expectations Management Matrix</a:t>
            </a:r>
            <a:endParaRPr b="0" lang="en-US" sz="32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67A9-31D9-41B5-9C5B-C2FE751A9F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7" descr="Tbl10-03a.bmp"/>
          <p:cNvPicPr/>
          <p:nvPr/>
        </p:nvPicPr>
        <p:blipFill>
          <a:blip r:embed="rId1"/>
          <a:srcRect l="0" t="3403" r="0" b="0"/>
          <a:stretch/>
        </p:blipFill>
        <p:spPr>
          <a:xfrm>
            <a:off x="1752480" y="755640"/>
            <a:ext cx="4648320" cy="4502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Tbl10-03b.bmp"/>
          <p:cNvPicPr/>
          <p:nvPr/>
        </p:nvPicPr>
        <p:blipFill>
          <a:blip r:embed="rId2"/>
          <a:srcRect l="0" t="18873" r="0" b="0"/>
          <a:stretch/>
        </p:blipFill>
        <p:spPr>
          <a:xfrm>
            <a:off x="1752480" y="5210280"/>
            <a:ext cx="4648320" cy="13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Table 10-4: Issue Log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2004-D737-45DD-AD94-791130E107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7" descr="Tbl10-04.bmp"/>
          <p:cNvPicPr/>
          <p:nvPr/>
        </p:nvPicPr>
        <p:blipFill>
          <a:blip r:embed="rId1"/>
          <a:srcRect l="0" t="9385" r="0" b="0"/>
          <a:stretch/>
        </p:blipFill>
        <p:spPr>
          <a:xfrm>
            <a:off x="228600" y="1890720"/>
            <a:ext cx="8724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Suggestions for Improving Project Communication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 conflicts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better communication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effective mee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-mail and other technologies effec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emplates for project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3BD5-0904-455F-9125-73E2256A5A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704520"/>
            <a:ext cx="8382240" cy="895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Project Communications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Management Processe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13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mmunications plan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determining the information and communications needs of the stakehol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13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formation distribu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making needed information available to project stakeholders in a timely mann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13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erformance report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collecting and disseminating performance information, including status reports, progress measurement, and forecas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1720" indent="-261720">
              <a:spcBef>
                <a:spcPts val="13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aging stakehold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managing communications to satisfy the needs and expectations of project stakeholders and to resolv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BE8E-3B9C-431C-AA2C-36AD563EB9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nflict Handling Mode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749"/>
              </a:spcBef>
              <a:buClr>
                <a:srgbClr val="6666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ront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irectly face a conflict using a problem-solving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6666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romi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use a give-and-tak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6666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oo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-emphasize areas of difference and emphasize areas of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6666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c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e win-lose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666699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draw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treat or withdraw from an actual or potential dis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71FC-B6A6-4AF6-8B44-EC791068CB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nflict Can Be Good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often produces important results, such as new ideas, better alternatives, and motivation to work harder and more collabor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upthin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formance to the values or ethical standards of a group; groupthink can develop if there are no conflicting view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suggests that task-related conflict often improves team performance, but emotional conflict often depresses team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359F-E4C2-4A5C-B84F-09BD88347E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Developing Better Communication Skill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nies and formal degree programs for IT professionals often neglect the importance of speaking, writing, and listen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organizations become more global, they realize they must invest in ways to improve communication with people from different countries and cul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leadership to improve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6283-C2CD-449A-BD52-19EBD3E590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Running Effective Meeting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if a meeting can be avoi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purpose and intended outcome of the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o should attend the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genda to participants before the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handouts and visual aids, and make logistical arrangements ahead of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eeting profess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575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78A4-DAD6-4453-980F-DFB64C9C686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731880"/>
            <a:ext cx="8305560" cy="9446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Using E-Mail, Instant Messaging, and Collaborative Tools Effectively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325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sure that e-mail, instant messaging, or collaborative tools are an appropriate medium for what you want to communic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spcBef>
                <a:spcPts val="325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sure to send information to the right peo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spcBef>
                <a:spcPts val="325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meaningful subject lines and limit the content of emails to one main subject, and be as clear and concise as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3440" indent="-253440">
              <a:spcBef>
                <a:spcPts val="325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sure to authorize the right people to share and edit your collaborative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3440" indent="0">
              <a:spcBef>
                <a:spcPts val="3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090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F094-7743-4D91-8784-849CABFB23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Using Templates for Project Communication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276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technical people are afraid to ask for hel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276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ing examples and templates for project communications saves time and mon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276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rganizations can develop their own templates, use some provided by outside organizations, or use samples from textboo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276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all that research shows that companies that excel in project management make effective use of templ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EFECF-4291-4450-94D6-90B0B0388E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51920" y="711000"/>
            <a:ext cx="8140680" cy="8125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Figure 10-3: Sample Template for a 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Project Description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1295280" y="1547640"/>
            <a:ext cx="6477120" cy="4929480"/>
          </a:xfrm>
          <a:prstGeom prst="rect">
            <a:avLst/>
          </a:prstGeom>
          <a:ln w="0">
            <a:noFill/>
          </a:ln>
        </p:spPr>
      </p:pic>
      <p:sp>
        <p:nvSpPr>
          <p:cNvPr id="395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E3D1-541D-4268-80F9-79F5FB706B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Table 10-5: Sample Template for a Monthly Progress Repor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pic>
        <p:nvPicPr>
          <p:cNvPr id="397" name="Picture 3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534160" cy="3819600"/>
          </a:xfrm>
          <a:prstGeom prst="rect">
            <a:avLst/>
          </a:prstGeom>
          <a:ln w="0">
            <a:noFill/>
          </a:ln>
        </p:spPr>
      </p:pic>
      <p:sp>
        <p:nvSpPr>
          <p:cNvPr id="39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9FB6-05D0-4D3E-A333-1230FB1E86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Table 10-6: Final Project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Documentation Item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pic>
        <p:nvPicPr>
          <p:cNvPr id="400" name="Picture 4" descr="Tbl10-06a"/>
          <p:cNvPicPr/>
          <p:nvPr/>
        </p:nvPicPr>
        <p:blipFill>
          <a:blip r:embed="rId1"/>
          <a:srcRect l="0" t="8936" r="0" b="0"/>
          <a:stretch/>
        </p:blipFill>
        <p:spPr>
          <a:xfrm>
            <a:off x="380880" y="1768320"/>
            <a:ext cx="8382240" cy="3108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Tbl10-06b"/>
          <p:cNvPicPr/>
          <p:nvPr/>
        </p:nvPicPr>
        <p:blipFill>
          <a:blip r:embed="rId2"/>
          <a:srcRect l="0" t="22107" r="0" b="0"/>
          <a:stretch/>
        </p:blipFill>
        <p:spPr>
          <a:xfrm>
            <a:off x="380880" y="4981680"/>
            <a:ext cx="8534520" cy="1342800"/>
          </a:xfrm>
          <a:prstGeom prst="rect">
            <a:avLst/>
          </a:prstGeom>
          <a:ln w="0">
            <a:noFill/>
          </a:ln>
        </p:spPr>
      </p:pic>
      <p:sp>
        <p:nvSpPr>
          <p:cNvPr id="402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069D-C694-4E97-8DC1-F8FC5D79E7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Lessons Learned Report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ject manager and project team members should each prepar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s-learned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flective statement that documents important things an individual learned from working on th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ject manager often combines information from all of the lessons-learned reports into a project summary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F3D5-25FC-426B-899E-4CA9B50B65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Figure 10-1: Project Communications Management Summary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1BC4-01FE-4A5C-8EAA-BF56ED5199A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5" descr="Fig10-01.bmp"/>
          <p:cNvPicPr/>
          <p:nvPr/>
        </p:nvPicPr>
        <p:blipFill>
          <a:blip r:embed="rId1"/>
          <a:srcRect l="0" t="0" r="0" b="9768"/>
          <a:stretch/>
        </p:blipFill>
        <p:spPr>
          <a:xfrm>
            <a:off x="914400" y="1685880"/>
            <a:ext cx="73152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Project Archive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lso important to organize and prepare project arch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archiv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a complete set of organized project records that provide an accurate history of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chives can provide valuable information for future projects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2B4E-023B-4D12-A842-735568EB8E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Project Web Site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roject teams create a project Web site to store important product documents and oth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reate the site using various types of software, such as enterprise project management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9C70-E8A1-4802-B5CB-7B3AB2E916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Figure 10-4: Microsoft Office Enterprise Project Management (EPM) Solution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DF2D-FCF6-4987-95D0-D518215FA60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7" descr="Fig10-04.bmp"/>
          <p:cNvPicPr/>
          <p:nvPr/>
        </p:nvPicPr>
        <p:blipFill>
          <a:blip r:embed="rId1"/>
          <a:srcRect l="0" t="0" r="0" b="8553"/>
          <a:stretch/>
        </p:blipFill>
        <p:spPr>
          <a:xfrm>
            <a:off x="990720" y="1887480"/>
            <a:ext cx="73911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400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oal of project communications management is to ensure timely and appropriate generation, collection, dissemination, storage, and disposition of projec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400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rocess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1199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s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1199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1199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1199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ing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E099-2900-459B-ADD4-51BA356DBB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mmunications Planning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roject should include some typ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s manage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, a document that guides project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ing a stakeholder analysis for project communications also aids in communications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1197-412E-4944-9389-80C2EBE3F6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mmunications Management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Plan Content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holder communications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to be communicated, including format, content, and level of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ople who will receive the information and who will produc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methods or technologies for conveying th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7533-DF54-4691-A5B2-73B1626260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mmunications Management</a:t>
            </a:r>
            <a:br>
              <a:rPr sz="4000"/>
            </a:b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Plan Contents (continued)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10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 of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lation procedures for resolving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procedures for updating the communications management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lossary of common termin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514C-D59B-4B7F-9F9D-7EF1BD2172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Arial"/>
              </a:rPr>
              <a:t>Table 10-1: Sample Stakeholder Analysis for Project Communications</a:t>
            </a:r>
            <a:endParaRPr b="0" lang="en-US" sz="36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6" name="Slide Number Placeholder 6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C154-CE22-4B65-A260-8A0570B884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8" descr="Tbl10-01.bmp"/>
          <p:cNvPicPr/>
          <p:nvPr/>
        </p:nvPicPr>
        <p:blipFill>
          <a:blip r:embed="rId1"/>
          <a:srcRect l="0" t="3500" r="0" b="0"/>
          <a:stretch/>
        </p:blipFill>
        <p:spPr>
          <a:xfrm>
            <a:off x="990720" y="1752480"/>
            <a:ext cx="64008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Information Distribution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86760" cy="45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the right information to the right people at the right time and in a useful format is just as important as developing the information in the first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28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consideration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echnology to enhance information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24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and informal methods for distribu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6956-C63A-45E0-A3CB-8642AB2A63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Distributing Information in an Effective and Timely Manner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bury cruci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be afraid to report bad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3501"/>
              </a:spcBef>
              <a:buClr>
                <a:srgbClr val="6666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al communication via meetings and informal talks helps bring important 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and b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 into the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8F93-145C-43E2-89AF-30846DB3DB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23:10:12Z</dcterms:created>
  <dc:creator>Course Technology</dc:creator>
  <dc:description/>
  <dc:language>en-US</dc:language>
  <cp:lastModifiedBy>admin</cp:lastModifiedBy>
  <dcterms:modified xsi:type="dcterms:W3CDTF">2011-12-18T20:29:45Z</dcterms:modified>
  <cp:revision>145</cp:revision>
  <dc:subject/>
  <dc:title>Chapter 10</dc:title>
</cp:coreProperties>
</file>