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F2CC-AFF3-44CD-AE0D-43C2CA65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CFA4-E6DB-4633-A483-8233B2C5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1678-11A2-4AB5-BE43-5681A06E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048-4787-4B36-AAAB-60AE7AC0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F77-5C37-452C-B847-E792E530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798-73DC-4929-9367-EF3DC2DE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EAF3-DA6F-4B92-B7DF-D1D8617A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698-0CA6-4259-BC12-C538B87F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54C-36C2-41F1-A7AF-C6FC58FF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FBF-ACF8-4CBA-A95E-16D1034C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64D-E450-4313-B5EA-04EA60C4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7AD-1616-408F-BF88-853EF092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F82B7-46AE-4865-B320-B1D33BA3D76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32F74-C29E-470C-A0DF-549DA6B2E01A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5:38:40Z</dcterms:created>
  <dc:creator>최봉수</dc:creator>
  <dc:description/>
  <dc:language>en-US</dc:language>
  <cp:lastModifiedBy>맛있다 군만두</cp:lastModifiedBy>
  <dcterms:modified xsi:type="dcterms:W3CDTF">2023-07-13T10:50:00Z</dcterms:modified>
  <cp:revision>4</cp:revision>
  <dc:subject/>
  <dc:title>슬라이드 1</dc:title>
</cp:coreProperties>
</file>