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812-BBE7-4CFC-A6E4-959A8FA3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B7C-4AB3-4025-BF93-87E5A79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FAB-1E2A-4BFB-A6D5-7C81E870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4A2-DDB5-45E2-99C5-D4BE1D6B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F2B-C939-400D-BAC2-0EEF572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12E-FBED-46D0-B842-C8550493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885-0180-40E6-9052-0548226B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1FA-774F-40CF-91FA-E4DCB742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83D-F7D6-48B4-8563-36B6EC8E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A4F-6261-4576-9754-C06EF15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149-C342-4A18-9CCC-1F4F138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945-929A-4FBF-8F15-36F6468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5AE37-404B-4C83-944B-DF0716966B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BEBD7-E2F5-46CA-AB8F-291B68CD7B0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38:40Z</dcterms:created>
  <dc:creator>최봉수</dc:creator>
  <dc:description/>
  <dc:language>en-US</dc:language>
  <cp:lastModifiedBy>맛있다 군만두</cp:lastModifiedBy>
  <dcterms:modified xsi:type="dcterms:W3CDTF">2023-07-13T10:50:00Z</dcterms:modified>
  <cp:revision>4</cp:revision>
  <dc:subject/>
  <dc:title>슬라이드 1</dc:title>
</cp:coreProperties>
</file>