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8288000" cy="10288588"/>
  <p:notesSz cx="18288000" cy="10288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F9ABF59-3D00-4FA6-BA18-21851E8DD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914400" y="236484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895827C-FA47-4C15-95CC-983F575EA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A0A5759-3DE6-4783-829C-6E96434020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91440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647928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1204416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91440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647928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1204416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8B6D102-FE7A-4D7B-8FF3-13CE493A26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B3AC2C7-D67F-49A5-9766-0617AE504C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type="subTitle"/>
          </p:nvPr>
        </p:nvSpPr>
        <p:spPr>
          <a:xfrm>
            <a:off x="914400" y="2364840"/>
            <a:ext cx="16459200" cy="6789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FA27C79-C92C-4328-9DBE-51DE07DD2B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914400" y="2364840"/>
            <a:ext cx="1645920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81D4D7D-CE4C-4349-A4CB-C6EBBA7D3A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3"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F1CDAFE-25E2-4112-A117-93EC05BD2E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7DEA718-CD84-4CFB-8379-5C5E8F5DA1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17720" y="1292040"/>
            <a:ext cx="16252560" cy="3827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3F11E77-3487-4DEC-842F-0F1D5DD303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8"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570B3A7-3CC9-4F02-AABA-48F73489EB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914400" y="2364840"/>
            <a:ext cx="16459200" cy="6789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0C513CD-7DC8-403E-8B33-34B1FD9F9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2"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BA3C394-611C-44B0-8BEC-A724F28544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6"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88FAF90-FEBF-4A02-A8DC-2B7E3FEC35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0" name="PlaceHolder 2"/>
          <p:cNvSpPr>
            <a:spLocks noGrp="1"/>
          </p:cNvSpPr>
          <p:nvPr>
            <p:ph/>
          </p:nvPr>
        </p:nvSpPr>
        <p:spPr>
          <a:xfrm>
            <a:off x="914400" y="236484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2372E68-84C9-49E1-8037-841AB5D371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3"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C71AFD5-440B-4130-A84B-080BCC7D3D4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8" name="PlaceHolder 2"/>
          <p:cNvSpPr>
            <a:spLocks noGrp="1"/>
          </p:cNvSpPr>
          <p:nvPr>
            <p:ph/>
          </p:nvPr>
        </p:nvSpPr>
        <p:spPr>
          <a:xfrm>
            <a:off x="91440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647928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1204416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91440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647928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1204416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C715F872-B2D8-49B5-886C-0C05A27BE0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914400" y="2364840"/>
            <a:ext cx="1645920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2FE597F-DDC7-4596-93A9-E1DED0820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48B4973-35F3-4C81-9454-51EEBDA81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93409E8-7726-42BD-8336-D6263B5CC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17720" y="1292040"/>
            <a:ext cx="16252560" cy="3827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8849060-20F4-4246-8DD4-9854765C2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7172531-4D2C-4C54-8B48-992AA4D17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35EECAE-4A51-41CF-8F25-2F9423B2D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13AC547-9603-47E0-A2C0-3B8AAB83358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914400" y="2364840"/>
            <a:ext cx="16459200" cy="678996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6218280" y="9565920"/>
            <a:ext cx="5851440" cy="5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914400" y="9565920"/>
            <a:ext cx="4206960" cy="514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13166640" y="9565920"/>
            <a:ext cx="4206960" cy="5144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2CD1-3461-43A2-A5FF-8F05EE76490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bk object 16"/>
          <p:cNvSpPr/>
          <p:nvPr/>
        </p:nvSpPr>
        <p:spPr>
          <a:xfrm>
            <a:off x="0" y="1257480"/>
            <a:ext cx="2017800" cy="9029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bk object 17"/>
          <p:cNvSpPr/>
          <p:nvPr/>
        </p:nvSpPr>
        <p:spPr>
          <a:xfrm>
            <a:off x="0" y="0"/>
            <a:ext cx="4048200" cy="51436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44" name="PlaceHolder 2"/>
          <p:cNvSpPr>
            <a:spLocks noGrp="1"/>
          </p:cNvSpPr>
          <p:nvPr>
            <p:ph type="body"/>
          </p:nvPr>
        </p:nvSpPr>
        <p:spPr>
          <a:xfrm>
            <a:off x="914400" y="2364840"/>
            <a:ext cx="16459200" cy="678996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ftr" idx="4"/>
          </p:nvPr>
        </p:nvSpPr>
        <p:spPr>
          <a:xfrm>
            <a:off x="6218280" y="9565920"/>
            <a:ext cx="5851440" cy="5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4"/>
          <p:cNvSpPr>
            <a:spLocks noGrp="1"/>
          </p:cNvSpPr>
          <p:nvPr>
            <p:ph type="dt" idx="5"/>
          </p:nvPr>
        </p:nvSpPr>
        <p:spPr>
          <a:xfrm>
            <a:off x="914400" y="9565920"/>
            <a:ext cx="4206960" cy="514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13166640" y="9565920"/>
            <a:ext cx="4206960" cy="5144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1C42-7871-464A-A992-6025EE34075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object 2"/>
          <p:cNvSpPr/>
          <p:nvPr/>
        </p:nvSpPr>
        <p:spPr>
          <a:xfrm>
            <a:off x="12803040" y="0"/>
            <a:ext cx="5484960" cy="83977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bject 3"/>
          <p:cNvSpPr/>
          <p:nvPr/>
        </p:nvSpPr>
        <p:spPr>
          <a:xfrm>
            <a:off x="9532800" y="1028880"/>
            <a:ext cx="7724880" cy="92581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object 4"/>
          <p:cNvSpPr/>
          <p:nvPr/>
        </p:nvSpPr>
        <p:spPr>
          <a:xfrm>
            <a:off x="11342520" y="6365880"/>
            <a:ext cx="6945480" cy="392112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object 5"/>
          <p:cNvSpPr/>
          <p:nvPr/>
        </p:nvSpPr>
        <p:spPr>
          <a:xfrm>
            <a:off x="1015920" y="3865680"/>
            <a:ext cx="7134480" cy="481320"/>
          </a:xfrm>
          <a:prstGeom prst="rect">
            <a:avLst/>
          </a:prstGeom>
          <a:noFill/>
          <a:ln w="0">
            <a:noFill/>
          </a:ln>
        </p:spPr>
        <p:style>
          <a:lnRef idx="0"/>
          <a:fillRef idx="0"/>
          <a:effectRef idx="0"/>
          <a:fontRef idx="minor"/>
        </p:style>
        <p:txBody>
          <a:bodyPr lIns="0" rIns="0" tIns="0" bIns="0" anchor="t">
            <a:spAutoFit/>
          </a:bodyPr>
          <a:p>
            <a:pPr marL="12600">
              <a:lnSpc>
                <a:spcPts val="3787"/>
              </a:lnSpc>
              <a:tabLst>
                <a:tab algn="l" pos="0"/>
                <a:tab algn="l" pos="1819440"/>
                <a:tab algn="l" pos="3886200"/>
                <a:tab algn="l" pos="4572000"/>
                <a:tab algn="l" pos="5486400"/>
                <a:tab algn="l" pos="6400800"/>
                <a:tab algn="l" pos="7315200"/>
                <a:tab algn="l" pos="8229600"/>
                <a:tab algn="l" pos="9144000"/>
                <a:tab algn="l" pos="10058400"/>
              </a:tabLst>
            </a:pPr>
            <a:r>
              <a:rPr b="0" lang="en-IN" sz="3200" spc="-1" strike="noStrike">
                <a:solidFill>
                  <a:srgbClr val="ff5656"/>
                </a:solidFill>
                <a:latin typeface="Arial"/>
              </a:rPr>
              <a:t>JEWELS AIRPORT TRANSFERS</a:t>
            </a:r>
            <a:endParaRPr b="0" lang="en-US" sz="3200" spc="-1" strike="noStrike">
              <a:solidFill>
                <a:srgbClr val="000000"/>
              </a:solidFill>
              <a:latin typeface="Calibri"/>
            </a:endParaRPr>
          </a:p>
        </p:txBody>
      </p:sp>
      <p:sp>
        <p:nvSpPr>
          <p:cNvPr id="88" name="object 6"/>
          <p:cNvSpPr/>
          <p:nvPr/>
        </p:nvSpPr>
        <p:spPr>
          <a:xfrm>
            <a:off x="1015920" y="4622760"/>
            <a:ext cx="7134480" cy="2851560"/>
          </a:xfrm>
          <a:prstGeom prst="rect">
            <a:avLst/>
          </a:prstGeom>
          <a:noFill/>
          <a:ln w="0">
            <a:noFill/>
          </a:ln>
        </p:spPr>
        <p:style>
          <a:lnRef idx="0"/>
          <a:fillRef idx="0"/>
          <a:effectRef idx="0"/>
          <a:fontRef idx="minor"/>
        </p:style>
        <p:txBody>
          <a:bodyPr lIns="0" rIns="0" tIns="0" bIns="0" anchor="t">
            <a:spAutoFit/>
          </a:bodyPr>
          <a:p>
            <a:pPr marL="12600">
              <a:lnSpc>
                <a:spcPct val="78000"/>
              </a:lnSpc>
              <a:tabLst>
                <a:tab algn="l" pos="0"/>
                <a:tab algn="l" pos="1366920"/>
                <a:tab algn="l" pos="3060720"/>
                <a:tab algn="l" pos="3400560"/>
                <a:tab algn="l" pos="3738600"/>
                <a:tab algn="l" pos="5772240"/>
                <a:tab algn="l" pos="6400800"/>
                <a:tab algn="l" pos="7315200"/>
                <a:tab algn="l" pos="8229600"/>
                <a:tab algn="l" pos="9144000"/>
                <a:tab algn="l" pos="10058400"/>
              </a:tabLst>
            </a:pPr>
            <a:r>
              <a:rPr b="0" lang="en-US" sz="4800" spc="-1" strike="noStrike">
                <a:solidFill>
                  <a:srgbClr val="050606"/>
                </a:solidFill>
                <a:latin typeface="Arial"/>
              </a:rPr>
              <a:t>TRAVELLER</a:t>
            </a:r>
            <a:r>
              <a:rPr b="0" lang="en-US" sz="4800" spc="-1" strike="noStrike">
                <a:solidFill>
                  <a:srgbClr val="050606"/>
                </a:solidFill>
                <a:latin typeface="Arial"/>
              </a:rPr>
              <a:t>	</a:t>
            </a:r>
            <a:r>
              <a:rPr b="0" lang="en-US" sz="4800" spc="-1" strike="noStrike">
                <a:solidFill>
                  <a:srgbClr val="050606"/>
                </a:solidFill>
                <a:latin typeface="Arial"/>
              </a:rPr>
              <a:t>	</a:t>
            </a:r>
            <a:r>
              <a:rPr b="0" lang="en-US" sz="4800" spc="-1" strike="noStrike">
                <a:solidFill>
                  <a:srgbClr val="050606"/>
                </a:solidFill>
                <a:latin typeface="Arial"/>
              </a:rPr>
              <a:t>CHECKLIST FOR</a:t>
            </a:r>
            <a:r>
              <a:rPr b="0" lang="en-US" sz="4800" spc="-1" strike="noStrike">
                <a:solidFill>
                  <a:srgbClr val="050606"/>
                </a:solidFill>
                <a:latin typeface="Arial"/>
              </a:rPr>
              <a:t>	</a:t>
            </a:r>
            <a:r>
              <a:rPr b="0" lang="en-US" sz="4800" spc="-1" strike="noStrike">
                <a:solidFill>
                  <a:srgbClr val="050606"/>
                </a:solidFill>
                <a:latin typeface="Arial"/>
              </a:rPr>
              <a:t>FLYING</a:t>
            </a:r>
            <a:r>
              <a:rPr b="0" lang="en-US" sz="4800" spc="-1" strike="noStrike">
                <a:solidFill>
                  <a:srgbClr val="050606"/>
                </a:solidFill>
                <a:latin typeface="Arial"/>
              </a:rPr>
              <a:t>	</a:t>
            </a:r>
            <a:r>
              <a:rPr b="0" lang="en-US" sz="4800" spc="-1" strike="noStrike">
                <a:solidFill>
                  <a:srgbClr val="050606"/>
                </a:solidFill>
                <a:latin typeface="Arial"/>
              </a:rPr>
              <a:t>	</a:t>
            </a:r>
            <a:r>
              <a:rPr b="0" lang="en-US" sz="4800" spc="-1" strike="noStrike">
                <a:solidFill>
                  <a:srgbClr val="050606"/>
                </a:solidFill>
                <a:latin typeface="Arial"/>
              </a:rPr>
              <a:t>FROM HEATHROW</a:t>
            </a:r>
            <a:r>
              <a:rPr b="0" lang="en-US" sz="4800" spc="-1" strike="noStrike">
                <a:solidFill>
                  <a:srgbClr val="050606"/>
                </a:solidFill>
                <a:latin typeface="Arial"/>
              </a:rPr>
              <a:t>	</a:t>
            </a:r>
            <a:r>
              <a:rPr b="0" lang="en-US" sz="4800" spc="-1" strike="noStrike">
                <a:solidFill>
                  <a:srgbClr val="050606"/>
                </a:solidFill>
                <a:latin typeface="Arial"/>
              </a:rPr>
              <a:t>AIRPORT</a:t>
            </a:r>
            <a:r>
              <a:rPr b="0" lang="en-US" sz="4800" spc="-1" strike="noStrike">
                <a:solidFill>
                  <a:srgbClr val="050606"/>
                </a:solidFill>
                <a:latin typeface="Arial"/>
              </a:rPr>
              <a:t>	</a:t>
            </a:r>
            <a:r>
              <a:rPr b="0" lang="en-US" sz="4800" spc="-1" strike="noStrike">
                <a:solidFill>
                  <a:srgbClr val="050606"/>
                </a:solidFill>
                <a:latin typeface="Arial"/>
              </a:rPr>
              <a:t>(UK)</a:t>
            </a:r>
            <a:endParaRPr b="0" lang="en-US" sz="4800" spc="-1" strike="noStrike">
              <a:solidFill>
                <a:srgbClr val="000000"/>
              </a:solidFill>
              <a:latin typeface="Calibri"/>
            </a:endParaRPr>
          </a:p>
        </p:txBody>
      </p:sp>
      <p:sp>
        <p:nvSpPr>
          <p:cNvPr id="89" name="object 7"/>
          <p:cNvSpPr/>
          <p:nvPr/>
        </p:nvSpPr>
        <p:spPr>
          <a:xfrm>
            <a:off x="12190320" y="7956720"/>
            <a:ext cx="8780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Book</a:t>
            </a:r>
            <a:endParaRPr b="0" lang="en-US" sz="2800" spc="-1" strike="noStrike">
              <a:solidFill>
                <a:srgbClr val="000000"/>
              </a:solidFill>
              <a:latin typeface="Calibri"/>
            </a:endParaRPr>
          </a:p>
        </p:txBody>
      </p:sp>
      <p:sp>
        <p:nvSpPr>
          <p:cNvPr id="90" name="object 8"/>
          <p:cNvSpPr/>
          <p:nvPr/>
        </p:nvSpPr>
        <p:spPr>
          <a:xfrm>
            <a:off x="13285800" y="7956720"/>
            <a:ext cx="153360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Airport</a:t>
            </a:r>
            <a:endParaRPr b="0" lang="en-US" sz="2800" spc="-1" strike="noStrike">
              <a:solidFill>
                <a:srgbClr val="000000"/>
              </a:solidFill>
              <a:latin typeface="Calibri"/>
            </a:endParaRPr>
          </a:p>
        </p:txBody>
      </p:sp>
      <p:sp>
        <p:nvSpPr>
          <p:cNvPr id="91" name="object 9"/>
          <p:cNvSpPr/>
          <p:nvPr/>
        </p:nvSpPr>
        <p:spPr>
          <a:xfrm>
            <a:off x="15036840" y="7956720"/>
            <a:ext cx="19717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Transfers</a:t>
            </a:r>
            <a:endParaRPr b="0" lang="en-US" sz="2800" spc="-1" strike="noStrike">
              <a:solidFill>
                <a:srgbClr val="000000"/>
              </a:solidFill>
              <a:latin typeface="Calibri"/>
            </a:endParaRPr>
          </a:p>
        </p:txBody>
      </p:sp>
      <p:sp>
        <p:nvSpPr>
          <p:cNvPr id="92" name="object 10"/>
          <p:cNvSpPr/>
          <p:nvPr/>
        </p:nvSpPr>
        <p:spPr>
          <a:xfrm>
            <a:off x="12190320" y="8451720"/>
            <a:ext cx="2409840" cy="853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98288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Services</a:t>
            </a:r>
            <a:r>
              <a:rPr b="0" lang="de-DE" sz="2800" spc="-1" strike="noStrike">
                <a:solidFill>
                  <a:srgbClr val="050606"/>
                </a:solidFill>
                <a:latin typeface="Arial"/>
              </a:rPr>
              <a:t>	</a:t>
            </a:r>
            <a:r>
              <a:rPr b="0" lang="de-DE" sz="2800" spc="-1" strike="noStrike">
                <a:solidFill>
                  <a:srgbClr val="050606"/>
                </a:solidFill>
                <a:latin typeface="Arial"/>
              </a:rPr>
              <a:t>UK</a:t>
            </a:r>
            <a:endParaRPr b="0" lang="en-US" sz="2800" spc="-1" strike="noStrike">
              <a:solidFill>
                <a:srgbClr val="000000"/>
              </a:solidFill>
              <a:latin typeface="Calibri"/>
            </a:endParaRPr>
          </a:p>
        </p:txBody>
      </p:sp>
      <p:sp>
        <p:nvSpPr>
          <p:cNvPr id="93" name="object 11"/>
          <p:cNvSpPr/>
          <p:nvPr/>
        </p:nvSpPr>
        <p:spPr>
          <a:xfrm>
            <a:off x="15063840" y="4492800"/>
            <a:ext cx="3224160" cy="375264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bject 12"/>
          <p:cNvSpPr/>
          <p:nvPr/>
        </p:nvSpPr>
        <p:spPr>
          <a:xfrm>
            <a:off x="9628200" y="9879120"/>
            <a:ext cx="2124000" cy="407880"/>
          </a:xfrm>
          <a:custGeom>
            <a:avLst/>
            <a:gdLst/>
            <a:ahLst/>
            <a:rect l="l" t="t" r="r" b="b"/>
            <a:pathLst>
              <a:path w="2124075" h="408304">
                <a:moveTo>
                  <a:pt x="814052" y="125894"/>
                </a:moveTo>
                <a:lnTo>
                  <a:pt x="773059" y="136589"/>
                </a:lnTo>
                <a:lnTo>
                  <a:pt x="740923" y="157544"/>
                </a:lnTo>
                <a:lnTo>
                  <a:pt x="718724" y="177865"/>
                </a:lnTo>
                <a:lnTo>
                  <a:pt x="709389" y="186680"/>
                </a:lnTo>
                <a:lnTo>
                  <a:pt x="662172" y="259782"/>
                </a:lnTo>
                <a:lnTo>
                  <a:pt x="607553" y="354040"/>
                </a:lnTo>
                <a:lnTo>
                  <a:pt x="576836" y="407708"/>
                </a:lnTo>
                <a:lnTo>
                  <a:pt x="693103" y="407708"/>
                </a:lnTo>
                <a:lnTo>
                  <a:pt x="699438" y="397273"/>
                </a:lnTo>
                <a:lnTo>
                  <a:pt x="705897" y="386909"/>
                </a:lnTo>
                <a:lnTo>
                  <a:pt x="726665" y="354874"/>
                </a:lnTo>
                <a:lnTo>
                  <a:pt x="756819" y="309891"/>
                </a:lnTo>
                <a:lnTo>
                  <a:pt x="787917" y="271031"/>
                </a:lnTo>
                <a:lnTo>
                  <a:pt x="817227" y="246365"/>
                </a:lnTo>
                <a:lnTo>
                  <a:pt x="854493" y="227197"/>
                </a:lnTo>
                <a:lnTo>
                  <a:pt x="940802" y="227197"/>
                </a:lnTo>
                <a:lnTo>
                  <a:pt x="939050" y="223568"/>
                </a:lnTo>
                <a:lnTo>
                  <a:pt x="910237" y="180262"/>
                </a:lnTo>
                <a:lnTo>
                  <a:pt x="882037" y="152282"/>
                </a:lnTo>
                <a:lnTo>
                  <a:pt x="843668" y="130354"/>
                </a:lnTo>
                <a:lnTo>
                  <a:pt x="824019" y="126214"/>
                </a:lnTo>
                <a:lnTo>
                  <a:pt x="814052" y="125894"/>
                </a:lnTo>
                <a:close/>
              </a:path>
              <a:path w="2124075" h="408304">
                <a:moveTo>
                  <a:pt x="940802" y="227197"/>
                </a:moveTo>
                <a:lnTo>
                  <a:pt x="854493" y="227197"/>
                </a:lnTo>
                <a:lnTo>
                  <a:pt x="857470" y="238566"/>
                </a:lnTo>
                <a:lnTo>
                  <a:pt x="863435" y="261257"/>
                </a:lnTo>
                <a:lnTo>
                  <a:pt x="866470" y="272877"/>
                </a:lnTo>
                <a:lnTo>
                  <a:pt x="875937" y="310134"/>
                </a:lnTo>
                <a:lnTo>
                  <a:pt x="882682" y="338058"/>
                </a:lnTo>
                <a:lnTo>
                  <a:pt x="885763" y="350079"/>
                </a:lnTo>
                <a:lnTo>
                  <a:pt x="888831" y="362125"/>
                </a:lnTo>
                <a:lnTo>
                  <a:pt x="891894" y="374196"/>
                </a:lnTo>
                <a:lnTo>
                  <a:pt x="900372" y="407708"/>
                </a:lnTo>
                <a:lnTo>
                  <a:pt x="997138" y="407708"/>
                </a:lnTo>
                <a:lnTo>
                  <a:pt x="988497" y="369770"/>
                </a:lnTo>
                <a:lnTo>
                  <a:pt x="978331" y="332346"/>
                </a:lnTo>
                <a:lnTo>
                  <a:pt x="967088" y="295500"/>
                </a:lnTo>
                <a:lnTo>
                  <a:pt x="954442" y="258701"/>
                </a:lnTo>
                <a:lnTo>
                  <a:pt x="944569" y="234995"/>
                </a:lnTo>
                <a:lnTo>
                  <a:pt x="940802" y="227197"/>
                </a:lnTo>
                <a:close/>
              </a:path>
              <a:path w="2124075" h="408304">
                <a:moveTo>
                  <a:pt x="234438" y="121028"/>
                </a:moveTo>
                <a:lnTo>
                  <a:pt x="187721" y="133526"/>
                </a:lnTo>
                <a:lnTo>
                  <a:pt x="154974" y="158690"/>
                </a:lnTo>
                <a:lnTo>
                  <a:pt x="127884" y="186199"/>
                </a:lnTo>
                <a:lnTo>
                  <a:pt x="103834" y="215964"/>
                </a:lnTo>
                <a:lnTo>
                  <a:pt x="82227" y="247464"/>
                </a:lnTo>
                <a:lnTo>
                  <a:pt x="62467" y="280176"/>
                </a:lnTo>
                <a:lnTo>
                  <a:pt x="43959" y="313582"/>
                </a:lnTo>
                <a:lnTo>
                  <a:pt x="17524" y="366430"/>
                </a:lnTo>
                <a:lnTo>
                  <a:pt x="0" y="407708"/>
                </a:lnTo>
                <a:lnTo>
                  <a:pt x="115984" y="407708"/>
                </a:lnTo>
                <a:lnTo>
                  <a:pt x="140847" y="363347"/>
                </a:lnTo>
                <a:lnTo>
                  <a:pt x="147700" y="350967"/>
                </a:lnTo>
                <a:lnTo>
                  <a:pt x="154349" y="340117"/>
                </a:lnTo>
                <a:lnTo>
                  <a:pt x="184179" y="299576"/>
                </a:lnTo>
                <a:lnTo>
                  <a:pt x="219940" y="263752"/>
                </a:lnTo>
                <a:lnTo>
                  <a:pt x="251261" y="240095"/>
                </a:lnTo>
                <a:lnTo>
                  <a:pt x="274520" y="225896"/>
                </a:lnTo>
                <a:lnTo>
                  <a:pt x="371003" y="225896"/>
                </a:lnTo>
                <a:lnTo>
                  <a:pt x="366507" y="218217"/>
                </a:lnTo>
                <a:lnTo>
                  <a:pt x="336002" y="178184"/>
                </a:lnTo>
                <a:lnTo>
                  <a:pt x="306708" y="152510"/>
                </a:lnTo>
                <a:lnTo>
                  <a:pt x="270756" y="131406"/>
                </a:lnTo>
                <a:lnTo>
                  <a:pt x="245727" y="122483"/>
                </a:lnTo>
                <a:lnTo>
                  <a:pt x="234438" y="121028"/>
                </a:lnTo>
                <a:close/>
              </a:path>
              <a:path w="2124075" h="408304">
                <a:moveTo>
                  <a:pt x="371003" y="225896"/>
                </a:moveTo>
                <a:lnTo>
                  <a:pt x="274520" y="225896"/>
                </a:lnTo>
                <a:lnTo>
                  <a:pt x="279628" y="237781"/>
                </a:lnTo>
                <a:lnTo>
                  <a:pt x="289761" y="260756"/>
                </a:lnTo>
                <a:lnTo>
                  <a:pt x="294656" y="272120"/>
                </a:lnTo>
                <a:lnTo>
                  <a:pt x="311609" y="319939"/>
                </a:lnTo>
                <a:lnTo>
                  <a:pt x="323907" y="367159"/>
                </a:lnTo>
                <a:lnTo>
                  <a:pt x="334221" y="407708"/>
                </a:lnTo>
                <a:lnTo>
                  <a:pt x="432935" y="407708"/>
                </a:lnTo>
                <a:lnTo>
                  <a:pt x="430518" y="398333"/>
                </a:lnTo>
                <a:lnTo>
                  <a:pt x="424481" y="374552"/>
                </a:lnTo>
                <a:lnTo>
                  <a:pt x="421397" y="362554"/>
                </a:lnTo>
                <a:lnTo>
                  <a:pt x="407629" y="313711"/>
                </a:lnTo>
                <a:lnTo>
                  <a:pt x="394593" y="276028"/>
                </a:lnTo>
                <a:lnTo>
                  <a:pt x="378789" y="240216"/>
                </a:lnTo>
                <a:lnTo>
                  <a:pt x="372864" y="229075"/>
                </a:lnTo>
                <a:lnTo>
                  <a:pt x="371003" y="225896"/>
                </a:lnTo>
                <a:close/>
              </a:path>
              <a:path w="2124075" h="408304">
                <a:moveTo>
                  <a:pt x="1365520" y="94443"/>
                </a:moveTo>
                <a:lnTo>
                  <a:pt x="1320435" y="111030"/>
                </a:lnTo>
                <a:lnTo>
                  <a:pt x="1281979" y="144458"/>
                </a:lnTo>
                <a:lnTo>
                  <a:pt x="1246259" y="179309"/>
                </a:lnTo>
                <a:lnTo>
                  <a:pt x="1219757" y="208928"/>
                </a:lnTo>
                <a:lnTo>
                  <a:pt x="1195264" y="241310"/>
                </a:lnTo>
                <a:lnTo>
                  <a:pt x="1167457" y="283654"/>
                </a:lnTo>
                <a:lnTo>
                  <a:pt x="1147497" y="316235"/>
                </a:lnTo>
                <a:lnTo>
                  <a:pt x="1128028" y="349207"/>
                </a:lnTo>
                <a:lnTo>
                  <a:pt x="1095989" y="404254"/>
                </a:lnTo>
                <a:lnTo>
                  <a:pt x="1093957" y="407708"/>
                </a:lnTo>
                <a:lnTo>
                  <a:pt x="1218296" y="407708"/>
                </a:lnTo>
                <a:lnTo>
                  <a:pt x="1218911" y="406621"/>
                </a:lnTo>
                <a:lnTo>
                  <a:pt x="1226585" y="393455"/>
                </a:lnTo>
                <a:lnTo>
                  <a:pt x="1250934" y="353993"/>
                </a:lnTo>
                <a:lnTo>
                  <a:pt x="1277380" y="314443"/>
                </a:lnTo>
                <a:lnTo>
                  <a:pt x="1304470" y="278206"/>
                </a:lnTo>
                <a:lnTo>
                  <a:pt x="1330658" y="250520"/>
                </a:lnTo>
                <a:lnTo>
                  <a:pt x="1376465" y="206531"/>
                </a:lnTo>
                <a:lnTo>
                  <a:pt x="1385515" y="197622"/>
                </a:lnTo>
                <a:lnTo>
                  <a:pt x="1480865" y="197622"/>
                </a:lnTo>
                <a:lnTo>
                  <a:pt x="1480691" y="197211"/>
                </a:lnTo>
                <a:lnTo>
                  <a:pt x="1454076" y="154164"/>
                </a:lnTo>
                <a:lnTo>
                  <a:pt x="1426879" y="123925"/>
                </a:lnTo>
                <a:lnTo>
                  <a:pt x="1386536" y="97351"/>
                </a:lnTo>
                <a:lnTo>
                  <a:pt x="1376143" y="95023"/>
                </a:lnTo>
                <a:lnTo>
                  <a:pt x="1365520" y="94443"/>
                </a:lnTo>
                <a:close/>
              </a:path>
              <a:path w="2124075" h="408304">
                <a:moveTo>
                  <a:pt x="1480865" y="197622"/>
                </a:moveTo>
                <a:lnTo>
                  <a:pt x="1385515" y="197622"/>
                </a:lnTo>
                <a:lnTo>
                  <a:pt x="1389935" y="199110"/>
                </a:lnTo>
                <a:lnTo>
                  <a:pt x="1392891" y="202063"/>
                </a:lnTo>
                <a:lnTo>
                  <a:pt x="1406867" y="245206"/>
                </a:lnTo>
                <a:lnTo>
                  <a:pt x="1411502" y="285437"/>
                </a:lnTo>
                <a:lnTo>
                  <a:pt x="1418242" y="349443"/>
                </a:lnTo>
                <a:lnTo>
                  <a:pt x="1420639" y="372362"/>
                </a:lnTo>
                <a:lnTo>
                  <a:pt x="1421980" y="385059"/>
                </a:lnTo>
                <a:lnTo>
                  <a:pt x="1423348" y="397866"/>
                </a:lnTo>
                <a:lnTo>
                  <a:pt x="1424413" y="407708"/>
                </a:lnTo>
                <a:lnTo>
                  <a:pt x="1519071" y="407708"/>
                </a:lnTo>
                <a:lnTo>
                  <a:pt x="1517996" y="400474"/>
                </a:lnTo>
                <a:lnTo>
                  <a:pt x="1516122" y="387783"/>
                </a:lnTo>
                <a:lnTo>
                  <a:pt x="1510527" y="349443"/>
                </a:lnTo>
                <a:lnTo>
                  <a:pt x="1504937" y="310657"/>
                </a:lnTo>
                <a:lnTo>
                  <a:pt x="1495502" y="244852"/>
                </a:lnTo>
                <a:lnTo>
                  <a:pt x="1492952" y="232423"/>
                </a:lnTo>
                <a:lnTo>
                  <a:pt x="1489625" y="220357"/>
                </a:lnTo>
                <a:lnTo>
                  <a:pt x="1485534" y="208628"/>
                </a:lnTo>
                <a:lnTo>
                  <a:pt x="1480865" y="197622"/>
                </a:lnTo>
                <a:close/>
              </a:path>
              <a:path w="2124075" h="408304">
                <a:moveTo>
                  <a:pt x="1982688" y="0"/>
                </a:moveTo>
                <a:lnTo>
                  <a:pt x="1931523" y="9594"/>
                </a:lnTo>
                <a:lnTo>
                  <a:pt x="1893677" y="27550"/>
                </a:lnTo>
                <a:lnTo>
                  <a:pt x="1861863" y="49424"/>
                </a:lnTo>
                <a:lnTo>
                  <a:pt x="1833161" y="74880"/>
                </a:lnTo>
                <a:lnTo>
                  <a:pt x="1807120" y="103153"/>
                </a:lnTo>
                <a:lnTo>
                  <a:pt x="1783287" y="133479"/>
                </a:lnTo>
                <a:lnTo>
                  <a:pt x="1761212" y="165094"/>
                </a:lnTo>
                <a:lnTo>
                  <a:pt x="1734273" y="207316"/>
                </a:lnTo>
                <a:lnTo>
                  <a:pt x="1707869" y="250160"/>
                </a:lnTo>
                <a:lnTo>
                  <a:pt x="1673030" y="308294"/>
                </a:lnTo>
                <a:lnTo>
                  <a:pt x="1614389" y="407708"/>
                </a:lnTo>
                <a:lnTo>
                  <a:pt x="1729083" y="407708"/>
                </a:lnTo>
                <a:lnTo>
                  <a:pt x="1730391" y="405135"/>
                </a:lnTo>
                <a:lnTo>
                  <a:pt x="1736672" y="393836"/>
                </a:lnTo>
                <a:lnTo>
                  <a:pt x="1743488" y="382767"/>
                </a:lnTo>
                <a:lnTo>
                  <a:pt x="1750929" y="371979"/>
                </a:lnTo>
                <a:lnTo>
                  <a:pt x="1759084" y="361523"/>
                </a:lnTo>
                <a:lnTo>
                  <a:pt x="1766784" y="351372"/>
                </a:lnTo>
                <a:lnTo>
                  <a:pt x="1787680" y="319493"/>
                </a:lnTo>
                <a:lnTo>
                  <a:pt x="1813067" y="275414"/>
                </a:lnTo>
                <a:lnTo>
                  <a:pt x="1819450" y="264427"/>
                </a:lnTo>
                <a:lnTo>
                  <a:pt x="1847270" y="222013"/>
                </a:lnTo>
                <a:lnTo>
                  <a:pt x="1872544" y="193131"/>
                </a:lnTo>
                <a:lnTo>
                  <a:pt x="1892567" y="175975"/>
                </a:lnTo>
                <a:lnTo>
                  <a:pt x="1901128" y="168834"/>
                </a:lnTo>
                <a:lnTo>
                  <a:pt x="1938423" y="137443"/>
                </a:lnTo>
                <a:lnTo>
                  <a:pt x="1976417" y="116081"/>
                </a:lnTo>
                <a:lnTo>
                  <a:pt x="1987476" y="113429"/>
                </a:lnTo>
                <a:lnTo>
                  <a:pt x="2081650" y="113429"/>
                </a:lnTo>
                <a:lnTo>
                  <a:pt x="2079649" y="107297"/>
                </a:lnTo>
                <a:lnTo>
                  <a:pt x="2065929" y="70660"/>
                </a:lnTo>
                <a:lnTo>
                  <a:pt x="2047153" y="35709"/>
                </a:lnTo>
                <a:lnTo>
                  <a:pt x="2013852" y="7026"/>
                </a:lnTo>
                <a:lnTo>
                  <a:pt x="1993718" y="976"/>
                </a:lnTo>
                <a:lnTo>
                  <a:pt x="1982688" y="0"/>
                </a:lnTo>
                <a:close/>
              </a:path>
              <a:path w="2124075" h="408304">
                <a:moveTo>
                  <a:pt x="2081650" y="113429"/>
                </a:moveTo>
                <a:lnTo>
                  <a:pt x="1987476" y="113429"/>
                </a:lnTo>
                <a:lnTo>
                  <a:pt x="1996584" y="113764"/>
                </a:lnTo>
                <a:lnTo>
                  <a:pt x="2003949" y="117182"/>
                </a:lnTo>
                <a:lnTo>
                  <a:pt x="2009774" y="123780"/>
                </a:lnTo>
                <a:lnTo>
                  <a:pt x="2014267" y="133655"/>
                </a:lnTo>
                <a:lnTo>
                  <a:pt x="2017633" y="146902"/>
                </a:lnTo>
                <a:lnTo>
                  <a:pt x="2020078" y="163618"/>
                </a:lnTo>
                <a:lnTo>
                  <a:pt x="2020078" y="173964"/>
                </a:lnTo>
                <a:lnTo>
                  <a:pt x="2021990" y="193493"/>
                </a:lnTo>
                <a:lnTo>
                  <a:pt x="2023768" y="213042"/>
                </a:lnTo>
                <a:lnTo>
                  <a:pt x="2025453" y="232608"/>
                </a:lnTo>
                <a:lnTo>
                  <a:pt x="2027089" y="252188"/>
                </a:lnTo>
                <a:lnTo>
                  <a:pt x="2028717" y="271780"/>
                </a:lnTo>
                <a:lnTo>
                  <a:pt x="2030381" y="291381"/>
                </a:lnTo>
                <a:lnTo>
                  <a:pt x="2033983" y="330601"/>
                </a:lnTo>
                <a:lnTo>
                  <a:pt x="2038235" y="369828"/>
                </a:lnTo>
                <a:lnTo>
                  <a:pt x="2043288" y="407708"/>
                </a:lnTo>
                <a:lnTo>
                  <a:pt x="2124084" y="407708"/>
                </a:lnTo>
                <a:lnTo>
                  <a:pt x="2122987" y="396911"/>
                </a:lnTo>
                <a:lnTo>
                  <a:pt x="2121291" y="378948"/>
                </a:lnTo>
                <a:lnTo>
                  <a:pt x="2116688" y="324246"/>
                </a:lnTo>
                <a:lnTo>
                  <a:pt x="2112352" y="268225"/>
                </a:lnTo>
                <a:lnTo>
                  <a:pt x="2111124" y="255621"/>
                </a:lnTo>
                <a:lnTo>
                  <a:pt x="2104293" y="205669"/>
                </a:lnTo>
                <a:lnTo>
                  <a:pt x="2093983" y="156298"/>
                </a:lnTo>
                <a:lnTo>
                  <a:pt x="2083639" y="119524"/>
                </a:lnTo>
                <a:lnTo>
                  <a:pt x="2081650"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object 2"/>
          <p:cNvSpPr/>
          <p:nvPr/>
        </p:nvSpPr>
        <p:spPr>
          <a:xfrm>
            <a:off x="1814400" y="1373040"/>
            <a:ext cx="5577120" cy="6392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5. SECURITY</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MEASUREMENTS</a:t>
            </a:r>
            <a:r>
              <a:rPr b="1" lang="en-US" sz="7000" spc="-1" strike="noStrike">
                <a:solidFill>
                  <a:srgbClr val="050606"/>
                </a:solidFill>
                <a:latin typeface="Arial"/>
              </a:rPr>
              <a:t>	</a:t>
            </a:r>
            <a:r>
              <a:rPr b="1" lang="en-US" sz="7000" spc="-1" strike="noStrike">
                <a:solidFill>
                  <a:srgbClr val="050606"/>
                </a:solidFill>
                <a:latin typeface="Arial"/>
              </a:rPr>
              <a:t>AT</a:t>
            </a:r>
            <a:r>
              <a:rPr b="1" lang="en-US" sz="7000" spc="-1" strike="noStrike">
                <a:solidFill>
                  <a:srgbClr val="050606"/>
                </a:solidFill>
                <a:latin typeface="Arial"/>
              </a:rPr>
              <a:t>	</a:t>
            </a:r>
            <a:r>
              <a:rPr b="1" lang="en-US" sz="7000" spc="-1" strike="noStrike">
                <a:solidFill>
                  <a:srgbClr val="050606"/>
                </a:solidFill>
                <a:latin typeface="Arial"/>
              </a:rPr>
              <a:t>THE AIRPORT</a:t>
            </a:r>
            <a:endParaRPr b="0" lang="en-US" sz="7000" spc="-1" strike="noStrike">
              <a:solidFill>
                <a:srgbClr val="000000"/>
              </a:solidFill>
              <a:latin typeface="Calibri"/>
            </a:endParaRPr>
          </a:p>
          <a:p>
            <a:pPr marL="12600">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18" name="object 30"/>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bject 31"/>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bject 32"/>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bject 33"/>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bject 34"/>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3" name="object 35"/>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36"/>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5" name="object 37"/>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8"/>
          <p:cNvSpPr/>
          <p:nvPr/>
        </p:nvSpPr>
        <p:spPr>
          <a:xfrm>
            <a:off x="9137520" y="1533600"/>
            <a:ext cx="91440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If you’re carrying a suitcase, it will be checked as soon as you enter the airpor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Head to check-in desk that is located near the entrance of the airport for bag chec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After bag checking, follow the signs for other security check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Your bag, electronic items or any liquid that you’re carrying will be checke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Be ready to remove your clothes or jewellery, as the staff can ask for it due to security measuremen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Make sure all your devices are fully charged because if they’re not, you’ll not be allowed to take them with yo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object 2"/>
          <p:cNvSpPr/>
          <p:nvPr/>
        </p:nvSpPr>
        <p:spPr>
          <a:xfrm>
            <a:off x="0" y="1257480"/>
            <a:ext cx="2017800" cy="9029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bject 3"/>
          <p:cNvSpPr/>
          <p:nvPr/>
        </p:nvSpPr>
        <p:spPr>
          <a:xfrm>
            <a:off x="0" y="0"/>
            <a:ext cx="4048200" cy="51436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230" name="object 5"/>
          <p:cNvSpPr/>
          <p:nvPr/>
        </p:nvSpPr>
        <p:spPr>
          <a:xfrm>
            <a:off x="8570880" y="6404040"/>
            <a:ext cx="1592280" cy="1349640"/>
          </a:xfrm>
          <a:prstGeom prst="rect">
            <a:avLst/>
          </a:prstGeom>
          <a:noFill/>
          <a:ln w="0">
            <a:noFill/>
          </a:ln>
        </p:spPr>
        <p:style>
          <a:lnRef idx="0"/>
          <a:fillRef idx="0"/>
          <a:effectRef idx="0"/>
          <a:fontRef idx="minor"/>
        </p:style>
        <p:txBody>
          <a:bodyPr lIns="0" rIns="0" tIns="0" bIns="0" anchor="t">
            <a:spAutoFit/>
          </a:bodyPr>
          <a:p>
            <a:pPr marL="12600" indent="262080">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Check before</a:t>
            </a:r>
            <a:endParaRPr b="0" lang="en-US" sz="3600" spc="-1" strike="noStrike">
              <a:solidFill>
                <a:srgbClr val="000000"/>
              </a:solidFill>
              <a:latin typeface="Calibri"/>
            </a:endParaRPr>
          </a:p>
        </p:txBody>
      </p:sp>
      <p:sp>
        <p:nvSpPr>
          <p:cNvPr id="231" name="object 6"/>
          <p:cNvSpPr/>
          <p:nvPr/>
        </p:nvSpPr>
        <p:spPr>
          <a:xfrm>
            <a:off x="10414080" y="6404040"/>
            <a:ext cx="26445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weight</a:t>
            </a:r>
            <a:endParaRPr b="0" lang="en-US" sz="3600" spc="-1" strike="noStrike">
              <a:solidFill>
                <a:srgbClr val="000000"/>
              </a:solidFill>
              <a:latin typeface="Calibri"/>
            </a:endParaRPr>
          </a:p>
        </p:txBody>
      </p:sp>
      <p:sp>
        <p:nvSpPr>
          <p:cNvPr id="232" name="object 7"/>
          <p:cNvSpPr/>
          <p:nvPr/>
        </p:nvSpPr>
        <p:spPr>
          <a:xfrm>
            <a:off x="13309560" y="6404040"/>
            <a:ext cx="18558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of</a:t>
            </a:r>
            <a:r>
              <a:rPr b="0" lang="de-DE" sz="3600" spc="-1" strike="noStrike">
                <a:solidFill>
                  <a:srgbClr val="050606"/>
                </a:solidFill>
                <a:latin typeface="Arial"/>
              </a:rPr>
              <a:t>	</a:t>
            </a:r>
            <a:r>
              <a:rPr b="0" lang="de-DE" sz="3600" spc="-1" strike="noStrike">
                <a:solidFill>
                  <a:srgbClr val="050606"/>
                </a:solidFill>
                <a:latin typeface="Arial"/>
              </a:rPr>
              <a:t>your</a:t>
            </a:r>
            <a:endParaRPr b="0" lang="en-US" sz="3600" spc="-1" strike="noStrike">
              <a:solidFill>
                <a:srgbClr val="000000"/>
              </a:solidFill>
              <a:latin typeface="Calibri"/>
            </a:endParaRPr>
          </a:p>
        </p:txBody>
      </p:sp>
      <p:sp>
        <p:nvSpPr>
          <p:cNvPr id="233" name="object 8"/>
          <p:cNvSpPr/>
          <p:nvPr/>
        </p:nvSpPr>
        <p:spPr>
          <a:xfrm>
            <a:off x="15416280" y="6404040"/>
            <a:ext cx="18540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luggage</a:t>
            </a:r>
            <a:endParaRPr b="0" lang="en-US" sz="3600" spc="-1" strike="noStrike">
              <a:solidFill>
                <a:srgbClr val="000000"/>
              </a:solidFill>
              <a:latin typeface="Calibri"/>
            </a:endParaRPr>
          </a:p>
        </p:txBody>
      </p:sp>
      <p:sp>
        <p:nvSpPr>
          <p:cNvPr id="234" name="object 9"/>
          <p:cNvSpPr/>
          <p:nvPr/>
        </p:nvSpPr>
        <p:spPr>
          <a:xfrm>
            <a:off x="10414080" y="7080120"/>
            <a:ext cx="4224240" cy="2024280"/>
          </a:xfrm>
          <a:prstGeom prst="rect">
            <a:avLst/>
          </a:prstGeom>
          <a:noFill/>
          <a:ln w="0">
            <a:noFill/>
          </a:ln>
        </p:spPr>
        <p:style>
          <a:lnRef idx="0"/>
          <a:fillRef idx="0"/>
          <a:effectRef idx="0"/>
          <a:fontRef idx="minor"/>
        </p:style>
        <p:txBody>
          <a:bodyPr lIns="0" rIns="0" tIns="0" bIns="0" anchor="t">
            <a:spAutoFit/>
          </a:bodyPr>
          <a:p>
            <a:pPr marL="538200" indent="-527040">
              <a:lnSpc>
                <a:spcPct val="123000"/>
              </a:lnSpc>
              <a:tabLst>
                <a:tab algn="l" pos="0"/>
                <a:tab algn="l" pos="2117880"/>
                <a:tab algn="l" pos="2644920"/>
                <a:tab algn="l" pos="290844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leaving</a:t>
            </a:r>
            <a:r>
              <a:rPr b="0" lang="en-US" sz="3600" spc="-1" strike="noStrike">
                <a:solidFill>
                  <a:srgbClr val="050606"/>
                </a:solidFill>
                <a:latin typeface="Arial"/>
              </a:rPr>
              <a:t>	</a:t>
            </a:r>
            <a:r>
              <a:rPr b="0" lang="en-US" sz="3600" spc="-1" strike="noStrike">
                <a:solidFill>
                  <a:srgbClr val="050606"/>
                </a:solidFill>
                <a:latin typeface="Arial"/>
              </a:rPr>
              <a:t>to</a:t>
            </a:r>
            <a:r>
              <a:rPr b="0" lang="en-US" sz="3600" spc="-1" strike="noStrike">
                <a:solidFill>
                  <a:srgbClr val="050606"/>
                </a:solidFill>
                <a:latin typeface="Arial"/>
              </a:rPr>
              <a:t>	</a:t>
            </a:r>
            <a:r>
              <a:rPr b="0" lang="en-US" sz="3600" spc="-1" strike="noStrike">
                <a:solidFill>
                  <a:srgbClr val="050606"/>
                </a:solidFill>
                <a:latin typeface="Arial"/>
              </a:rPr>
              <a:t>	</a:t>
            </a:r>
            <a:r>
              <a:rPr b="0" lang="en-US" sz="3600" spc="-1" strike="noStrike">
                <a:solidFill>
                  <a:srgbClr val="050606"/>
                </a:solidFill>
                <a:latin typeface="Arial"/>
              </a:rPr>
              <a:t>avoid packing</a:t>
            </a:r>
            <a:r>
              <a:rPr b="0" lang="en-US" sz="3600" spc="-1" strike="noStrike">
                <a:solidFill>
                  <a:srgbClr val="050606"/>
                </a:solidFill>
                <a:latin typeface="Arial"/>
              </a:rPr>
              <a:t>	</a:t>
            </a:r>
            <a:r>
              <a:rPr b="0" lang="en-US" sz="3600" spc="-1" strike="noStrike">
                <a:solidFill>
                  <a:srgbClr val="050606"/>
                </a:solidFill>
                <a:latin typeface="Arial"/>
              </a:rPr>
              <a:t>during</a:t>
            </a:r>
            <a:endParaRPr b="0" lang="en-US" sz="3600" spc="-1" strike="noStrike">
              <a:solidFill>
                <a:srgbClr val="000000"/>
              </a:solidFill>
              <a:latin typeface="Calibri"/>
            </a:endParaRPr>
          </a:p>
        </p:txBody>
      </p:sp>
      <p:sp>
        <p:nvSpPr>
          <p:cNvPr id="235" name="object 10"/>
          <p:cNvSpPr/>
          <p:nvPr/>
        </p:nvSpPr>
        <p:spPr>
          <a:xfrm>
            <a:off x="14889240" y="7080120"/>
            <a:ext cx="2382840" cy="1349640"/>
          </a:xfrm>
          <a:prstGeom prst="rect">
            <a:avLst/>
          </a:prstGeom>
          <a:noFill/>
          <a:ln w="0">
            <a:noFill/>
          </a:ln>
        </p:spPr>
        <p:style>
          <a:lnRef idx="0"/>
          <a:fillRef idx="0"/>
          <a:effectRef idx="0"/>
          <a:fontRef idx="minor"/>
        </p:style>
        <p:txBody>
          <a:bodyPr lIns="0" rIns="0" tIns="0" bIns="0" anchor="t">
            <a:spAutoFit/>
          </a:bodyPr>
          <a:p>
            <a:pPr marL="12600">
              <a:lnSpc>
                <a:spcPct val="123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any</a:t>
            </a:r>
            <a:r>
              <a:rPr b="0" lang="en-US" sz="3600" spc="-1" strike="noStrike">
                <a:solidFill>
                  <a:srgbClr val="050606"/>
                </a:solidFill>
                <a:latin typeface="Arial"/>
              </a:rPr>
              <a:t>	</a:t>
            </a:r>
            <a:r>
              <a:rPr b="0" lang="en-US" sz="3600" spc="-1" strike="noStrike">
                <a:solidFill>
                  <a:srgbClr val="050606"/>
                </a:solidFill>
                <a:latin typeface="Arial"/>
              </a:rPr>
              <a:t>extra checking.</a:t>
            </a:r>
            <a:endParaRPr b="0" lang="en-US" sz="3600" spc="-1" strike="noStrike">
              <a:solidFill>
                <a:srgbClr val="000000"/>
              </a:solidFill>
              <a:latin typeface="Calibri"/>
            </a:endParaRPr>
          </a:p>
        </p:txBody>
      </p:sp>
      <p:sp>
        <p:nvSpPr>
          <p:cNvPr id="236" name="object 11"/>
          <p:cNvSpPr/>
          <p:nvPr/>
        </p:nvSpPr>
        <p:spPr>
          <a:xfrm>
            <a:off x="11553840" y="9024840"/>
            <a:ext cx="14256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JEWELS</a:t>
            </a:r>
            <a:endParaRPr b="0" lang="en-US" sz="3000" spc="-1" strike="noStrike">
              <a:solidFill>
                <a:srgbClr val="000000"/>
              </a:solidFill>
              <a:latin typeface="Calibri"/>
            </a:endParaRPr>
          </a:p>
        </p:txBody>
      </p:sp>
      <p:sp>
        <p:nvSpPr>
          <p:cNvPr id="237" name="object 12"/>
          <p:cNvSpPr/>
          <p:nvPr/>
        </p:nvSpPr>
        <p:spPr>
          <a:xfrm>
            <a:off x="13222440" y="9024840"/>
            <a:ext cx="16650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AIRPORT</a:t>
            </a:r>
            <a:endParaRPr b="0" lang="en-US" sz="3000" spc="-1" strike="noStrike">
              <a:solidFill>
                <a:srgbClr val="000000"/>
              </a:solidFill>
              <a:latin typeface="Calibri"/>
            </a:endParaRPr>
          </a:p>
        </p:txBody>
      </p:sp>
      <p:sp>
        <p:nvSpPr>
          <p:cNvPr id="238" name="object 13"/>
          <p:cNvSpPr/>
          <p:nvPr/>
        </p:nvSpPr>
        <p:spPr>
          <a:xfrm>
            <a:off x="15130440" y="9024840"/>
            <a:ext cx="21416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TRANSFERS</a:t>
            </a:r>
            <a:endParaRPr b="0" lang="en-US" sz="3000" spc="-1" strike="noStrike">
              <a:solidFill>
                <a:srgbClr val="000000"/>
              </a:solidFill>
              <a:latin typeface="Calibri"/>
            </a:endParaRPr>
          </a:p>
        </p:txBody>
      </p:sp>
      <p:sp>
        <p:nvSpPr>
          <p:cNvPr id="239" name="object 14"/>
          <p:cNvSpPr/>
          <p:nvPr/>
        </p:nvSpPr>
        <p:spPr>
          <a:xfrm>
            <a:off x="1066680" y="4614840"/>
            <a:ext cx="671760" cy="507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bject 15"/>
          <p:cNvSpPr/>
          <p:nvPr/>
        </p:nvSpPr>
        <p:spPr>
          <a:xfrm>
            <a:off x="1968480" y="4614840"/>
            <a:ext cx="676440" cy="5335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bject 16"/>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2" name="object 17"/>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3" name="object 18"/>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4" name="object 19"/>
          <p:cNvSpPr/>
          <p:nvPr/>
        </p:nvSpPr>
        <p:spPr>
          <a:xfrm>
            <a:off x="2836800" y="0"/>
            <a:ext cx="2419560" cy="17398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bject 20"/>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6" name="object 21"/>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object 2"/>
          <p:cNvSpPr/>
          <p:nvPr/>
        </p:nvSpPr>
        <p:spPr>
          <a:xfrm>
            <a:off x="1709640" y="1982880"/>
            <a:ext cx="506592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6. WHILE</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BOARDING THE</a:t>
            </a:r>
            <a:r>
              <a:rPr b="1" lang="en-US" sz="7000" spc="-1" strike="noStrike">
                <a:solidFill>
                  <a:srgbClr val="050606"/>
                </a:solidFill>
                <a:latin typeface="Arial"/>
              </a:rPr>
              <a:t>	</a:t>
            </a:r>
            <a:r>
              <a:rPr b="1" lang="en-US" sz="7000" spc="-1" strike="noStrike">
                <a:solidFill>
                  <a:srgbClr val="050606"/>
                </a:solidFill>
                <a:latin typeface="Arial"/>
              </a:rPr>
              <a:t> FLIGHT</a:t>
            </a:r>
            <a:endParaRPr b="0" lang="en-US" sz="7000" spc="-1" strike="noStrike">
              <a:solidFill>
                <a:srgbClr val="000000"/>
              </a:solidFill>
              <a:latin typeface="Calibri"/>
            </a:endParaRPr>
          </a:p>
          <a:p>
            <a:pPr marL="12600">
              <a:lnSpc>
                <a:spcPct val="100000"/>
              </a:lnSpc>
              <a:spcBef>
                <a:spcPts val="4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48" name="object 26"/>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bject 27"/>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bject 28"/>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bject 29"/>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bject 30"/>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3" name="object 31"/>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4" name="object 32"/>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5" name="object 33"/>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7"/>
          <p:cNvSpPr/>
          <p:nvPr/>
        </p:nvSpPr>
        <p:spPr>
          <a:xfrm>
            <a:off x="9144000" y="203364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At the gate, your boarding pass and passport will be checke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The steward will greet you and advise you to find your se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Make sure you put your luggage either under your seat or in the overhead storag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Take your seat with the seatbelt on and put your device on flight mod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Once everyone boards the flight, cabin crew will brief about the security precautions, such as emergency exits, oxygen mask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object 2"/>
          <p:cNvSpPr/>
          <p:nvPr/>
        </p:nvSpPr>
        <p:spPr>
          <a:xfrm>
            <a:off x="0" y="1257480"/>
            <a:ext cx="2017800" cy="9029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bject 3"/>
          <p:cNvSpPr/>
          <p:nvPr/>
        </p:nvSpPr>
        <p:spPr>
          <a:xfrm>
            <a:off x="0" y="0"/>
            <a:ext cx="4048200" cy="51436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260" name="object 16"/>
          <p:cNvSpPr/>
          <p:nvPr/>
        </p:nvSpPr>
        <p:spPr>
          <a:xfrm>
            <a:off x="11553840" y="9024840"/>
            <a:ext cx="14256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JEWELS</a:t>
            </a:r>
            <a:endParaRPr b="0" lang="en-US" sz="3000" spc="-1" strike="noStrike">
              <a:solidFill>
                <a:srgbClr val="000000"/>
              </a:solidFill>
              <a:latin typeface="Calibri"/>
            </a:endParaRPr>
          </a:p>
        </p:txBody>
      </p:sp>
      <p:sp>
        <p:nvSpPr>
          <p:cNvPr id="261" name="object 17"/>
          <p:cNvSpPr/>
          <p:nvPr/>
        </p:nvSpPr>
        <p:spPr>
          <a:xfrm>
            <a:off x="13222440" y="9024840"/>
            <a:ext cx="16650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AIRPORT</a:t>
            </a:r>
            <a:endParaRPr b="0" lang="en-US" sz="3000" spc="-1" strike="noStrike">
              <a:solidFill>
                <a:srgbClr val="000000"/>
              </a:solidFill>
              <a:latin typeface="Calibri"/>
            </a:endParaRPr>
          </a:p>
        </p:txBody>
      </p:sp>
      <p:sp>
        <p:nvSpPr>
          <p:cNvPr id="262" name="object 18"/>
          <p:cNvSpPr/>
          <p:nvPr/>
        </p:nvSpPr>
        <p:spPr>
          <a:xfrm>
            <a:off x="15130440" y="9024840"/>
            <a:ext cx="21416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TRANSFERS</a:t>
            </a:r>
            <a:endParaRPr b="0" lang="en-US" sz="3000" spc="-1" strike="noStrike">
              <a:solidFill>
                <a:srgbClr val="000000"/>
              </a:solidFill>
              <a:latin typeface="Calibri"/>
            </a:endParaRPr>
          </a:p>
        </p:txBody>
      </p:sp>
      <p:sp>
        <p:nvSpPr>
          <p:cNvPr id="263" name="object 19"/>
          <p:cNvSpPr/>
          <p:nvPr/>
        </p:nvSpPr>
        <p:spPr>
          <a:xfrm>
            <a:off x="1066680" y="4614840"/>
            <a:ext cx="671760" cy="507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bject 20"/>
          <p:cNvSpPr/>
          <p:nvPr/>
        </p:nvSpPr>
        <p:spPr>
          <a:xfrm>
            <a:off x="1968480" y="4614840"/>
            <a:ext cx="676440" cy="5335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object 21"/>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6" name="object 22"/>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7" name="object 23"/>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8" name="object 24"/>
          <p:cNvSpPr/>
          <p:nvPr/>
        </p:nvSpPr>
        <p:spPr>
          <a:xfrm>
            <a:off x="2836800" y="0"/>
            <a:ext cx="2419560" cy="17398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bject 25"/>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0" name="object 26"/>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2"/>
          <p:cNvSpPr/>
          <p:nvPr/>
        </p:nvSpPr>
        <p:spPr>
          <a:xfrm>
            <a:off x="8099280" y="567684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avoid ear pain during the take-off, purchase some boiled sweets or mints at the airport and eat some of them during take-of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object 2"/>
          <p:cNvSpPr/>
          <p:nvPr/>
        </p:nvSpPr>
        <p:spPr>
          <a:xfrm>
            <a:off x="1709640" y="1982880"/>
            <a:ext cx="476748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7. ARRIVING AT</a:t>
            </a:r>
            <a:r>
              <a:rPr b="1" lang="en-US" sz="7000" spc="-1" strike="noStrike">
                <a:solidFill>
                  <a:srgbClr val="050606"/>
                </a:solidFill>
                <a:latin typeface="Arial"/>
              </a:rPr>
              <a:t>	</a:t>
            </a:r>
            <a:r>
              <a:rPr b="1" lang="en-US" sz="7000" spc="-1" strike="noStrike">
                <a:solidFill>
                  <a:srgbClr val="050606"/>
                </a:solidFill>
                <a:latin typeface="Arial"/>
              </a:rPr>
              <a:t>THE AIRPORT</a:t>
            </a:r>
            <a:endParaRPr b="0" lang="en-US" sz="7000" spc="-1" strike="noStrike">
              <a:solidFill>
                <a:srgbClr val="000000"/>
              </a:solidFill>
              <a:latin typeface="Calibri"/>
            </a:endParaRPr>
          </a:p>
          <a:p>
            <a:pPr marL="12600">
              <a:lnSpc>
                <a:spcPct val="100000"/>
              </a:lnSpc>
              <a:spcBef>
                <a:spcPts val="4238"/>
              </a:spcBef>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73" name="object 24"/>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bject 25"/>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object 26"/>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bject 27"/>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bject 28"/>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8" name="object 29"/>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9" name="object 30"/>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0" name="object 31"/>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bject 32"/>
          <p:cNvSpPr/>
          <p:nvPr/>
        </p:nvSpPr>
        <p:spPr>
          <a:xfrm>
            <a:off x="0" y="10012320"/>
            <a:ext cx="3765600" cy="27468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Rectangle 4"/>
          <p:cNvSpPr/>
          <p:nvPr/>
        </p:nvSpPr>
        <p:spPr>
          <a:xfrm>
            <a:off x="9171000" y="238932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You’ll have to represent your passport to the officials again at the custom departmen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After that, follow the board signs to collect your luggag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f you’re boarding another connected flight, then you don’t have to through the custom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f you’re waiting for your cab or someone else to pick you up, then you can rest at the airport lou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17720" y="1292400"/>
            <a:ext cx="16252560" cy="1953000"/>
          </a:xfrm>
          <a:prstGeom prst="rect">
            <a:avLst/>
          </a:prstGeom>
          <a:noFill/>
          <a:ln w="0">
            <a:noFill/>
          </a:ln>
        </p:spPr>
        <p:txBody>
          <a:bodyPr lIns="0" rIns="0" tIns="0" bIns="0" anchor="t">
            <a:noAutofit/>
          </a:bodyPr>
          <a:p>
            <a:pPr marL="9255240" indent="0" algn="ctr">
              <a:lnSpc>
                <a:spcPts val="7688"/>
              </a:lnSpc>
              <a:buNone/>
              <a:tabLst>
                <a:tab algn="l" pos="0"/>
                <a:tab algn="l" pos="11122200"/>
                <a:tab algn="l" pos="12522240"/>
                <a:tab algn="l" pos="15322680"/>
              </a:tabLst>
            </a:pPr>
            <a:r>
              <a:rPr b="1" lang="en-IN" sz="6500" spc="-1" strike="noStrike">
                <a:solidFill>
                  <a:srgbClr val="050606"/>
                </a:solidFill>
                <a:latin typeface="Calibri"/>
                <a:ea typeface="Arial"/>
              </a:rPr>
              <a:t>H O W   T O   R E A C H  U S</a:t>
            </a:r>
            <a:endParaRPr b="0" lang="en-US" sz="6500" spc="-1" strike="noStrike">
              <a:solidFill>
                <a:srgbClr val="1f497d"/>
              </a:solidFill>
              <a:latin typeface="Calibri"/>
            </a:endParaRPr>
          </a:p>
        </p:txBody>
      </p:sp>
      <p:sp>
        <p:nvSpPr>
          <p:cNvPr id="284" name="object 3"/>
          <p:cNvSpPr/>
          <p:nvPr/>
        </p:nvSpPr>
        <p:spPr>
          <a:xfrm>
            <a:off x="13461840" y="2573280"/>
            <a:ext cx="3810240" cy="2636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9350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50606"/>
                </a:solidFill>
                <a:latin typeface="Arial"/>
              </a:rPr>
              <a:t>CO</a:t>
            </a:r>
            <a:r>
              <a:rPr b="1" lang="en-IN" sz="3200" spc="-1" strike="noStrike">
                <a:solidFill>
                  <a:srgbClr val="050606"/>
                </a:solidFill>
                <a:latin typeface="Arial"/>
              </a:rPr>
              <a:t> </a:t>
            </a:r>
            <a:r>
              <a:rPr b="1" lang="de-DE" sz="3200" spc="-1" strike="noStrike">
                <a:solidFill>
                  <a:srgbClr val="050606"/>
                </a:solidFill>
                <a:latin typeface="Arial"/>
              </a:rPr>
              <a:t>NTACT</a:t>
            </a:r>
            <a:r>
              <a:rPr b="1" lang="de-DE" sz="3200" spc="-1" strike="noStrike">
                <a:solidFill>
                  <a:srgbClr val="050606"/>
                </a:solidFill>
                <a:latin typeface="Arial"/>
              </a:rPr>
              <a:t>	</a:t>
            </a:r>
            <a:r>
              <a:rPr b="1" lang="en-IN" sz="3200" spc="-1" strike="noStrike">
                <a:solidFill>
                  <a:srgbClr val="050606"/>
                </a:solidFill>
                <a:latin typeface="Arial"/>
              </a:rPr>
              <a:t>D E T A  I L S</a:t>
            </a:r>
            <a:endParaRPr b="0" lang="en-US" sz="3200" spc="-1" strike="noStrike">
              <a:solidFill>
                <a:srgbClr val="000000"/>
              </a:solidFill>
              <a:latin typeface="Calibri"/>
            </a:endParaRPr>
          </a:p>
          <a:p>
            <a:pPr>
              <a:lnSpc>
                <a:spcPct val="100000"/>
              </a:lnSpc>
              <a:tabLst>
                <a:tab algn="l" pos="0"/>
                <a:tab algn="l" pos="19350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49"/>
              </a:spcBef>
              <a:tabLst>
                <a:tab algn="l" pos="0"/>
                <a:tab algn="l" pos="19350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d9b83d"/>
                </a:solidFill>
                <a:latin typeface="Arial"/>
              </a:rPr>
              <a:t>OUR</a:t>
            </a:r>
            <a:r>
              <a:rPr b="0" lang="de-DE" sz="3000" spc="-1" strike="noStrike">
                <a:solidFill>
                  <a:srgbClr val="d9b83d"/>
                </a:solidFill>
                <a:latin typeface="Arial"/>
              </a:rPr>
              <a:t>	</a:t>
            </a:r>
            <a:r>
              <a:rPr b="0" lang="de-DE" sz="3000" spc="-1" strike="noStrike">
                <a:solidFill>
                  <a:srgbClr val="d9b83d"/>
                </a:solidFill>
                <a:latin typeface="Arial"/>
              </a:rPr>
              <a:t>HEADQUARTERS</a:t>
            </a:r>
            <a:endParaRPr b="0" lang="en-US" sz="3000" spc="-1" strike="noStrike">
              <a:solidFill>
                <a:srgbClr val="000000"/>
              </a:solidFill>
              <a:latin typeface="Calibri"/>
            </a:endParaRPr>
          </a:p>
        </p:txBody>
      </p:sp>
      <p:sp>
        <p:nvSpPr>
          <p:cNvPr id="285" name="object 4"/>
          <p:cNvSpPr/>
          <p:nvPr/>
        </p:nvSpPr>
        <p:spPr>
          <a:xfrm>
            <a:off x="8512200" y="4357800"/>
            <a:ext cx="20937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445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42-</a:t>
            </a:r>
            <a:r>
              <a:rPr b="0" lang="de-DE" sz="2800" spc="-1" strike="noStrike">
                <a:solidFill>
                  <a:srgbClr val="050606"/>
                </a:solidFill>
                <a:latin typeface="Arial"/>
              </a:rPr>
              <a:t>	</a:t>
            </a:r>
            <a:r>
              <a:rPr b="0" lang="de-DE" sz="2800" spc="-1" strike="noStrike">
                <a:solidFill>
                  <a:srgbClr val="050606"/>
                </a:solidFill>
                <a:latin typeface="Arial"/>
              </a:rPr>
              <a:t>Seaton</a:t>
            </a:r>
            <a:endParaRPr b="0" lang="en-US" sz="2800" spc="-1" strike="noStrike">
              <a:solidFill>
                <a:srgbClr val="000000"/>
              </a:solidFill>
              <a:latin typeface="Calibri"/>
            </a:endParaRPr>
          </a:p>
        </p:txBody>
      </p:sp>
      <p:sp>
        <p:nvSpPr>
          <p:cNvPr id="286" name="object 5"/>
          <p:cNvSpPr/>
          <p:nvPr/>
        </p:nvSpPr>
        <p:spPr>
          <a:xfrm>
            <a:off x="10802880" y="4357800"/>
            <a:ext cx="10526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Road,</a:t>
            </a:r>
            <a:endParaRPr b="0" lang="en-US" sz="2800" spc="-1" strike="noStrike">
              <a:solidFill>
                <a:srgbClr val="000000"/>
              </a:solidFill>
              <a:latin typeface="Calibri"/>
            </a:endParaRPr>
          </a:p>
        </p:txBody>
      </p:sp>
      <p:sp>
        <p:nvSpPr>
          <p:cNvPr id="287" name="object 6"/>
          <p:cNvSpPr/>
          <p:nvPr/>
        </p:nvSpPr>
        <p:spPr>
          <a:xfrm>
            <a:off x="12052440" y="4357800"/>
            <a:ext cx="12603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Hayes,</a:t>
            </a:r>
            <a:endParaRPr b="0" lang="en-US" sz="2800" spc="-1" strike="noStrike">
              <a:solidFill>
                <a:srgbClr val="000000"/>
              </a:solidFill>
              <a:latin typeface="Calibri"/>
            </a:endParaRPr>
          </a:p>
        </p:txBody>
      </p:sp>
      <p:sp>
        <p:nvSpPr>
          <p:cNvPr id="288" name="object 7"/>
          <p:cNvSpPr/>
          <p:nvPr/>
        </p:nvSpPr>
        <p:spPr>
          <a:xfrm>
            <a:off x="13509720" y="4357800"/>
            <a:ext cx="3760560" cy="853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301840"/>
                <a:tab algn="l" pos="313524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Middlesex.</a:t>
            </a:r>
            <a:r>
              <a:rPr b="0" lang="de-DE" sz="2800" spc="-1" strike="noStrike">
                <a:solidFill>
                  <a:srgbClr val="050606"/>
                </a:solidFill>
                <a:latin typeface="Arial"/>
              </a:rPr>
              <a:t>	</a:t>
            </a:r>
            <a:r>
              <a:rPr b="0" lang="de-DE" sz="2800" spc="-1" strike="noStrike">
                <a:solidFill>
                  <a:srgbClr val="050606"/>
                </a:solidFill>
                <a:latin typeface="Arial"/>
              </a:rPr>
              <a:t>UB3</a:t>
            </a:r>
            <a:r>
              <a:rPr b="0" lang="de-DE" sz="2800" spc="-1" strike="noStrike">
                <a:solidFill>
                  <a:srgbClr val="050606"/>
                </a:solidFill>
                <a:latin typeface="Arial"/>
              </a:rPr>
              <a:t>	</a:t>
            </a:r>
            <a:r>
              <a:rPr b="0" lang="de-DE" sz="2800" spc="-1" strike="noStrike">
                <a:solidFill>
                  <a:srgbClr val="050606"/>
                </a:solidFill>
                <a:latin typeface="Arial"/>
              </a:rPr>
              <a:t>1NT</a:t>
            </a:r>
            <a:endParaRPr b="0" lang="en-US" sz="2800" spc="-1" strike="noStrike">
              <a:solidFill>
                <a:srgbClr val="000000"/>
              </a:solidFill>
              <a:latin typeface="Calibri"/>
            </a:endParaRPr>
          </a:p>
        </p:txBody>
      </p:sp>
      <p:sp>
        <p:nvSpPr>
          <p:cNvPr id="289" name="object 8"/>
          <p:cNvSpPr/>
          <p:nvPr/>
        </p:nvSpPr>
        <p:spPr>
          <a:xfrm>
            <a:off x="0" y="0"/>
            <a:ext cx="3765600" cy="8745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object 9"/>
          <p:cNvSpPr/>
          <p:nvPr/>
        </p:nvSpPr>
        <p:spPr>
          <a:xfrm>
            <a:off x="1028880" y="1835280"/>
            <a:ext cx="5476680" cy="84517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object 10"/>
          <p:cNvSpPr/>
          <p:nvPr/>
        </p:nvSpPr>
        <p:spPr>
          <a:xfrm>
            <a:off x="311040" y="9147240"/>
            <a:ext cx="1676520" cy="11397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object 11"/>
          <p:cNvSpPr/>
          <p:nvPr/>
        </p:nvSpPr>
        <p:spPr>
          <a:xfrm>
            <a:off x="4240080" y="1428840"/>
            <a:ext cx="2248200" cy="811080"/>
          </a:xfrm>
          <a:custGeom>
            <a:avLst/>
            <a:gdLst/>
            <a:ahLst/>
            <a:rect l="l" t="t" r="r" b="b"/>
            <a:pathLst>
              <a:path w="2247900" h="810894">
                <a:moveTo>
                  <a:pt x="326658" y="121919"/>
                </a:moveTo>
                <a:lnTo>
                  <a:pt x="292588" y="121919"/>
                </a:lnTo>
                <a:lnTo>
                  <a:pt x="280834" y="128015"/>
                </a:lnTo>
                <a:lnTo>
                  <a:pt x="268669" y="134111"/>
                </a:lnTo>
                <a:lnTo>
                  <a:pt x="255963" y="143255"/>
                </a:lnTo>
                <a:lnTo>
                  <a:pt x="245728" y="149351"/>
                </a:lnTo>
                <a:lnTo>
                  <a:pt x="235919" y="158495"/>
                </a:lnTo>
                <a:lnTo>
                  <a:pt x="208828" y="185927"/>
                </a:lnTo>
                <a:lnTo>
                  <a:pt x="192494" y="207263"/>
                </a:lnTo>
                <a:lnTo>
                  <a:pt x="184778" y="216407"/>
                </a:lnTo>
                <a:lnTo>
                  <a:pt x="177335" y="225551"/>
                </a:lnTo>
                <a:lnTo>
                  <a:pt x="170141" y="237743"/>
                </a:lnTo>
                <a:lnTo>
                  <a:pt x="163175" y="246887"/>
                </a:lnTo>
                <a:lnTo>
                  <a:pt x="156414" y="259079"/>
                </a:lnTo>
                <a:lnTo>
                  <a:pt x="149837" y="268223"/>
                </a:lnTo>
                <a:lnTo>
                  <a:pt x="143422" y="280415"/>
                </a:lnTo>
                <a:lnTo>
                  <a:pt x="137146" y="292607"/>
                </a:lnTo>
                <a:lnTo>
                  <a:pt x="130987" y="301751"/>
                </a:lnTo>
                <a:lnTo>
                  <a:pt x="124924" y="313943"/>
                </a:lnTo>
                <a:lnTo>
                  <a:pt x="118934" y="326135"/>
                </a:lnTo>
                <a:lnTo>
                  <a:pt x="108390" y="344423"/>
                </a:lnTo>
                <a:lnTo>
                  <a:pt x="98486" y="365759"/>
                </a:lnTo>
                <a:lnTo>
                  <a:pt x="80493" y="408431"/>
                </a:lnTo>
                <a:lnTo>
                  <a:pt x="64748" y="451103"/>
                </a:lnTo>
                <a:lnTo>
                  <a:pt x="51042" y="496823"/>
                </a:lnTo>
                <a:lnTo>
                  <a:pt x="44889" y="518159"/>
                </a:lnTo>
                <a:lnTo>
                  <a:pt x="39168" y="539495"/>
                </a:lnTo>
                <a:lnTo>
                  <a:pt x="33852" y="563879"/>
                </a:lnTo>
                <a:lnTo>
                  <a:pt x="28917" y="585215"/>
                </a:lnTo>
                <a:lnTo>
                  <a:pt x="24336" y="609599"/>
                </a:lnTo>
                <a:lnTo>
                  <a:pt x="20083" y="630935"/>
                </a:lnTo>
                <a:lnTo>
                  <a:pt x="16132" y="655319"/>
                </a:lnTo>
                <a:lnTo>
                  <a:pt x="12457" y="676655"/>
                </a:lnTo>
                <a:lnTo>
                  <a:pt x="9032" y="701039"/>
                </a:lnTo>
                <a:lnTo>
                  <a:pt x="5832" y="725423"/>
                </a:lnTo>
                <a:lnTo>
                  <a:pt x="2830" y="746759"/>
                </a:lnTo>
                <a:lnTo>
                  <a:pt x="0" y="771143"/>
                </a:lnTo>
                <a:lnTo>
                  <a:pt x="536" y="786383"/>
                </a:lnTo>
                <a:lnTo>
                  <a:pt x="4124" y="795527"/>
                </a:lnTo>
                <a:lnTo>
                  <a:pt x="10933" y="804671"/>
                </a:lnTo>
                <a:lnTo>
                  <a:pt x="21133" y="810767"/>
                </a:lnTo>
                <a:lnTo>
                  <a:pt x="52384" y="810767"/>
                </a:lnTo>
                <a:lnTo>
                  <a:pt x="55719" y="798575"/>
                </a:lnTo>
                <a:lnTo>
                  <a:pt x="59008" y="786383"/>
                </a:lnTo>
                <a:lnTo>
                  <a:pt x="65543" y="761999"/>
                </a:lnTo>
                <a:lnTo>
                  <a:pt x="68838" y="749807"/>
                </a:lnTo>
                <a:lnTo>
                  <a:pt x="82754" y="701039"/>
                </a:lnTo>
                <a:lnTo>
                  <a:pt x="86538" y="688847"/>
                </a:lnTo>
                <a:lnTo>
                  <a:pt x="90063" y="676655"/>
                </a:lnTo>
                <a:lnTo>
                  <a:pt x="93566" y="664463"/>
                </a:lnTo>
                <a:lnTo>
                  <a:pt x="100579" y="643127"/>
                </a:lnTo>
                <a:lnTo>
                  <a:pt x="104125" y="630935"/>
                </a:lnTo>
                <a:lnTo>
                  <a:pt x="115136" y="594359"/>
                </a:lnTo>
                <a:lnTo>
                  <a:pt x="127082" y="557783"/>
                </a:lnTo>
                <a:lnTo>
                  <a:pt x="140448" y="521207"/>
                </a:lnTo>
                <a:lnTo>
                  <a:pt x="145302" y="509015"/>
                </a:lnTo>
                <a:lnTo>
                  <a:pt x="150133" y="496823"/>
                </a:lnTo>
                <a:lnTo>
                  <a:pt x="155171" y="487679"/>
                </a:lnTo>
                <a:lnTo>
                  <a:pt x="160407" y="475487"/>
                </a:lnTo>
                <a:lnTo>
                  <a:pt x="165832" y="466343"/>
                </a:lnTo>
                <a:lnTo>
                  <a:pt x="171439" y="454151"/>
                </a:lnTo>
                <a:lnTo>
                  <a:pt x="177219" y="445007"/>
                </a:lnTo>
                <a:lnTo>
                  <a:pt x="183163" y="432815"/>
                </a:lnTo>
                <a:lnTo>
                  <a:pt x="189262" y="420623"/>
                </a:lnTo>
                <a:lnTo>
                  <a:pt x="195509" y="411479"/>
                </a:lnTo>
                <a:lnTo>
                  <a:pt x="201894" y="399287"/>
                </a:lnTo>
                <a:lnTo>
                  <a:pt x="221795" y="362711"/>
                </a:lnTo>
                <a:lnTo>
                  <a:pt x="235299" y="341375"/>
                </a:lnTo>
                <a:lnTo>
                  <a:pt x="242256" y="329183"/>
                </a:lnTo>
                <a:lnTo>
                  <a:pt x="249538" y="320039"/>
                </a:lnTo>
                <a:lnTo>
                  <a:pt x="257159" y="307847"/>
                </a:lnTo>
                <a:lnTo>
                  <a:pt x="265135" y="298703"/>
                </a:lnTo>
                <a:lnTo>
                  <a:pt x="273482" y="289559"/>
                </a:lnTo>
                <a:lnTo>
                  <a:pt x="282215" y="280415"/>
                </a:lnTo>
                <a:lnTo>
                  <a:pt x="291350" y="271271"/>
                </a:lnTo>
                <a:lnTo>
                  <a:pt x="300902" y="265175"/>
                </a:lnTo>
                <a:lnTo>
                  <a:pt x="310888" y="256031"/>
                </a:lnTo>
                <a:lnTo>
                  <a:pt x="321322" y="246887"/>
                </a:lnTo>
                <a:lnTo>
                  <a:pt x="332220" y="240791"/>
                </a:lnTo>
                <a:lnTo>
                  <a:pt x="343599" y="231647"/>
                </a:lnTo>
                <a:lnTo>
                  <a:pt x="355473" y="225551"/>
                </a:lnTo>
                <a:lnTo>
                  <a:pt x="451704" y="225551"/>
                </a:lnTo>
                <a:lnTo>
                  <a:pt x="447467" y="219455"/>
                </a:lnTo>
                <a:lnTo>
                  <a:pt x="440641" y="207263"/>
                </a:lnTo>
                <a:lnTo>
                  <a:pt x="433306" y="198119"/>
                </a:lnTo>
                <a:lnTo>
                  <a:pt x="425425" y="188975"/>
                </a:lnTo>
                <a:lnTo>
                  <a:pt x="416958" y="176783"/>
                </a:lnTo>
                <a:lnTo>
                  <a:pt x="407867" y="170687"/>
                </a:lnTo>
                <a:lnTo>
                  <a:pt x="398113" y="161543"/>
                </a:lnTo>
                <a:lnTo>
                  <a:pt x="387657" y="152399"/>
                </a:lnTo>
                <a:lnTo>
                  <a:pt x="376461" y="146303"/>
                </a:lnTo>
                <a:lnTo>
                  <a:pt x="364486" y="137159"/>
                </a:lnTo>
                <a:lnTo>
                  <a:pt x="351694" y="131063"/>
                </a:lnTo>
                <a:lnTo>
                  <a:pt x="338045" y="124967"/>
                </a:lnTo>
                <a:lnTo>
                  <a:pt x="326658" y="121919"/>
                </a:lnTo>
                <a:close/>
              </a:path>
              <a:path w="2247900" h="810894">
                <a:moveTo>
                  <a:pt x="2162600" y="112775"/>
                </a:moveTo>
                <a:lnTo>
                  <a:pt x="2077545" y="112775"/>
                </a:lnTo>
                <a:lnTo>
                  <a:pt x="2084904" y="115823"/>
                </a:lnTo>
                <a:lnTo>
                  <a:pt x="2090724" y="124967"/>
                </a:lnTo>
                <a:lnTo>
                  <a:pt x="2095212" y="134111"/>
                </a:lnTo>
                <a:lnTo>
                  <a:pt x="2098574" y="146303"/>
                </a:lnTo>
                <a:lnTo>
                  <a:pt x="2101018" y="164591"/>
                </a:lnTo>
                <a:lnTo>
                  <a:pt x="2101018" y="173735"/>
                </a:lnTo>
                <a:lnTo>
                  <a:pt x="2102934" y="192023"/>
                </a:lnTo>
                <a:lnTo>
                  <a:pt x="2104715" y="213359"/>
                </a:lnTo>
                <a:lnTo>
                  <a:pt x="2106403" y="231647"/>
                </a:lnTo>
                <a:lnTo>
                  <a:pt x="2108040" y="252983"/>
                </a:lnTo>
                <a:lnTo>
                  <a:pt x="2109670" y="271271"/>
                </a:lnTo>
                <a:lnTo>
                  <a:pt x="2111334" y="292607"/>
                </a:lnTo>
                <a:lnTo>
                  <a:pt x="2113075" y="310895"/>
                </a:lnTo>
                <a:lnTo>
                  <a:pt x="2114936" y="329183"/>
                </a:lnTo>
                <a:lnTo>
                  <a:pt x="2116959" y="350519"/>
                </a:lnTo>
                <a:lnTo>
                  <a:pt x="2119186" y="368807"/>
                </a:lnTo>
                <a:lnTo>
                  <a:pt x="2121661" y="390143"/>
                </a:lnTo>
                <a:lnTo>
                  <a:pt x="2124425" y="408431"/>
                </a:lnTo>
                <a:lnTo>
                  <a:pt x="2127521" y="429767"/>
                </a:lnTo>
                <a:lnTo>
                  <a:pt x="2130992" y="448055"/>
                </a:lnTo>
                <a:lnTo>
                  <a:pt x="2134879" y="466343"/>
                </a:lnTo>
                <a:lnTo>
                  <a:pt x="2139226" y="487679"/>
                </a:lnTo>
                <a:lnTo>
                  <a:pt x="2144075" y="505967"/>
                </a:lnTo>
                <a:lnTo>
                  <a:pt x="2149469" y="527303"/>
                </a:lnTo>
                <a:lnTo>
                  <a:pt x="2155449" y="545591"/>
                </a:lnTo>
                <a:lnTo>
                  <a:pt x="2162059" y="566927"/>
                </a:lnTo>
                <a:lnTo>
                  <a:pt x="2165979" y="576071"/>
                </a:lnTo>
                <a:lnTo>
                  <a:pt x="2169919" y="588263"/>
                </a:lnTo>
                <a:lnTo>
                  <a:pt x="2173894" y="600455"/>
                </a:lnTo>
                <a:lnTo>
                  <a:pt x="2177917" y="612647"/>
                </a:lnTo>
                <a:lnTo>
                  <a:pt x="2182002" y="621791"/>
                </a:lnTo>
                <a:lnTo>
                  <a:pt x="2186163" y="633983"/>
                </a:lnTo>
                <a:lnTo>
                  <a:pt x="2199242" y="670559"/>
                </a:lnTo>
                <a:lnTo>
                  <a:pt x="2208597" y="694943"/>
                </a:lnTo>
                <a:lnTo>
                  <a:pt x="2213506" y="710183"/>
                </a:lnTo>
                <a:lnTo>
                  <a:pt x="2224170" y="697991"/>
                </a:lnTo>
                <a:lnTo>
                  <a:pt x="2232762" y="685799"/>
                </a:lnTo>
                <a:lnTo>
                  <a:pt x="2239347" y="676655"/>
                </a:lnTo>
                <a:lnTo>
                  <a:pt x="2243992" y="664463"/>
                </a:lnTo>
                <a:lnTo>
                  <a:pt x="2246762" y="655319"/>
                </a:lnTo>
                <a:lnTo>
                  <a:pt x="2247724" y="643127"/>
                </a:lnTo>
                <a:lnTo>
                  <a:pt x="2246944" y="630935"/>
                </a:lnTo>
                <a:lnTo>
                  <a:pt x="2239581" y="603503"/>
                </a:lnTo>
                <a:lnTo>
                  <a:pt x="2235053" y="588263"/>
                </a:lnTo>
                <a:lnTo>
                  <a:pt x="2230880" y="569975"/>
                </a:lnTo>
                <a:lnTo>
                  <a:pt x="2227042" y="554735"/>
                </a:lnTo>
                <a:lnTo>
                  <a:pt x="2223516" y="536447"/>
                </a:lnTo>
                <a:lnTo>
                  <a:pt x="2220281" y="518159"/>
                </a:lnTo>
                <a:lnTo>
                  <a:pt x="2217314" y="502919"/>
                </a:lnTo>
                <a:lnTo>
                  <a:pt x="2214595" y="484631"/>
                </a:lnTo>
                <a:lnTo>
                  <a:pt x="2212101" y="466343"/>
                </a:lnTo>
                <a:lnTo>
                  <a:pt x="2209810" y="451103"/>
                </a:lnTo>
                <a:lnTo>
                  <a:pt x="2203940" y="396239"/>
                </a:lnTo>
                <a:lnTo>
                  <a:pt x="2199115" y="341375"/>
                </a:lnTo>
                <a:lnTo>
                  <a:pt x="2193292" y="268223"/>
                </a:lnTo>
                <a:lnTo>
                  <a:pt x="2192065" y="256031"/>
                </a:lnTo>
                <a:lnTo>
                  <a:pt x="2190654" y="243839"/>
                </a:lnTo>
                <a:lnTo>
                  <a:pt x="2189053" y="231647"/>
                </a:lnTo>
                <a:lnTo>
                  <a:pt x="2187251" y="219455"/>
                </a:lnTo>
                <a:lnTo>
                  <a:pt x="2185240" y="207263"/>
                </a:lnTo>
                <a:lnTo>
                  <a:pt x="2183012" y="192023"/>
                </a:lnTo>
                <a:lnTo>
                  <a:pt x="2171753" y="143255"/>
                </a:lnTo>
                <a:lnTo>
                  <a:pt x="2164595" y="118871"/>
                </a:lnTo>
                <a:lnTo>
                  <a:pt x="2162600" y="112775"/>
                </a:lnTo>
                <a:close/>
              </a:path>
              <a:path w="2247900" h="810894">
                <a:moveTo>
                  <a:pt x="451704" y="225551"/>
                </a:moveTo>
                <a:lnTo>
                  <a:pt x="355473" y="225551"/>
                </a:lnTo>
                <a:lnTo>
                  <a:pt x="365672" y="249935"/>
                </a:lnTo>
                <a:lnTo>
                  <a:pt x="370700" y="262127"/>
                </a:lnTo>
                <a:lnTo>
                  <a:pt x="388829" y="307847"/>
                </a:lnTo>
                <a:lnTo>
                  <a:pt x="401794" y="356615"/>
                </a:lnTo>
                <a:lnTo>
                  <a:pt x="404848" y="365759"/>
                </a:lnTo>
                <a:lnTo>
                  <a:pt x="417026" y="414527"/>
                </a:lnTo>
                <a:lnTo>
                  <a:pt x="432462" y="475487"/>
                </a:lnTo>
                <a:lnTo>
                  <a:pt x="448603" y="542543"/>
                </a:lnTo>
                <a:lnTo>
                  <a:pt x="463320" y="579119"/>
                </a:lnTo>
                <a:lnTo>
                  <a:pt x="483975" y="612647"/>
                </a:lnTo>
                <a:lnTo>
                  <a:pt x="511708" y="640079"/>
                </a:lnTo>
                <a:lnTo>
                  <a:pt x="547662" y="658367"/>
                </a:lnTo>
                <a:lnTo>
                  <a:pt x="592978" y="667511"/>
                </a:lnTo>
                <a:lnTo>
                  <a:pt x="603555" y="664463"/>
                </a:lnTo>
                <a:lnTo>
                  <a:pt x="615254" y="664463"/>
                </a:lnTo>
                <a:lnTo>
                  <a:pt x="628257" y="658367"/>
                </a:lnTo>
                <a:lnTo>
                  <a:pt x="642745" y="649223"/>
                </a:lnTo>
                <a:lnTo>
                  <a:pt x="652637" y="643127"/>
                </a:lnTo>
                <a:lnTo>
                  <a:pt x="685425" y="606551"/>
                </a:lnTo>
                <a:lnTo>
                  <a:pt x="692238" y="594359"/>
                </a:lnTo>
                <a:lnTo>
                  <a:pt x="698622" y="585215"/>
                </a:lnTo>
                <a:lnTo>
                  <a:pt x="704639" y="573023"/>
                </a:lnTo>
                <a:lnTo>
                  <a:pt x="707495" y="566927"/>
                </a:lnTo>
                <a:lnTo>
                  <a:pt x="563006" y="566927"/>
                </a:lnTo>
                <a:lnTo>
                  <a:pt x="555798" y="554735"/>
                </a:lnTo>
                <a:lnTo>
                  <a:pt x="541348" y="509015"/>
                </a:lnTo>
                <a:lnTo>
                  <a:pt x="538248" y="496823"/>
                </a:lnTo>
                <a:lnTo>
                  <a:pt x="535122" y="487679"/>
                </a:lnTo>
                <a:lnTo>
                  <a:pt x="531927" y="472439"/>
                </a:lnTo>
                <a:lnTo>
                  <a:pt x="528621" y="460247"/>
                </a:lnTo>
                <a:lnTo>
                  <a:pt x="525161" y="448055"/>
                </a:lnTo>
                <a:lnTo>
                  <a:pt x="521504" y="435863"/>
                </a:lnTo>
                <a:lnTo>
                  <a:pt x="517608" y="420623"/>
                </a:lnTo>
                <a:lnTo>
                  <a:pt x="514503" y="411479"/>
                </a:lnTo>
                <a:lnTo>
                  <a:pt x="511467" y="399287"/>
                </a:lnTo>
                <a:lnTo>
                  <a:pt x="505437" y="374903"/>
                </a:lnTo>
                <a:lnTo>
                  <a:pt x="502357" y="362711"/>
                </a:lnTo>
                <a:lnTo>
                  <a:pt x="488593" y="313943"/>
                </a:lnTo>
                <a:lnTo>
                  <a:pt x="475554" y="277367"/>
                </a:lnTo>
                <a:lnTo>
                  <a:pt x="470462" y="262127"/>
                </a:lnTo>
                <a:lnTo>
                  <a:pt x="465282" y="252983"/>
                </a:lnTo>
                <a:lnTo>
                  <a:pt x="459749" y="240791"/>
                </a:lnTo>
                <a:lnTo>
                  <a:pt x="453823" y="228599"/>
                </a:lnTo>
                <a:lnTo>
                  <a:pt x="451704" y="225551"/>
                </a:lnTo>
                <a:close/>
              </a:path>
              <a:path w="2247900" h="810894">
                <a:moveTo>
                  <a:pt x="1022762" y="228599"/>
                </a:moveTo>
                <a:lnTo>
                  <a:pt x="935432" y="228599"/>
                </a:lnTo>
                <a:lnTo>
                  <a:pt x="938412" y="237743"/>
                </a:lnTo>
                <a:lnTo>
                  <a:pt x="944377" y="262127"/>
                </a:lnTo>
                <a:lnTo>
                  <a:pt x="947412" y="274319"/>
                </a:lnTo>
                <a:lnTo>
                  <a:pt x="950499" y="283463"/>
                </a:lnTo>
                <a:lnTo>
                  <a:pt x="953651" y="298703"/>
                </a:lnTo>
                <a:lnTo>
                  <a:pt x="956882" y="310895"/>
                </a:lnTo>
                <a:lnTo>
                  <a:pt x="960204" y="323087"/>
                </a:lnTo>
                <a:lnTo>
                  <a:pt x="963631" y="338327"/>
                </a:lnTo>
                <a:lnTo>
                  <a:pt x="966715" y="350519"/>
                </a:lnTo>
                <a:lnTo>
                  <a:pt x="982054" y="411479"/>
                </a:lnTo>
                <a:lnTo>
                  <a:pt x="985144" y="423671"/>
                </a:lnTo>
                <a:lnTo>
                  <a:pt x="997753" y="472439"/>
                </a:lnTo>
                <a:lnTo>
                  <a:pt x="1011018" y="521207"/>
                </a:lnTo>
                <a:lnTo>
                  <a:pt x="1021603" y="557783"/>
                </a:lnTo>
                <a:lnTo>
                  <a:pt x="1025281" y="573023"/>
                </a:lnTo>
                <a:lnTo>
                  <a:pt x="1029961" y="579119"/>
                </a:lnTo>
                <a:lnTo>
                  <a:pt x="1036853" y="588263"/>
                </a:lnTo>
                <a:lnTo>
                  <a:pt x="1045623" y="597407"/>
                </a:lnTo>
                <a:lnTo>
                  <a:pt x="1055935" y="606551"/>
                </a:lnTo>
                <a:lnTo>
                  <a:pt x="1067453" y="612647"/>
                </a:lnTo>
                <a:lnTo>
                  <a:pt x="1079840" y="621791"/>
                </a:lnTo>
                <a:lnTo>
                  <a:pt x="1105880" y="633983"/>
                </a:lnTo>
                <a:lnTo>
                  <a:pt x="1131369" y="640079"/>
                </a:lnTo>
                <a:lnTo>
                  <a:pt x="1153618" y="640079"/>
                </a:lnTo>
                <a:lnTo>
                  <a:pt x="1175316" y="627887"/>
                </a:lnTo>
                <a:lnTo>
                  <a:pt x="1185904" y="618743"/>
                </a:lnTo>
                <a:lnTo>
                  <a:pt x="1195978" y="609599"/>
                </a:lnTo>
                <a:lnTo>
                  <a:pt x="1203534" y="597407"/>
                </a:lnTo>
                <a:lnTo>
                  <a:pt x="1210645" y="588263"/>
                </a:lnTo>
                <a:lnTo>
                  <a:pt x="1217211" y="576071"/>
                </a:lnTo>
                <a:lnTo>
                  <a:pt x="1223134" y="566927"/>
                </a:lnTo>
                <a:lnTo>
                  <a:pt x="1228314" y="554735"/>
                </a:lnTo>
                <a:lnTo>
                  <a:pt x="1233939" y="539495"/>
                </a:lnTo>
                <a:lnTo>
                  <a:pt x="1239724" y="527303"/>
                </a:lnTo>
                <a:lnTo>
                  <a:pt x="1110629" y="527303"/>
                </a:lnTo>
                <a:lnTo>
                  <a:pt x="1092980" y="481583"/>
                </a:lnTo>
                <a:lnTo>
                  <a:pt x="1085579" y="445007"/>
                </a:lnTo>
                <a:lnTo>
                  <a:pt x="1083103" y="432815"/>
                </a:lnTo>
                <a:lnTo>
                  <a:pt x="1080578" y="420623"/>
                </a:lnTo>
                <a:lnTo>
                  <a:pt x="1077977" y="408431"/>
                </a:lnTo>
                <a:lnTo>
                  <a:pt x="1075273" y="396239"/>
                </a:lnTo>
                <a:lnTo>
                  <a:pt x="1072439" y="380999"/>
                </a:lnTo>
                <a:lnTo>
                  <a:pt x="1059270" y="332231"/>
                </a:lnTo>
                <a:lnTo>
                  <a:pt x="1048032" y="295655"/>
                </a:lnTo>
                <a:lnTo>
                  <a:pt x="1035393" y="259079"/>
                </a:lnTo>
                <a:lnTo>
                  <a:pt x="1025522" y="234695"/>
                </a:lnTo>
                <a:lnTo>
                  <a:pt x="1022762" y="228599"/>
                </a:lnTo>
                <a:close/>
              </a:path>
              <a:path w="2247900" h="810894">
                <a:moveTo>
                  <a:pt x="1561651" y="198119"/>
                </a:moveTo>
                <a:lnTo>
                  <a:pt x="1470874" y="198119"/>
                </a:lnTo>
                <a:lnTo>
                  <a:pt x="1473861" y="201167"/>
                </a:lnTo>
                <a:lnTo>
                  <a:pt x="1480020" y="210311"/>
                </a:lnTo>
                <a:lnTo>
                  <a:pt x="1482841" y="219455"/>
                </a:lnTo>
                <a:lnTo>
                  <a:pt x="1485479" y="231647"/>
                </a:lnTo>
                <a:lnTo>
                  <a:pt x="1487824" y="243839"/>
                </a:lnTo>
                <a:lnTo>
                  <a:pt x="1489767" y="262127"/>
                </a:lnTo>
                <a:lnTo>
                  <a:pt x="1491127" y="274319"/>
                </a:lnTo>
                <a:lnTo>
                  <a:pt x="1492462" y="286511"/>
                </a:lnTo>
                <a:lnTo>
                  <a:pt x="1493779" y="298703"/>
                </a:lnTo>
                <a:lnTo>
                  <a:pt x="1495082" y="310895"/>
                </a:lnTo>
                <a:lnTo>
                  <a:pt x="1498969" y="347471"/>
                </a:lnTo>
                <a:lnTo>
                  <a:pt x="1501596" y="371855"/>
                </a:lnTo>
                <a:lnTo>
                  <a:pt x="1502937" y="384047"/>
                </a:lnTo>
                <a:lnTo>
                  <a:pt x="1504304" y="399287"/>
                </a:lnTo>
                <a:lnTo>
                  <a:pt x="1505702" y="411479"/>
                </a:lnTo>
                <a:lnTo>
                  <a:pt x="1507137" y="423671"/>
                </a:lnTo>
                <a:lnTo>
                  <a:pt x="1508615" y="435863"/>
                </a:lnTo>
                <a:lnTo>
                  <a:pt x="1510140" y="451103"/>
                </a:lnTo>
                <a:lnTo>
                  <a:pt x="1512349" y="463295"/>
                </a:lnTo>
                <a:lnTo>
                  <a:pt x="1515055" y="478535"/>
                </a:lnTo>
                <a:lnTo>
                  <a:pt x="1518297" y="490727"/>
                </a:lnTo>
                <a:lnTo>
                  <a:pt x="1531647" y="527303"/>
                </a:lnTo>
                <a:lnTo>
                  <a:pt x="1543974" y="548639"/>
                </a:lnTo>
                <a:lnTo>
                  <a:pt x="1551286" y="560831"/>
                </a:lnTo>
                <a:lnTo>
                  <a:pt x="1559419" y="569975"/>
                </a:lnTo>
                <a:lnTo>
                  <a:pt x="1568412" y="579119"/>
                </a:lnTo>
                <a:lnTo>
                  <a:pt x="1578306" y="588263"/>
                </a:lnTo>
                <a:lnTo>
                  <a:pt x="1589142" y="594359"/>
                </a:lnTo>
                <a:lnTo>
                  <a:pt x="1600960" y="603503"/>
                </a:lnTo>
                <a:lnTo>
                  <a:pt x="1613801" y="609599"/>
                </a:lnTo>
                <a:lnTo>
                  <a:pt x="1627705" y="615695"/>
                </a:lnTo>
                <a:lnTo>
                  <a:pt x="1642712" y="621791"/>
                </a:lnTo>
                <a:lnTo>
                  <a:pt x="1656307" y="624839"/>
                </a:lnTo>
                <a:lnTo>
                  <a:pt x="1669220" y="621791"/>
                </a:lnTo>
                <a:lnTo>
                  <a:pt x="1704477" y="591311"/>
                </a:lnTo>
                <a:lnTo>
                  <a:pt x="1736705" y="551687"/>
                </a:lnTo>
                <a:lnTo>
                  <a:pt x="1744190" y="542543"/>
                </a:lnTo>
                <a:lnTo>
                  <a:pt x="1751399" y="530351"/>
                </a:lnTo>
                <a:lnTo>
                  <a:pt x="1754854" y="524255"/>
                </a:lnTo>
                <a:lnTo>
                  <a:pt x="1621750" y="524255"/>
                </a:lnTo>
                <a:lnTo>
                  <a:pt x="1617331" y="509015"/>
                </a:lnTo>
                <a:lnTo>
                  <a:pt x="1614374" y="505967"/>
                </a:lnTo>
                <a:lnTo>
                  <a:pt x="1614374" y="499871"/>
                </a:lnTo>
                <a:lnTo>
                  <a:pt x="1612387" y="487679"/>
                </a:lnTo>
                <a:lnTo>
                  <a:pt x="1604626" y="438911"/>
                </a:lnTo>
                <a:lnTo>
                  <a:pt x="1598952" y="399287"/>
                </a:lnTo>
                <a:lnTo>
                  <a:pt x="1595212" y="374903"/>
                </a:lnTo>
                <a:lnTo>
                  <a:pt x="1591488" y="350519"/>
                </a:lnTo>
                <a:lnTo>
                  <a:pt x="1589628" y="335279"/>
                </a:lnTo>
                <a:lnTo>
                  <a:pt x="1585902" y="310895"/>
                </a:lnTo>
                <a:lnTo>
                  <a:pt x="1576471" y="243839"/>
                </a:lnTo>
                <a:lnTo>
                  <a:pt x="1573920" y="231647"/>
                </a:lnTo>
                <a:lnTo>
                  <a:pt x="1570591" y="219455"/>
                </a:lnTo>
                <a:lnTo>
                  <a:pt x="1566497" y="207263"/>
                </a:lnTo>
                <a:lnTo>
                  <a:pt x="1561651" y="198119"/>
                </a:lnTo>
                <a:close/>
              </a:path>
              <a:path w="2247900" h="810894">
                <a:moveTo>
                  <a:pt x="904960" y="124967"/>
                </a:moveTo>
                <a:lnTo>
                  <a:pt x="894994" y="124967"/>
                </a:lnTo>
                <a:lnTo>
                  <a:pt x="884922" y="128015"/>
                </a:lnTo>
                <a:lnTo>
                  <a:pt x="874738" y="128015"/>
                </a:lnTo>
                <a:lnTo>
                  <a:pt x="864435" y="131063"/>
                </a:lnTo>
                <a:lnTo>
                  <a:pt x="854004" y="137159"/>
                </a:lnTo>
                <a:lnTo>
                  <a:pt x="832730" y="149351"/>
                </a:lnTo>
                <a:lnTo>
                  <a:pt x="821872" y="158495"/>
                </a:lnTo>
                <a:lnTo>
                  <a:pt x="810857" y="167639"/>
                </a:lnTo>
                <a:lnTo>
                  <a:pt x="799677" y="176783"/>
                </a:lnTo>
                <a:lnTo>
                  <a:pt x="790344" y="185927"/>
                </a:lnTo>
                <a:lnTo>
                  <a:pt x="781478" y="195071"/>
                </a:lnTo>
                <a:lnTo>
                  <a:pt x="774193" y="207263"/>
                </a:lnTo>
                <a:lnTo>
                  <a:pt x="758664" y="234695"/>
                </a:lnTo>
                <a:lnTo>
                  <a:pt x="743123" y="259079"/>
                </a:lnTo>
                <a:lnTo>
                  <a:pt x="735346" y="274319"/>
                </a:lnTo>
                <a:lnTo>
                  <a:pt x="719770" y="298703"/>
                </a:lnTo>
                <a:lnTo>
                  <a:pt x="711970" y="313943"/>
                </a:lnTo>
                <a:lnTo>
                  <a:pt x="704160" y="326135"/>
                </a:lnTo>
                <a:lnTo>
                  <a:pt x="696338" y="341375"/>
                </a:lnTo>
                <a:lnTo>
                  <a:pt x="688504" y="353567"/>
                </a:lnTo>
                <a:lnTo>
                  <a:pt x="680656" y="368807"/>
                </a:lnTo>
                <a:lnTo>
                  <a:pt x="672793" y="380999"/>
                </a:lnTo>
                <a:lnTo>
                  <a:pt x="664915" y="396239"/>
                </a:lnTo>
                <a:lnTo>
                  <a:pt x="657019" y="408431"/>
                </a:lnTo>
                <a:lnTo>
                  <a:pt x="649105" y="423671"/>
                </a:lnTo>
                <a:lnTo>
                  <a:pt x="641171" y="435863"/>
                </a:lnTo>
                <a:lnTo>
                  <a:pt x="625240" y="466343"/>
                </a:lnTo>
                <a:lnTo>
                  <a:pt x="617240" y="478535"/>
                </a:lnTo>
                <a:lnTo>
                  <a:pt x="604868" y="502919"/>
                </a:lnTo>
                <a:lnTo>
                  <a:pt x="598594" y="512063"/>
                </a:lnTo>
                <a:lnTo>
                  <a:pt x="592149" y="524255"/>
                </a:lnTo>
                <a:lnTo>
                  <a:pt x="585452" y="533399"/>
                </a:lnTo>
                <a:lnTo>
                  <a:pt x="578417" y="545591"/>
                </a:lnTo>
                <a:lnTo>
                  <a:pt x="570963" y="554735"/>
                </a:lnTo>
                <a:lnTo>
                  <a:pt x="563006" y="566927"/>
                </a:lnTo>
                <a:lnTo>
                  <a:pt x="707495" y="566927"/>
                </a:lnTo>
                <a:lnTo>
                  <a:pt x="710352" y="560831"/>
                </a:lnTo>
                <a:lnTo>
                  <a:pt x="715822" y="548639"/>
                </a:lnTo>
                <a:lnTo>
                  <a:pt x="721113" y="533399"/>
                </a:lnTo>
                <a:lnTo>
                  <a:pt x="725367" y="521207"/>
                </a:lnTo>
                <a:lnTo>
                  <a:pt x="729451" y="509015"/>
                </a:lnTo>
                <a:lnTo>
                  <a:pt x="733475" y="496823"/>
                </a:lnTo>
                <a:lnTo>
                  <a:pt x="737546" y="484631"/>
                </a:lnTo>
                <a:lnTo>
                  <a:pt x="741773" y="472439"/>
                </a:lnTo>
                <a:lnTo>
                  <a:pt x="746263" y="460247"/>
                </a:lnTo>
                <a:lnTo>
                  <a:pt x="751126" y="451103"/>
                </a:lnTo>
                <a:lnTo>
                  <a:pt x="756469" y="438911"/>
                </a:lnTo>
                <a:lnTo>
                  <a:pt x="762189" y="429767"/>
                </a:lnTo>
                <a:lnTo>
                  <a:pt x="768072" y="417575"/>
                </a:lnTo>
                <a:lnTo>
                  <a:pt x="774132" y="408431"/>
                </a:lnTo>
                <a:lnTo>
                  <a:pt x="780386" y="396239"/>
                </a:lnTo>
                <a:lnTo>
                  <a:pt x="786846" y="387095"/>
                </a:lnTo>
                <a:lnTo>
                  <a:pt x="793529" y="377951"/>
                </a:lnTo>
                <a:lnTo>
                  <a:pt x="800449" y="365759"/>
                </a:lnTo>
                <a:lnTo>
                  <a:pt x="807621" y="353567"/>
                </a:lnTo>
                <a:lnTo>
                  <a:pt x="815060" y="344423"/>
                </a:lnTo>
                <a:lnTo>
                  <a:pt x="822780" y="332231"/>
                </a:lnTo>
                <a:lnTo>
                  <a:pt x="830797" y="320039"/>
                </a:lnTo>
                <a:lnTo>
                  <a:pt x="837770" y="310895"/>
                </a:lnTo>
                <a:lnTo>
                  <a:pt x="844970" y="298703"/>
                </a:lnTo>
                <a:lnTo>
                  <a:pt x="877908" y="262127"/>
                </a:lnTo>
                <a:lnTo>
                  <a:pt x="909586" y="240791"/>
                </a:lnTo>
                <a:lnTo>
                  <a:pt x="921974" y="231647"/>
                </a:lnTo>
                <a:lnTo>
                  <a:pt x="935432" y="228599"/>
                </a:lnTo>
                <a:lnTo>
                  <a:pt x="1022762" y="228599"/>
                </a:lnTo>
                <a:lnTo>
                  <a:pt x="1020002" y="222503"/>
                </a:lnTo>
                <a:lnTo>
                  <a:pt x="1014026" y="213359"/>
                </a:lnTo>
                <a:lnTo>
                  <a:pt x="1007545" y="201167"/>
                </a:lnTo>
                <a:lnTo>
                  <a:pt x="991177" y="179831"/>
                </a:lnTo>
                <a:lnTo>
                  <a:pt x="962977" y="152399"/>
                </a:lnTo>
                <a:lnTo>
                  <a:pt x="934305" y="134111"/>
                </a:lnTo>
                <a:lnTo>
                  <a:pt x="904960" y="124967"/>
                </a:lnTo>
                <a:close/>
              </a:path>
              <a:path w="2247900" h="810894">
                <a:moveTo>
                  <a:pt x="1457103" y="94487"/>
                </a:moveTo>
                <a:lnTo>
                  <a:pt x="1435618" y="94487"/>
                </a:lnTo>
                <a:lnTo>
                  <a:pt x="1424492" y="97535"/>
                </a:lnTo>
                <a:lnTo>
                  <a:pt x="1413089" y="103631"/>
                </a:lnTo>
                <a:lnTo>
                  <a:pt x="1401395" y="109727"/>
                </a:lnTo>
                <a:lnTo>
                  <a:pt x="1389393" y="118871"/>
                </a:lnTo>
                <a:lnTo>
                  <a:pt x="1371821" y="137159"/>
                </a:lnTo>
                <a:lnTo>
                  <a:pt x="1362941" y="143255"/>
                </a:lnTo>
                <a:lnTo>
                  <a:pt x="1309479" y="198119"/>
                </a:lnTo>
                <a:lnTo>
                  <a:pt x="1300706" y="210311"/>
                </a:lnTo>
                <a:lnTo>
                  <a:pt x="1292021" y="219455"/>
                </a:lnTo>
                <a:lnTo>
                  <a:pt x="1283441" y="231647"/>
                </a:lnTo>
                <a:lnTo>
                  <a:pt x="1276214" y="240791"/>
                </a:lnTo>
                <a:lnTo>
                  <a:pt x="1269107" y="252983"/>
                </a:lnTo>
                <a:lnTo>
                  <a:pt x="1262110" y="262127"/>
                </a:lnTo>
                <a:lnTo>
                  <a:pt x="1255214" y="274319"/>
                </a:lnTo>
                <a:lnTo>
                  <a:pt x="1248410" y="283463"/>
                </a:lnTo>
                <a:lnTo>
                  <a:pt x="1241688" y="295655"/>
                </a:lnTo>
                <a:lnTo>
                  <a:pt x="1235039" y="304799"/>
                </a:lnTo>
                <a:lnTo>
                  <a:pt x="1228454" y="316991"/>
                </a:lnTo>
                <a:lnTo>
                  <a:pt x="1221923" y="326135"/>
                </a:lnTo>
                <a:lnTo>
                  <a:pt x="1215437" y="338327"/>
                </a:lnTo>
                <a:lnTo>
                  <a:pt x="1208987" y="350519"/>
                </a:lnTo>
                <a:lnTo>
                  <a:pt x="1202562" y="359663"/>
                </a:lnTo>
                <a:lnTo>
                  <a:pt x="1189755" y="380999"/>
                </a:lnTo>
                <a:lnTo>
                  <a:pt x="1176941" y="405383"/>
                </a:lnTo>
                <a:lnTo>
                  <a:pt x="1170508" y="414527"/>
                </a:lnTo>
                <a:lnTo>
                  <a:pt x="1164435" y="426719"/>
                </a:lnTo>
                <a:lnTo>
                  <a:pt x="1158558" y="435863"/>
                </a:lnTo>
                <a:lnTo>
                  <a:pt x="1152812" y="448055"/>
                </a:lnTo>
                <a:lnTo>
                  <a:pt x="1147129" y="457199"/>
                </a:lnTo>
                <a:lnTo>
                  <a:pt x="1135686" y="481583"/>
                </a:lnTo>
                <a:lnTo>
                  <a:pt x="1129793" y="490727"/>
                </a:lnTo>
                <a:lnTo>
                  <a:pt x="1123697" y="502919"/>
                </a:lnTo>
                <a:lnTo>
                  <a:pt x="1117331" y="515111"/>
                </a:lnTo>
                <a:lnTo>
                  <a:pt x="1110629" y="527303"/>
                </a:lnTo>
                <a:lnTo>
                  <a:pt x="1239724" y="527303"/>
                </a:lnTo>
                <a:lnTo>
                  <a:pt x="1245675" y="512063"/>
                </a:lnTo>
                <a:lnTo>
                  <a:pt x="1251796" y="499871"/>
                </a:lnTo>
                <a:lnTo>
                  <a:pt x="1258094" y="487679"/>
                </a:lnTo>
                <a:lnTo>
                  <a:pt x="1264573" y="472439"/>
                </a:lnTo>
                <a:lnTo>
                  <a:pt x="1271239" y="460247"/>
                </a:lnTo>
                <a:lnTo>
                  <a:pt x="1278096" y="445007"/>
                </a:lnTo>
                <a:lnTo>
                  <a:pt x="1285149" y="432815"/>
                </a:lnTo>
                <a:lnTo>
                  <a:pt x="1292405" y="420623"/>
                </a:lnTo>
                <a:lnTo>
                  <a:pt x="1299868" y="405383"/>
                </a:lnTo>
                <a:lnTo>
                  <a:pt x="1307543" y="393191"/>
                </a:lnTo>
                <a:lnTo>
                  <a:pt x="1315435" y="380999"/>
                </a:lnTo>
                <a:lnTo>
                  <a:pt x="1323550" y="365759"/>
                </a:lnTo>
                <a:lnTo>
                  <a:pt x="1331892" y="353567"/>
                </a:lnTo>
                <a:lnTo>
                  <a:pt x="1340467" y="341375"/>
                </a:lnTo>
                <a:lnTo>
                  <a:pt x="1349281" y="329183"/>
                </a:lnTo>
                <a:lnTo>
                  <a:pt x="1358337" y="313943"/>
                </a:lnTo>
                <a:lnTo>
                  <a:pt x="1367642" y="301751"/>
                </a:lnTo>
                <a:lnTo>
                  <a:pt x="1377200" y="286511"/>
                </a:lnTo>
                <a:lnTo>
                  <a:pt x="1385427" y="277367"/>
                </a:lnTo>
                <a:lnTo>
                  <a:pt x="1420687" y="240791"/>
                </a:lnTo>
                <a:lnTo>
                  <a:pt x="1439056" y="225551"/>
                </a:lnTo>
                <a:lnTo>
                  <a:pt x="1457406" y="207263"/>
                </a:lnTo>
                <a:lnTo>
                  <a:pt x="1466455" y="198119"/>
                </a:lnTo>
                <a:lnTo>
                  <a:pt x="1561651" y="198119"/>
                </a:lnTo>
                <a:lnTo>
                  <a:pt x="1556067" y="185927"/>
                </a:lnTo>
                <a:lnTo>
                  <a:pt x="1549759" y="176783"/>
                </a:lnTo>
                <a:lnTo>
                  <a:pt x="1542739" y="164591"/>
                </a:lnTo>
                <a:lnTo>
                  <a:pt x="1535022" y="155447"/>
                </a:lnTo>
                <a:lnTo>
                  <a:pt x="1526621" y="143255"/>
                </a:lnTo>
                <a:lnTo>
                  <a:pt x="1517549" y="134111"/>
                </a:lnTo>
                <a:lnTo>
                  <a:pt x="1507820" y="124967"/>
                </a:lnTo>
                <a:lnTo>
                  <a:pt x="1497446" y="112775"/>
                </a:lnTo>
                <a:lnTo>
                  <a:pt x="1487650" y="106679"/>
                </a:lnTo>
                <a:lnTo>
                  <a:pt x="1477671" y="100583"/>
                </a:lnTo>
                <a:lnTo>
                  <a:pt x="1457103" y="94487"/>
                </a:lnTo>
                <a:close/>
              </a:path>
              <a:path w="2247900" h="810894">
                <a:moveTo>
                  <a:pt x="2074673" y="0"/>
                </a:moveTo>
                <a:lnTo>
                  <a:pt x="2051932" y="0"/>
                </a:lnTo>
                <a:lnTo>
                  <a:pt x="2039518" y="3047"/>
                </a:lnTo>
                <a:lnTo>
                  <a:pt x="2026374" y="6095"/>
                </a:lnTo>
                <a:lnTo>
                  <a:pt x="1986006" y="21335"/>
                </a:lnTo>
                <a:lnTo>
                  <a:pt x="1953059" y="42671"/>
                </a:lnTo>
                <a:lnTo>
                  <a:pt x="1942822" y="48767"/>
                </a:lnTo>
                <a:lnTo>
                  <a:pt x="1914116" y="76199"/>
                </a:lnTo>
                <a:lnTo>
                  <a:pt x="1879899" y="112775"/>
                </a:lnTo>
                <a:lnTo>
                  <a:pt x="1864230" y="134111"/>
                </a:lnTo>
                <a:lnTo>
                  <a:pt x="1856697" y="143255"/>
                </a:lnTo>
                <a:lnTo>
                  <a:pt x="1849343" y="155447"/>
                </a:lnTo>
                <a:lnTo>
                  <a:pt x="1842151" y="164591"/>
                </a:lnTo>
                <a:lnTo>
                  <a:pt x="1833100" y="179831"/>
                </a:lnTo>
                <a:lnTo>
                  <a:pt x="1824127" y="192023"/>
                </a:lnTo>
                <a:lnTo>
                  <a:pt x="1815223" y="207263"/>
                </a:lnTo>
                <a:lnTo>
                  <a:pt x="1806377" y="222503"/>
                </a:lnTo>
                <a:lnTo>
                  <a:pt x="1797580" y="234695"/>
                </a:lnTo>
                <a:lnTo>
                  <a:pt x="1771385" y="280415"/>
                </a:lnTo>
                <a:lnTo>
                  <a:pt x="1762685" y="292607"/>
                </a:lnTo>
                <a:lnTo>
                  <a:pt x="1736543" y="338327"/>
                </a:lnTo>
                <a:lnTo>
                  <a:pt x="1710132" y="384047"/>
                </a:lnTo>
                <a:lnTo>
                  <a:pt x="1683186" y="429767"/>
                </a:lnTo>
                <a:lnTo>
                  <a:pt x="1658557" y="469391"/>
                </a:lnTo>
                <a:lnTo>
                  <a:pt x="1645134" y="487679"/>
                </a:lnTo>
                <a:lnTo>
                  <a:pt x="1637830" y="499871"/>
                </a:lnTo>
                <a:lnTo>
                  <a:pt x="1630055" y="512063"/>
                </a:lnTo>
                <a:lnTo>
                  <a:pt x="1621750" y="524255"/>
                </a:lnTo>
                <a:lnTo>
                  <a:pt x="1754854" y="524255"/>
                </a:lnTo>
                <a:lnTo>
                  <a:pt x="1758309" y="518159"/>
                </a:lnTo>
                <a:lnTo>
                  <a:pt x="1764151" y="509015"/>
                </a:lnTo>
                <a:lnTo>
                  <a:pt x="1769635" y="496823"/>
                </a:lnTo>
                <a:lnTo>
                  <a:pt x="1774850" y="487679"/>
                </a:lnTo>
                <a:lnTo>
                  <a:pt x="1779885" y="475487"/>
                </a:lnTo>
                <a:lnTo>
                  <a:pt x="1789775" y="451103"/>
                </a:lnTo>
                <a:lnTo>
                  <a:pt x="1794809" y="438911"/>
                </a:lnTo>
                <a:lnTo>
                  <a:pt x="1800020" y="429767"/>
                </a:lnTo>
                <a:lnTo>
                  <a:pt x="1805500" y="417575"/>
                </a:lnTo>
                <a:lnTo>
                  <a:pt x="1811336" y="405383"/>
                </a:lnTo>
                <a:lnTo>
                  <a:pt x="1817618" y="393191"/>
                </a:lnTo>
                <a:lnTo>
                  <a:pt x="1824436" y="384047"/>
                </a:lnTo>
                <a:lnTo>
                  <a:pt x="1831878" y="371855"/>
                </a:lnTo>
                <a:lnTo>
                  <a:pt x="1840035" y="362711"/>
                </a:lnTo>
                <a:lnTo>
                  <a:pt x="1847735" y="350519"/>
                </a:lnTo>
                <a:lnTo>
                  <a:pt x="1855020" y="341375"/>
                </a:lnTo>
                <a:lnTo>
                  <a:pt x="1861961" y="329183"/>
                </a:lnTo>
                <a:lnTo>
                  <a:pt x="1868631" y="320039"/>
                </a:lnTo>
                <a:lnTo>
                  <a:pt x="1875101" y="307847"/>
                </a:lnTo>
                <a:lnTo>
                  <a:pt x="1881443" y="298703"/>
                </a:lnTo>
                <a:lnTo>
                  <a:pt x="1894026" y="274319"/>
                </a:lnTo>
                <a:lnTo>
                  <a:pt x="1900411" y="265175"/>
                </a:lnTo>
                <a:lnTo>
                  <a:pt x="1906953" y="252983"/>
                </a:lnTo>
                <a:lnTo>
                  <a:pt x="1913724" y="243839"/>
                </a:lnTo>
                <a:lnTo>
                  <a:pt x="1920796" y="231647"/>
                </a:lnTo>
                <a:lnTo>
                  <a:pt x="1928240" y="222503"/>
                </a:lnTo>
                <a:lnTo>
                  <a:pt x="1936128" y="213359"/>
                </a:lnTo>
                <a:lnTo>
                  <a:pt x="1944530" y="201167"/>
                </a:lnTo>
                <a:lnTo>
                  <a:pt x="1953520" y="192023"/>
                </a:lnTo>
                <a:lnTo>
                  <a:pt x="1963167" y="182879"/>
                </a:lnTo>
                <a:lnTo>
                  <a:pt x="1973544" y="176783"/>
                </a:lnTo>
                <a:lnTo>
                  <a:pt x="1982095" y="167639"/>
                </a:lnTo>
                <a:lnTo>
                  <a:pt x="1990650" y="161543"/>
                </a:lnTo>
                <a:lnTo>
                  <a:pt x="1999514" y="152399"/>
                </a:lnTo>
                <a:lnTo>
                  <a:pt x="2008992" y="146303"/>
                </a:lnTo>
                <a:lnTo>
                  <a:pt x="2019391" y="137159"/>
                </a:lnTo>
                <a:lnTo>
                  <a:pt x="2031015" y="128015"/>
                </a:lnTo>
                <a:lnTo>
                  <a:pt x="2057384" y="115823"/>
                </a:lnTo>
                <a:lnTo>
                  <a:pt x="2068440" y="112775"/>
                </a:lnTo>
                <a:lnTo>
                  <a:pt x="2162600" y="112775"/>
                </a:lnTo>
                <a:lnTo>
                  <a:pt x="2160604" y="106679"/>
                </a:lnTo>
                <a:lnTo>
                  <a:pt x="2146879" y="70103"/>
                </a:lnTo>
                <a:lnTo>
                  <a:pt x="2128108" y="36575"/>
                </a:lnTo>
                <a:lnTo>
                  <a:pt x="2094809" y="6095"/>
                </a:lnTo>
                <a:lnTo>
                  <a:pt x="2085054" y="3047"/>
                </a:lnTo>
                <a:lnTo>
                  <a:pt x="2074673"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3" name="object 12"/>
          <p:cNvSpPr/>
          <p:nvPr/>
        </p:nvSpPr>
        <p:spPr>
          <a:xfrm>
            <a:off x="8699400" y="5510160"/>
            <a:ext cx="9525240" cy="8071920"/>
          </a:xfrm>
          <a:prstGeom prst="rect">
            <a:avLst/>
          </a:prstGeom>
          <a:noFill/>
          <a:ln w="0">
            <a:noFill/>
          </a:ln>
        </p:spPr>
        <p:style>
          <a:lnRef idx="0"/>
          <a:fillRef idx="0"/>
          <a:effectRef idx="0"/>
          <a:fontRef idx="minor"/>
        </p:style>
        <p:txBody>
          <a:bodyPr lIns="0" rIns="0" tIns="0" bIns="0" anchor="t">
            <a:spAutoFit/>
          </a:bodyPr>
          <a:p>
            <a:pPr marL="4665600">
              <a:lnSpc>
                <a:spcPct val="100000"/>
              </a:lnSpc>
              <a:spcBef>
                <a:spcPts val="1125"/>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Local : 020 33 22 77 23</a:t>
            </a:r>
            <a:endParaRPr b="0" lang="en-US" sz="2800" spc="-1" strike="noStrike">
              <a:solidFill>
                <a:srgbClr val="000000"/>
              </a:solidFill>
              <a:latin typeface="Calibri"/>
            </a:endParaRPr>
          </a:p>
          <a:p>
            <a:pPr marL="4665600">
              <a:lnSpc>
                <a:spcPct val="100000"/>
              </a:lnSpc>
              <a:spcBef>
                <a:spcPts val="462"/>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Global</a:t>
            </a:r>
            <a:r>
              <a:rPr b="0" lang="en-US" sz="2800" spc="-1" strike="noStrike">
                <a:solidFill>
                  <a:srgbClr val="050606"/>
                </a:solidFill>
                <a:latin typeface="Arial"/>
              </a:rPr>
              <a:t>	</a:t>
            </a:r>
            <a:r>
              <a:rPr b="0" lang="en-US" sz="2800" spc="-1" strike="noStrike">
                <a:solidFill>
                  <a:srgbClr val="050606"/>
                </a:solidFill>
                <a:latin typeface="Arial"/>
              </a:rPr>
              <a:t>:</a:t>
            </a:r>
            <a:r>
              <a:rPr b="0" lang="en-US" sz="2800" spc="-1" strike="noStrike">
                <a:solidFill>
                  <a:srgbClr val="050606"/>
                </a:solidFill>
                <a:latin typeface="Arial"/>
              </a:rPr>
              <a:t>	</a:t>
            </a:r>
            <a:r>
              <a:rPr b="0" lang="en-US" sz="2800" spc="-1" strike="noStrike">
                <a:solidFill>
                  <a:srgbClr val="050606"/>
                </a:solidFill>
                <a:latin typeface="Arial"/>
              </a:rPr>
              <a:t>0044</a:t>
            </a:r>
            <a:r>
              <a:rPr b="0" lang="en-US" sz="2800" spc="-1" strike="noStrike">
                <a:solidFill>
                  <a:srgbClr val="050606"/>
                </a:solidFill>
                <a:latin typeface="Arial"/>
              </a:rPr>
              <a:t>	</a:t>
            </a:r>
            <a:r>
              <a:rPr b="0" lang="en-US" sz="2800" spc="-1" strike="noStrike">
                <a:solidFill>
                  <a:srgbClr val="050606"/>
                </a:solidFill>
                <a:latin typeface="Arial"/>
              </a:rPr>
              <a:t>2033227723</a:t>
            </a:r>
            <a:endParaRPr b="0" lang="en-US" sz="2800" spc="-1" strike="noStrike">
              <a:solidFill>
                <a:srgbClr val="000000"/>
              </a:solidFill>
              <a:latin typeface="Calibri"/>
            </a:endParaRPr>
          </a:p>
          <a:p>
            <a:pPr marL="4665600">
              <a:lnSpc>
                <a:spcPct val="100000"/>
              </a:lnSpc>
              <a:tabLst>
                <a:tab algn="l" pos="0"/>
                <a:tab algn="l" pos="6095880"/>
                <a:tab algn="l" pos="6400800"/>
                <a:tab algn="l" pos="7315200"/>
                <a:tab algn="l" pos="8229600"/>
                <a:tab algn="l" pos="9144000"/>
                <a:tab algn="l" pos="10058400"/>
              </a:tabLst>
            </a:pPr>
            <a:endParaRPr b="0" lang="en-US" sz="2800" spc="-1" strike="noStrike">
              <a:solidFill>
                <a:srgbClr val="000000"/>
              </a:solidFill>
              <a:latin typeface="Calibri"/>
            </a:endParaRPr>
          </a:p>
          <a:p>
            <a:pPr marL="4665600">
              <a:lnSpc>
                <a:spcPct val="100000"/>
              </a:lnSpc>
              <a:spcBef>
                <a:spcPts val="26"/>
              </a:spcBef>
              <a:tabLst>
                <a:tab algn="l" pos="0"/>
                <a:tab algn="l" pos="6095880"/>
                <a:tab algn="l" pos="6400800"/>
                <a:tab algn="l" pos="7315200"/>
                <a:tab algn="l" pos="8229600"/>
                <a:tab algn="l" pos="9144000"/>
                <a:tab algn="l" pos="10058400"/>
              </a:tabLst>
            </a:pPr>
            <a:endParaRPr b="0" lang="en-US" sz="3300" spc="-1" strike="noStrike">
              <a:solidFill>
                <a:srgbClr val="000000"/>
              </a:solidFill>
              <a:latin typeface="Calibri"/>
            </a:endParaRPr>
          </a:p>
          <a:p>
            <a:pPr marL="4665600">
              <a:lnSpc>
                <a:spcPct val="100000"/>
              </a:lnSpc>
              <a:tabLst>
                <a:tab algn="l" pos="0"/>
                <a:tab algn="l" pos="6095880"/>
                <a:tab algn="l" pos="6400800"/>
                <a:tab algn="l" pos="7315200"/>
                <a:tab algn="l" pos="8229600"/>
                <a:tab algn="l" pos="9144000"/>
                <a:tab algn="l" pos="10058400"/>
              </a:tabLst>
            </a:pPr>
            <a:r>
              <a:rPr b="0" lang="en-US" sz="3000" spc="-1" strike="noStrike">
                <a:solidFill>
                  <a:srgbClr val="d9b83d"/>
                </a:solidFill>
                <a:latin typeface="Arial"/>
              </a:rPr>
              <a:t>EMAIL</a:t>
            </a:r>
            <a:r>
              <a:rPr b="0" lang="en-US" sz="3000" spc="-1" strike="noStrike">
                <a:solidFill>
                  <a:srgbClr val="d9b83d"/>
                </a:solidFill>
                <a:latin typeface="Arial"/>
              </a:rPr>
              <a:t>	</a:t>
            </a:r>
            <a:r>
              <a:rPr b="0" lang="en-US" sz="3000" spc="-1" strike="noStrike">
                <a:solidFill>
                  <a:srgbClr val="d9b83d"/>
                </a:solidFill>
                <a:latin typeface="Arial"/>
              </a:rPr>
              <a:t>ADDRESS</a:t>
            </a:r>
            <a:endParaRPr b="0" lang="en-US" sz="3000" spc="-1" strike="noStrike">
              <a:solidFill>
                <a:srgbClr val="000000"/>
              </a:solidFill>
              <a:latin typeface="Calibri"/>
            </a:endParaRPr>
          </a:p>
          <a:p>
            <a:pPr marL="4665600">
              <a:lnSpc>
                <a:spcPct val="100000"/>
              </a:lnSpc>
              <a:spcBef>
                <a:spcPts val="1049"/>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sales@jewels-airport-transfers.co.uk</a:t>
            </a:r>
            <a:endParaRPr b="0" lang="en-US" sz="2800" spc="-1" strike="noStrike">
              <a:solidFill>
                <a:srgbClr val="000000"/>
              </a:solidFill>
              <a:latin typeface="Calibri"/>
            </a:endParaRPr>
          </a:p>
          <a:p>
            <a:pPr marL="4665600">
              <a:lnSpc>
                <a:spcPct val="100000"/>
              </a:lnSpc>
              <a:spcBef>
                <a:spcPts val="37"/>
              </a:spcBef>
              <a:tabLst>
                <a:tab algn="l" pos="0"/>
                <a:tab algn="l" pos="6095880"/>
                <a:tab algn="l" pos="6400800"/>
                <a:tab algn="l" pos="7315200"/>
                <a:tab algn="l" pos="8229600"/>
                <a:tab algn="l" pos="9144000"/>
                <a:tab algn="l" pos="10058400"/>
              </a:tabLst>
            </a:pPr>
            <a:endParaRPr b="0" lang="en-US" sz="3700" spc="-1" strike="noStrike">
              <a:solidFill>
                <a:srgbClr val="000000"/>
              </a:solidFill>
              <a:latin typeface="Calibri"/>
            </a:endParaRPr>
          </a:p>
          <a:p>
            <a:pPr marL="4665600">
              <a:lnSpc>
                <a:spcPct val="116000"/>
              </a:lnSpc>
              <a:tabLst>
                <a:tab algn="l" pos="0"/>
                <a:tab algn="l" pos="6095880"/>
                <a:tab algn="l" pos="6400800"/>
                <a:tab algn="l" pos="7315200"/>
                <a:tab algn="l" pos="8229600"/>
                <a:tab algn="l" pos="9144000"/>
                <a:tab algn="l" pos="10058400"/>
              </a:tabLst>
            </a:pPr>
            <a:r>
              <a:rPr b="0" lang="en-US" sz="2100" spc="-1" strike="noStrike">
                <a:solidFill>
                  <a:srgbClr val="000000"/>
                </a:solidFill>
                <a:latin typeface="Arial"/>
              </a:rPr>
              <a:t>https://www.jewels-airport- transfers.co.u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46160" y="921960"/>
            <a:ext cx="16916400" cy="492120"/>
          </a:xfrm>
          <a:prstGeom prst="rect">
            <a:avLst/>
          </a:prstGeom>
          <a:noFill/>
          <a:ln w="0">
            <a:noFill/>
          </a:ln>
        </p:spPr>
        <p:txBody>
          <a:bodyPr lIns="0" rIns="0" tIns="0" bIns="0" anchor="t">
            <a:noAutofit/>
          </a:bodyPr>
          <a:p>
            <a:pPr marL="10450440" indent="0" algn="ctr">
              <a:lnSpc>
                <a:spcPct val="100000"/>
              </a:lnSpc>
              <a:buNone/>
              <a:tabLst>
                <a:tab algn="l" pos="0"/>
              </a:tabLst>
            </a:pPr>
            <a:r>
              <a:rPr b="1" lang="en-US" sz="3200" spc="-1" strike="noStrike">
                <a:solidFill>
                  <a:srgbClr val="ffc000"/>
                </a:solidFill>
                <a:latin typeface="Arial"/>
                <a:ea typeface="Arial"/>
              </a:rPr>
              <a:t>JEWELS AIRPORT TRANSFERS</a:t>
            </a:r>
            <a:endParaRPr b="0" lang="en-US" sz="3200" spc="-1" strike="noStrike">
              <a:solidFill>
                <a:srgbClr val="1f497d"/>
              </a:solidFill>
              <a:latin typeface="Calibri"/>
            </a:endParaRPr>
          </a:p>
        </p:txBody>
      </p:sp>
      <p:sp>
        <p:nvSpPr>
          <p:cNvPr id="96" name="object 35"/>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bject 36"/>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bject 37"/>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9" name="object 38"/>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0" name="object 39"/>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1" name="object 40"/>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bject 41"/>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3" name="object 42"/>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35"/>
          <p:cNvSpPr/>
          <p:nvPr/>
        </p:nvSpPr>
        <p:spPr>
          <a:xfrm>
            <a:off x="6705720" y="404352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accept it that we all forget something when it comes to backpacking, especially when we are travelling by air. With this in mind, we have created a traveller checklist for the people who are flying to and from Heathrow. Though this list doesn’t include everything related to your trip, it covers the basic amenities and security precautions at the airpo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object 2"/>
          <p:cNvSpPr/>
          <p:nvPr/>
        </p:nvSpPr>
        <p:spPr>
          <a:xfrm>
            <a:off x="1814400" y="838080"/>
            <a:ext cx="5880240" cy="85284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1. </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PRE-</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PLANNING BEFORE REACHING AIRPORT</a:t>
            </a:r>
            <a:endParaRPr b="0" lang="en-US" sz="7000" spc="-1" strike="noStrike">
              <a:solidFill>
                <a:srgbClr val="000000"/>
              </a:solidFill>
              <a:latin typeface="Calibri"/>
            </a:endParaRPr>
          </a:p>
          <a:p>
            <a:pPr marL="12600">
              <a:lnSpc>
                <a:spcPct val="100000"/>
              </a:lnSpc>
              <a:spcBef>
                <a:spcPts val="4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06" name="object 13"/>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object 14"/>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bject 15"/>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bject 16"/>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object 17"/>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1" name="object 18"/>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2" name="object 19"/>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3" name="object 20"/>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object 26"/>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2"/>
          <p:cNvSpPr/>
          <p:nvPr/>
        </p:nvSpPr>
        <p:spPr>
          <a:xfrm>
            <a:off x="9129600" y="3619440"/>
            <a:ext cx="9144000" cy="478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How far your destination is from the airport</a:t>
            </a: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How many days are you planning to stay there</a:t>
            </a:r>
            <a:endParaRPr b="0" lang="en-US" sz="3600" spc="-1" strike="noStrike">
              <a:solidFill>
                <a:srgbClr val="000000"/>
              </a:solidFill>
              <a:latin typeface="Calibri"/>
            </a:endParaRPr>
          </a:p>
          <a:p>
            <a:pPr marL="343080" indent="-34308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Is it accessible via public transport or not?</a:t>
            </a: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Do you need to book hotels in adv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object 2"/>
          <p:cNvSpPr/>
          <p:nvPr/>
        </p:nvSpPr>
        <p:spPr>
          <a:xfrm>
            <a:off x="1814400" y="1909800"/>
            <a:ext cx="588168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03508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2. ESSENTIALS FOR HAND LUGGAGE</a:t>
            </a:r>
            <a:endParaRPr b="0" lang="en-US" sz="7000" spc="-1" strike="noStrike">
              <a:solidFill>
                <a:srgbClr val="000000"/>
              </a:solidFill>
              <a:latin typeface="Calibri"/>
            </a:endParaRPr>
          </a:p>
          <a:p>
            <a:pPr marL="12600">
              <a:lnSpc>
                <a:spcPct val="100000"/>
              </a:lnSpc>
              <a:spcBef>
                <a:spcPts val="4238"/>
              </a:spcBef>
              <a:tabLst>
                <a:tab algn="l" pos="0"/>
                <a:tab algn="l" pos="203508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17" name="object 18"/>
          <p:cNvSpPr/>
          <p:nvPr/>
        </p:nvSpPr>
        <p:spPr>
          <a:xfrm>
            <a:off x="9828360" y="5799240"/>
            <a:ext cx="90360" cy="91800"/>
          </a:xfrm>
          <a:custGeom>
            <a:avLst/>
            <a:gdLst/>
            <a:ahLst/>
            <a:rect l="l" t="t" r="r" b="b"/>
            <a:pathLst>
              <a:path w="90170" h="91439">
                <a:moveTo>
                  <a:pt x="42190" y="0"/>
                </a:moveTo>
                <a:lnTo>
                  <a:pt x="8116" y="17928"/>
                </a:lnTo>
                <a:lnTo>
                  <a:pt x="0" y="56513"/>
                </a:lnTo>
                <a:lnTo>
                  <a:pt x="4719" y="68154"/>
                </a:lnTo>
                <a:lnTo>
                  <a:pt x="13209" y="78926"/>
                </a:lnTo>
                <a:lnTo>
                  <a:pt x="22719" y="85763"/>
                </a:lnTo>
                <a:lnTo>
                  <a:pt x="34453" y="89813"/>
                </a:lnTo>
                <a:lnTo>
                  <a:pt x="49392" y="91011"/>
                </a:lnTo>
                <a:lnTo>
                  <a:pt x="59890" y="88294"/>
                </a:lnTo>
                <a:lnTo>
                  <a:pt x="70791" y="81719"/>
                </a:lnTo>
                <a:lnTo>
                  <a:pt x="83010" y="70181"/>
                </a:lnTo>
                <a:lnTo>
                  <a:pt x="88311" y="58633"/>
                </a:lnTo>
                <a:lnTo>
                  <a:pt x="90076" y="45610"/>
                </a:lnTo>
                <a:lnTo>
                  <a:pt x="89704" y="39719"/>
                </a:lnTo>
                <a:lnTo>
                  <a:pt x="67692" y="6245"/>
                </a:lnTo>
                <a:lnTo>
                  <a:pt x="42190"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8" name="object 22"/>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bject 23"/>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object 24"/>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bject 25"/>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bject 26"/>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3" name="object 27"/>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4" name="object 28"/>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5" name="object 29"/>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object 31"/>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5"/>
          <p:cNvSpPr/>
          <p:nvPr/>
        </p:nvSpPr>
        <p:spPr>
          <a:xfrm>
            <a:off x="9144000" y="208116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onfirm the flight reservation statu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heck essentials documents like Visa, Passport, Boarding Pass, etc. are in your hand luggage</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Take a copy of all the documents you’re carrying</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Medication, Health insurance, or any other equipment related to health</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Magazines, books, games, music player – especially if you’re travelling with kid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ash currency of the country that you’re visi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29" name="object 15"/>
          <p:cNvSpPr/>
          <p:nvPr/>
        </p:nvSpPr>
        <p:spPr>
          <a:xfrm>
            <a:off x="11553840" y="9024840"/>
            <a:ext cx="57164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Arial"/>
              </a:rPr>
              <a:t>JEWELS AIRPORT TRANSFERS</a:t>
            </a:r>
            <a:endParaRPr b="0" lang="en-US" sz="3000" spc="-1" strike="noStrike">
              <a:solidFill>
                <a:srgbClr val="000000"/>
              </a:solidFill>
              <a:latin typeface="Calibri"/>
            </a:endParaRPr>
          </a:p>
        </p:txBody>
      </p:sp>
      <p:sp>
        <p:nvSpPr>
          <p:cNvPr id="130" name="object 18"/>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object 19"/>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object 20"/>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3" name="object 21"/>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4" name="object 22"/>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 name="object 23"/>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bject 24"/>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7" name="object 25"/>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18"/>
          <p:cNvSpPr/>
          <p:nvPr/>
        </p:nvSpPr>
        <p:spPr>
          <a:xfrm>
            <a:off x="7056360" y="400356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re travelling just with hand luggage, then check with the airlines about how many hand luggage you can carry during your journe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object 2"/>
          <p:cNvSpPr/>
          <p:nvPr/>
        </p:nvSpPr>
        <p:spPr>
          <a:xfrm>
            <a:off x="1709640" y="1982880"/>
            <a:ext cx="530064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3. CHECKLIST FOR SUITCASE</a:t>
            </a:r>
            <a:endParaRPr b="0" lang="en-US" sz="7000" spc="-1" strike="noStrike">
              <a:solidFill>
                <a:srgbClr val="000000"/>
              </a:solidFill>
              <a:latin typeface="Calibri"/>
            </a:endParaRPr>
          </a:p>
          <a:p>
            <a:pPr marL="12600">
              <a:lnSpc>
                <a:spcPct val="100000"/>
              </a:lnSpc>
              <a:spcBef>
                <a:spcPts val="4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40" name="object 22"/>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bject 23"/>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object 24"/>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object 25"/>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bject 26"/>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5" name="object 27"/>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6" name="object 28"/>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7" name="object 29"/>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object 30"/>
          <p:cNvSpPr/>
          <p:nvPr/>
        </p:nvSpPr>
        <p:spPr>
          <a:xfrm>
            <a:off x="9845640" y="8607600"/>
            <a:ext cx="104760" cy="104760"/>
          </a:xfrm>
          <a:custGeom>
            <a:avLst/>
            <a:gdLst/>
            <a:ahLst/>
            <a:rect l="l" t="t" r="r" b="b"/>
            <a:pathLst>
              <a:path w="104775" h="104775">
                <a:moveTo>
                  <a:pt x="59344" y="0"/>
                </a:moveTo>
                <a:lnTo>
                  <a:pt x="45445" y="0"/>
                </a:lnTo>
                <a:lnTo>
                  <a:pt x="38770" y="1335"/>
                </a:lnTo>
                <a:lnTo>
                  <a:pt x="6644" y="25920"/>
                </a:lnTo>
                <a:lnTo>
                  <a:pt x="3992" y="32339"/>
                </a:lnTo>
                <a:lnTo>
                  <a:pt x="1310" y="38755"/>
                </a:lnTo>
                <a:lnTo>
                  <a:pt x="0" y="45448"/>
                </a:lnTo>
                <a:lnTo>
                  <a:pt x="0" y="59341"/>
                </a:lnTo>
                <a:lnTo>
                  <a:pt x="1310" y="66022"/>
                </a:lnTo>
                <a:lnTo>
                  <a:pt x="3992" y="72438"/>
                </a:lnTo>
                <a:lnTo>
                  <a:pt x="6644" y="78857"/>
                </a:lnTo>
                <a:lnTo>
                  <a:pt x="38770" y="103455"/>
                </a:lnTo>
                <a:lnTo>
                  <a:pt x="45445" y="104774"/>
                </a:lnTo>
                <a:lnTo>
                  <a:pt x="59344" y="104774"/>
                </a:lnTo>
                <a:lnTo>
                  <a:pt x="94335" y="84524"/>
                </a:lnTo>
                <a:lnTo>
                  <a:pt x="100766" y="72438"/>
                </a:lnTo>
                <a:lnTo>
                  <a:pt x="103449" y="66022"/>
                </a:lnTo>
                <a:lnTo>
                  <a:pt x="104759" y="59341"/>
                </a:lnTo>
                <a:lnTo>
                  <a:pt x="104759" y="45448"/>
                </a:lnTo>
                <a:lnTo>
                  <a:pt x="103449" y="38755"/>
                </a:lnTo>
                <a:lnTo>
                  <a:pt x="100766" y="32339"/>
                </a:lnTo>
                <a:lnTo>
                  <a:pt x="98115" y="25920"/>
                </a:lnTo>
                <a:lnTo>
                  <a:pt x="94335" y="20266"/>
                </a:lnTo>
                <a:lnTo>
                  <a:pt x="84521" y="10430"/>
                </a:lnTo>
                <a:lnTo>
                  <a:pt x="78851" y="6644"/>
                </a:lnTo>
                <a:lnTo>
                  <a:pt x="66019" y="1335"/>
                </a:lnTo>
                <a:lnTo>
                  <a:pt x="59344"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9" name="Rectangle 12"/>
          <p:cNvSpPr/>
          <p:nvPr/>
        </p:nvSpPr>
        <p:spPr>
          <a:xfrm>
            <a:off x="9144000" y="198288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Your outfits, such as warm clothes, vests, winter wear, etc.</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osmetic items like sunscreen, body lotion, face crea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Electronic items like phone, laptop, iPad, electrical adaptors, and other equipmen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First aid kit in case you need i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Insect repell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51" name="object 3"/>
          <p:cNvSpPr/>
          <p:nvPr/>
        </p:nvSpPr>
        <p:spPr>
          <a:xfrm>
            <a:off x="7781760" y="6404040"/>
            <a:ext cx="3434040" cy="122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211788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You</a:t>
            </a:r>
            <a:r>
              <a:rPr b="0" lang="de-DE" sz="3600" spc="-1" strike="noStrike">
                <a:solidFill>
                  <a:srgbClr val="050606"/>
                </a:solidFill>
                <a:latin typeface="Arial"/>
              </a:rPr>
              <a:t>	</a:t>
            </a:r>
            <a:r>
              <a:rPr b="0" lang="de-DE" sz="3600" spc="-1" strike="noStrike">
                <a:solidFill>
                  <a:srgbClr val="050606"/>
                </a:solidFill>
                <a:latin typeface="Arial"/>
              </a:rPr>
              <a:t>can</a:t>
            </a:r>
            <a:r>
              <a:rPr b="0" lang="de-DE" sz="3600" spc="-1" strike="noStrike">
                <a:solidFill>
                  <a:srgbClr val="050606"/>
                </a:solidFill>
                <a:latin typeface="Arial"/>
              </a:rPr>
              <a:t>	</a:t>
            </a:r>
            <a:r>
              <a:rPr b="0" lang="de-DE" sz="3600" spc="-1" strike="noStrike">
                <a:solidFill>
                  <a:srgbClr val="050606"/>
                </a:solidFill>
                <a:latin typeface="Arial"/>
              </a:rPr>
              <a:t>check</a:t>
            </a:r>
            <a:endParaRPr b="0" lang="en-US" sz="3600" spc="-1" strike="noStrike">
              <a:solidFill>
                <a:srgbClr val="000000"/>
              </a:solidFill>
              <a:latin typeface="Calibri"/>
            </a:endParaRPr>
          </a:p>
          <a:p>
            <a:pPr marL="12600">
              <a:lnSpc>
                <a:spcPct val="100000"/>
              </a:lnSpc>
              <a:spcBef>
                <a:spcPts val="1001"/>
              </a:spcBef>
              <a:tabLst>
                <a:tab algn="l" pos="0"/>
                <a:tab algn="l" pos="1065240"/>
                <a:tab algn="l" pos="211788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for</a:t>
            </a:r>
            <a:endParaRPr b="0" lang="en-US" sz="3600" spc="-1" strike="noStrike">
              <a:solidFill>
                <a:srgbClr val="000000"/>
              </a:solidFill>
              <a:latin typeface="Calibri"/>
            </a:endParaRPr>
          </a:p>
        </p:txBody>
      </p:sp>
      <p:sp>
        <p:nvSpPr>
          <p:cNvPr id="152" name="object 4"/>
          <p:cNvSpPr/>
          <p:nvPr/>
        </p:nvSpPr>
        <p:spPr>
          <a:xfrm>
            <a:off x="11466360" y="6404040"/>
            <a:ext cx="29084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airline</a:t>
            </a:r>
            <a:endParaRPr b="0" lang="en-US" sz="3600" spc="-1" strike="noStrike">
              <a:solidFill>
                <a:srgbClr val="000000"/>
              </a:solidFill>
              <a:latin typeface="Calibri"/>
            </a:endParaRPr>
          </a:p>
        </p:txBody>
      </p:sp>
      <p:sp>
        <p:nvSpPr>
          <p:cNvPr id="153" name="object 5"/>
          <p:cNvSpPr/>
          <p:nvPr/>
        </p:nvSpPr>
        <p:spPr>
          <a:xfrm>
            <a:off x="14625720" y="6404040"/>
            <a:ext cx="26445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guidelines</a:t>
            </a:r>
            <a:endParaRPr b="0" lang="en-US" sz="3600" spc="-1" strike="noStrike">
              <a:solidFill>
                <a:srgbClr val="000000"/>
              </a:solidFill>
              <a:latin typeface="Calibri"/>
            </a:endParaRPr>
          </a:p>
        </p:txBody>
      </p:sp>
      <p:sp>
        <p:nvSpPr>
          <p:cNvPr id="154" name="object 6"/>
          <p:cNvSpPr/>
          <p:nvPr/>
        </p:nvSpPr>
        <p:spPr>
          <a:xfrm>
            <a:off x="9887040" y="7080120"/>
            <a:ext cx="211932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carrying</a:t>
            </a:r>
            <a:endParaRPr b="0" lang="en-US" sz="3600" spc="-1" strike="noStrike">
              <a:solidFill>
                <a:srgbClr val="000000"/>
              </a:solidFill>
              <a:latin typeface="Calibri"/>
            </a:endParaRPr>
          </a:p>
        </p:txBody>
      </p:sp>
      <p:sp>
        <p:nvSpPr>
          <p:cNvPr id="155" name="object 7"/>
          <p:cNvSpPr/>
          <p:nvPr/>
        </p:nvSpPr>
        <p:spPr>
          <a:xfrm>
            <a:off x="12256920" y="7080120"/>
            <a:ext cx="50133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538200"/>
                <a:tab algn="l" pos="2908440"/>
                <a:tab algn="l" pos="396072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a:t>
            </a:r>
            <a:r>
              <a:rPr b="0" lang="de-DE" sz="3600" spc="-1" strike="noStrike">
                <a:solidFill>
                  <a:srgbClr val="050606"/>
                </a:solidFill>
                <a:latin typeface="Arial"/>
              </a:rPr>
              <a:t>	</a:t>
            </a:r>
            <a:r>
              <a:rPr b="0" lang="de-DE" sz="3600" spc="-1" strike="noStrike">
                <a:solidFill>
                  <a:srgbClr val="050606"/>
                </a:solidFill>
                <a:latin typeface="Arial"/>
              </a:rPr>
              <a:t>suitcase</a:t>
            </a:r>
            <a:r>
              <a:rPr b="0" lang="de-DE" sz="3600" spc="-1" strike="noStrike">
                <a:solidFill>
                  <a:srgbClr val="050606"/>
                </a:solidFill>
                <a:latin typeface="Arial"/>
              </a:rPr>
              <a:t>	</a:t>
            </a:r>
            <a:r>
              <a:rPr b="0" lang="de-DE" sz="3600" spc="-1" strike="noStrike">
                <a:solidFill>
                  <a:srgbClr val="050606"/>
                </a:solidFill>
                <a:latin typeface="Arial"/>
              </a:rPr>
              <a:t>and</a:t>
            </a:r>
            <a:r>
              <a:rPr b="0" lang="de-DE" sz="3600" spc="-1" strike="noStrike">
                <a:solidFill>
                  <a:srgbClr val="050606"/>
                </a:solidFill>
                <a:latin typeface="Arial"/>
              </a:rPr>
              <a:t>	</a:t>
            </a:r>
            <a:r>
              <a:rPr b="0" lang="de-DE" sz="3600" spc="-1" strike="noStrike">
                <a:solidFill>
                  <a:srgbClr val="050606"/>
                </a:solidFill>
                <a:latin typeface="Arial"/>
              </a:rPr>
              <a:t>what</a:t>
            </a:r>
            <a:endParaRPr b="0" lang="en-US" sz="3600" spc="-1" strike="noStrike">
              <a:solidFill>
                <a:srgbClr val="000000"/>
              </a:solidFill>
              <a:latin typeface="Calibri"/>
            </a:endParaRPr>
          </a:p>
        </p:txBody>
      </p:sp>
      <p:sp>
        <p:nvSpPr>
          <p:cNvPr id="156" name="object 8"/>
          <p:cNvSpPr/>
          <p:nvPr/>
        </p:nvSpPr>
        <p:spPr>
          <a:xfrm>
            <a:off x="8307360" y="7756560"/>
            <a:ext cx="13287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items</a:t>
            </a:r>
            <a:endParaRPr b="0" lang="en-US" sz="3600" spc="-1" strike="noStrike">
              <a:solidFill>
                <a:srgbClr val="000000"/>
              </a:solidFill>
              <a:latin typeface="Calibri"/>
            </a:endParaRPr>
          </a:p>
        </p:txBody>
      </p:sp>
      <p:sp>
        <p:nvSpPr>
          <p:cNvPr id="157" name="object 9"/>
          <p:cNvSpPr/>
          <p:nvPr/>
        </p:nvSpPr>
        <p:spPr>
          <a:xfrm>
            <a:off x="9887040" y="7756560"/>
            <a:ext cx="18558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you</a:t>
            </a:r>
            <a:r>
              <a:rPr b="0" lang="de-DE" sz="3600" spc="-1" strike="noStrike">
                <a:solidFill>
                  <a:srgbClr val="050606"/>
                </a:solidFill>
                <a:latin typeface="Arial"/>
              </a:rPr>
              <a:t>	</a:t>
            </a:r>
            <a:r>
              <a:rPr b="0" lang="de-DE" sz="3600" spc="-1" strike="noStrike">
                <a:solidFill>
                  <a:srgbClr val="050606"/>
                </a:solidFill>
                <a:latin typeface="Arial"/>
              </a:rPr>
              <a:t>can</a:t>
            </a:r>
            <a:endParaRPr b="0" lang="en-US" sz="3600" spc="-1" strike="noStrike">
              <a:solidFill>
                <a:srgbClr val="000000"/>
              </a:solidFill>
              <a:latin typeface="Calibri"/>
            </a:endParaRPr>
          </a:p>
        </p:txBody>
      </p:sp>
      <p:sp>
        <p:nvSpPr>
          <p:cNvPr id="158" name="object 10"/>
          <p:cNvSpPr/>
          <p:nvPr/>
        </p:nvSpPr>
        <p:spPr>
          <a:xfrm>
            <a:off x="11993400" y="7756560"/>
            <a:ext cx="527688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590840"/>
                <a:tab algn="l" pos="290844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bring</a:t>
            </a:r>
            <a:r>
              <a:rPr b="0" lang="de-DE" sz="3600" spc="-1" strike="noStrike">
                <a:solidFill>
                  <a:srgbClr val="050606"/>
                </a:solidFill>
                <a:latin typeface="Arial"/>
              </a:rPr>
              <a:t>	</a:t>
            </a:r>
            <a:r>
              <a:rPr b="0" lang="de-DE" sz="3600" spc="-1" strike="noStrike">
                <a:solidFill>
                  <a:srgbClr val="050606"/>
                </a:solidFill>
                <a:latin typeface="Arial"/>
              </a:rPr>
              <a:t>with</a:t>
            </a:r>
            <a:r>
              <a:rPr b="0" lang="de-DE" sz="3600" spc="-1" strike="noStrike">
                <a:solidFill>
                  <a:srgbClr val="050606"/>
                </a:solidFill>
                <a:latin typeface="Arial"/>
              </a:rPr>
              <a:t>	</a:t>
            </a:r>
            <a:r>
              <a:rPr b="0" lang="de-DE" sz="3600" spc="-1" strike="noStrike">
                <a:solidFill>
                  <a:srgbClr val="050606"/>
                </a:solidFill>
                <a:latin typeface="Arial"/>
              </a:rPr>
              <a:t>yourself.</a:t>
            </a:r>
            <a:endParaRPr b="0" lang="en-US" sz="3600" spc="-1" strike="noStrike">
              <a:solidFill>
                <a:srgbClr val="000000"/>
              </a:solidFill>
              <a:latin typeface="Calibri"/>
            </a:endParaRPr>
          </a:p>
        </p:txBody>
      </p:sp>
      <p:sp>
        <p:nvSpPr>
          <p:cNvPr id="159" name="object 12"/>
          <p:cNvSpPr/>
          <p:nvPr/>
        </p:nvSpPr>
        <p:spPr>
          <a:xfrm>
            <a:off x="10515600" y="9024840"/>
            <a:ext cx="67546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50606"/>
                </a:solidFill>
                <a:latin typeface="Arial"/>
              </a:rPr>
              <a:t>JEWELS AIRPORT TRANSFERS</a:t>
            </a:r>
            <a:endParaRPr b="0" lang="en-US" sz="3000" spc="-1" strike="noStrike">
              <a:solidFill>
                <a:srgbClr val="000000"/>
              </a:solidFill>
              <a:latin typeface="Calibri"/>
            </a:endParaRPr>
          </a:p>
        </p:txBody>
      </p:sp>
      <p:sp>
        <p:nvSpPr>
          <p:cNvPr id="160" name="object 14"/>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bject 15"/>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bject 16"/>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3" name="object 17"/>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4" name="object 18"/>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5" name="object 19"/>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bject 20"/>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7" name="object 21"/>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object 2"/>
          <p:cNvSpPr/>
          <p:nvPr/>
        </p:nvSpPr>
        <p:spPr>
          <a:xfrm>
            <a:off x="1709640" y="911160"/>
            <a:ext cx="5300640" cy="74620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4. GENERAL</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CHECKLIST BEFORE YOUR JOURNEY</a:t>
            </a:r>
            <a:endParaRPr b="0" lang="en-US" sz="7000" spc="-1" strike="noStrike">
              <a:solidFill>
                <a:srgbClr val="000000"/>
              </a:solidFill>
              <a:latin typeface="Calibri"/>
            </a:endParaRPr>
          </a:p>
          <a:p>
            <a:pPr marL="12600">
              <a:lnSpc>
                <a:spcPct val="100000"/>
              </a:lnSpc>
              <a:spcBef>
                <a:spcPts val="4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69" name="object 3"/>
          <p:cNvSpPr/>
          <p:nvPr/>
        </p:nvSpPr>
        <p:spPr>
          <a:xfrm>
            <a:off x="9845640" y="1882800"/>
            <a:ext cx="104760" cy="104760"/>
          </a:xfrm>
          <a:custGeom>
            <a:avLst/>
            <a:gdLst/>
            <a:ahLst/>
            <a:rect l="l" t="t" r="r" b="b"/>
            <a:pathLst>
              <a:path w="104775" h="105410">
                <a:moveTo>
                  <a:pt x="59344" y="0"/>
                </a:moveTo>
                <a:lnTo>
                  <a:pt x="45445" y="0"/>
                </a:lnTo>
                <a:lnTo>
                  <a:pt x="38770" y="1341"/>
                </a:lnTo>
                <a:lnTo>
                  <a:pt x="6644" y="25907"/>
                </a:lnTo>
                <a:lnTo>
                  <a:pt x="3992" y="32339"/>
                </a:lnTo>
                <a:lnTo>
                  <a:pt x="1310" y="38770"/>
                </a:lnTo>
                <a:lnTo>
                  <a:pt x="0" y="45445"/>
                </a:lnTo>
                <a:lnTo>
                  <a:pt x="0" y="59344"/>
                </a:lnTo>
                <a:lnTo>
                  <a:pt x="1310" y="66019"/>
                </a:lnTo>
                <a:lnTo>
                  <a:pt x="3992" y="72450"/>
                </a:lnTo>
                <a:lnTo>
                  <a:pt x="6644" y="78851"/>
                </a:lnTo>
                <a:lnTo>
                  <a:pt x="38770" y="103449"/>
                </a:lnTo>
                <a:lnTo>
                  <a:pt x="45445" y="104790"/>
                </a:lnTo>
                <a:lnTo>
                  <a:pt x="59344" y="104790"/>
                </a:lnTo>
                <a:lnTo>
                  <a:pt x="94335" y="84521"/>
                </a:lnTo>
                <a:lnTo>
                  <a:pt x="100766" y="72450"/>
                </a:lnTo>
                <a:lnTo>
                  <a:pt x="103449" y="66019"/>
                </a:lnTo>
                <a:lnTo>
                  <a:pt x="104759" y="59344"/>
                </a:lnTo>
                <a:lnTo>
                  <a:pt x="104759" y="45445"/>
                </a:lnTo>
                <a:lnTo>
                  <a:pt x="103449" y="38770"/>
                </a:lnTo>
                <a:lnTo>
                  <a:pt x="100766" y="32339"/>
                </a:lnTo>
                <a:lnTo>
                  <a:pt x="98115" y="25907"/>
                </a:lnTo>
                <a:lnTo>
                  <a:pt x="94335" y="20238"/>
                </a:lnTo>
                <a:lnTo>
                  <a:pt x="89428" y="15361"/>
                </a:lnTo>
                <a:lnTo>
                  <a:pt x="84521" y="10424"/>
                </a:lnTo>
                <a:lnTo>
                  <a:pt x="78851" y="6644"/>
                </a:lnTo>
                <a:lnTo>
                  <a:pt x="66019" y="1341"/>
                </a:lnTo>
                <a:lnTo>
                  <a:pt x="59344"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0" name="object 4"/>
          <p:cNvSpPr/>
          <p:nvPr/>
        </p:nvSpPr>
        <p:spPr>
          <a:xfrm>
            <a:off x="10109160" y="1719360"/>
            <a:ext cx="1425600" cy="1215000"/>
          </a:xfrm>
          <a:prstGeom prst="rect">
            <a:avLst/>
          </a:prstGeom>
          <a:noFill/>
          <a:ln w="0">
            <a:noFill/>
          </a:ln>
        </p:spPr>
        <p:style>
          <a:lnRef idx="0"/>
          <a:fillRef idx="0"/>
          <a:effectRef idx="0"/>
          <a:fontRef idx="minor"/>
        </p:style>
        <p:txBody>
          <a:bodyPr lIns="0" rIns="0" tIns="0" bIns="0" anchor="t">
            <a:spAutoFit/>
          </a:bodyPr>
          <a:p>
            <a:pPr marL="12600">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9b83d"/>
                </a:solidFill>
                <a:latin typeface="Arial"/>
              </a:rPr>
              <a:t>Flight timing</a:t>
            </a:r>
            <a:endParaRPr b="0" lang="en-US" sz="3000" spc="-1" strike="noStrike">
              <a:solidFill>
                <a:srgbClr val="000000"/>
              </a:solidFill>
              <a:latin typeface="Calibri"/>
            </a:endParaRPr>
          </a:p>
        </p:txBody>
      </p:sp>
      <p:sp>
        <p:nvSpPr>
          <p:cNvPr id="171" name="object 5"/>
          <p:cNvSpPr/>
          <p:nvPr/>
        </p:nvSpPr>
        <p:spPr>
          <a:xfrm>
            <a:off x="11777760" y="1719360"/>
            <a:ext cx="38098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3111480"/>
                <a:tab algn="l" pos="3657600"/>
                <a:tab algn="l" pos="4572000"/>
                <a:tab algn="l" pos="5486400"/>
                <a:tab algn="l" pos="6400800"/>
                <a:tab algn="l" pos="7315200"/>
                <a:tab algn="l" pos="8229600"/>
                <a:tab algn="l" pos="9144000"/>
                <a:tab algn="l" pos="10058400"/>
              </a:tabLst>
            </a:pPr>
            <a:r>
              <a:rPr b="0" lang="de-DE" sz="3000" spc="-1" strike="noStrike">
                <a:solidFill>
                  <a:srgbClr val="d9b83d"/>
                </a:solidFill>
                <a:latin typeface="Arial"/>
              </a:rPr>
              <a:t>reservations</a:t>
            </a:r>
            <a:r>
              <a:rPr b="0" lang="de-DE" sz="3000" spc="-1" strike="noStrike">
                <a:solidFill>
                  <a:srgbClr val="d9b83d"/>
                </a:solidFill>
                <a:latin typeface="Arial"/>
              </a:rPr>
              <a:t>	</a:t>
            </a:r>
            <a:r>
              <a:rPr b="0" lang="de-DE" sz="3000" spc="-1" strike="noStrike">
                <a:solidFill>
                  <a:srgbClr val="d9b83d"/>
                </a:solidFill>
                <a:latin typeface="Arial"/>
              </a:rPr>
              <a:t>and</a:t>
            </a:r>
            <a:endParaRPr b="0" lang="en-US" sz="3000" spc="-1" strike="noStrike">
              <a:solidFill>
                <a:srgbClr val="000000"/>
              </a:solidFill>
              <a:latin typeface="Calibri"/>
            </a:endParaRPr>
          </a:p>
        </p:txBody>
      </p:sp>
      <p:sp>
        <p:nvSpPr>
          <p:cNvPr id="172" name="object 6"/>
          <p:cNvSpPr/>
          <p:nvPr/>
        </p:nvSpPr>
        <p:spPr>
          <a:xfrm>
            <a:off x="9836280" y="3251160"/>
            <a:ext cx="95040" cy="93600"/>
          </a:xfrm>
          <a:custGeom>
            <a:avLst/>
            <a:gdLst/>
            <a:ahLst/>
            <a:rect l="l" t="t" r="r" b="b"/>
            <a:pathLst>
              <a:path w="95250" h="93345">
                <a:moveTo>
                  <a:pt x="35635" y="0"/>
                </a:moveTo>
                <a:lnTo>
                  <a:pt x="1449" y="34720"/>
                </a:lnTo>
                <a:lnTo>
                  <a:pt x="0" y="48789"/>
                </a:lnTo>
                <a:lnTo>
                  <a:pt x="2114" y="60438"/>
                </a:lnTo>
                <a:lnTo>
                  <a:pt x="39061" y="92445"/>
                </a:lnTo>
                <a:lnTo>
                  <a:pt x="54785" y="93286"/>
                </a:lnTo>
                <a:lnTo>
                  <a:pt x="65114" y="90050"/>
                </a:lnTo>
                <a:lnTo>
                  <a:pt x="76045" y="82947"/>
                </a:lnTo>
                <a:lnTo>
                  <a:pt x="88427" y="70897"/>
                </a:lnTo>
                <a:lnTo>
                  <a:pt x="93499" y="59254"/>
                </a:lnTo>
                <a:lnTo>
                  <a:pt x="95188" y="46219"/>
                </a:lnTo>
                <a:lnTo>
                  <a:pt x="94941" y="41185"/>
                </a:lnTo>
                <a:lnTo>
                  <a:pt x="75076" y="7338"/>
                </a:lnTo>
                <a:lnTo>
                  <a:pt x="35635"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3" name="object 7"/>
          <p:cNvSpPr/>
          <p:nvPr/>
        </p:nvSpPr>
        <p:spPr>
          <a:xfrm>
            <a:off x="10076040" y="3089160"/>
            <a:ext cx="33429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445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Get</a:t>
            </a:r>
            <a:r>
              <a:rPr b="0" lang="de-DE" sz="2800" spc="-1" strike="noStrike">
                <a:solidFill>
                  <a:srgbClr val="d9b83d"/>
                </a:solidFill>
                <a:latin typeface="Arial"/>
              </a:rPr>
              <a:t>	</a:t>
            </a:r>
            <a:r>
              <a:rPr b="0" lang="de-DE" sz="2800" spc="-1" strike="noStrike">
                <a:solidFill>
                  <a:srgbClr val="d9b83d"/>
                </a:solidFill>
                <a:latin typeface="Arial"/>
              </a:rPr>
              <a:t>vaccinations</a:t>
            </a:r>
            <a:endParaRPr b="0" lang="en-US" sz="2800" spc="-1" strike="noStrike">
              <a:solidFill>
                <a:srgbClr val="000000"/>
              </a:solidFill>
              <a:latin typeface="Calibri"/>
            </a:endParaRPr>
          </a:p>
        </p:txBody>
      </p:sp>
      <p:sp>
        <p:nvSpPr>
          <p:cNvPr id="174" name="object 8"/>
          <p:cNvSpPr/>
          <p:nvPr/>
        </p:nvSpPr>
        <p:spPr>
          <a:xfrm>
            <a:off x="13615920" y="3089160"/>
            <a:ext cx="33447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271944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if</a:t>
            </a:r>
            <a:r>
              <a:rPr b="0" lang="de-DE" sz="2800" spc="-1" strike="noStrike">
                <a:solidFill>
                  <a:srgbClr val="d9b83d"/>
                </a:solidFill>
                <a:latin typeface="Arial"/>
              </a:rPr>
              <a:t>	</a:t>
            </a:r>
            <a:r>
              <a:rPr b="0" lang="de-DE" sz="2800" spc="-1" strike="noStrike">
                <a:solidFill>
                  <a:srgbClr val="d9b83d"/>
                </a:solidFill>
                <a:latin typeface="Arial"/>
              </a:rPr>
              <a:t>required,</a:t>
            </a:r>
            <a:r>
              <a:rPr b="0" lang="de-DE" sz="2800" spc="-1" strike="noStrike">
                <a:solidFill>
                  <a:srgbClr val="d9b83d"/>
                </a:solidFill>
                <a:latin typeface="Arial"/>
              </a:rPr>
              <a:t>	</a:t>
            </a:r>
            <a:r>
              <a:rPr b="0" lang="de-DE" sz="2800" spc="-1" strike="noStrike">
                <a:solidFill>
                  <a:srgbClr val="d9b83d"/>
                </a:solidFill>
                <a:latin typeface="Arial"/>
              </a:rPr>
              <a:t>and</a:t>
            </a:r>
            <a:endParaRPr b="0" lang="en-US" sz="2800" spc="-1" strike="noStrike">
              <a:solidFill>
                <a:srgbClr val="000000"/>
              </a:solidFill>
              <a:latin typeface="Calibri"/>
            </a:endParaRPr>
          </a:p>
        </p:txBody>
      </p:sp>
      <p:sp>
        <p:nvSpPr>
          <p:cNvPr id="175" name="object 9"/>
          <p:cNvSpPr/>
          <p:nvPr/>
        </p:nvSpPr>
        <p:spPr>
          <a:xfrm>
            <a:off x="10076040" y="3584520"/>
            <a:ext cx="105228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check after</a:t>
            </a:r>
            <a:endParaRPr b="0" lang="en-US" sz="2800" spc="-1" strike="noStrike">
              <a:solidFill>
                <a:srgbClr val="000000"/>
              </a:solidFill>
              <a:latin typeface="Calibri"/>
            </a:endParaRPr>
          </a:p>
        </p:txBody>
      </p:sp>
      <p:sp>
        <p:nvSpPr>
          <p:cNvPr id="176" name="object 10"/>
          <p:cNvSpPr/>
          <p:nvPr/>
        </p:nvSpPr>
        <p:spPr>
          <a:xfrm>
            <a:off x="11325240" y="3584520"/>
            <a:ext cx="167796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whether reaching</a:t>
            </a:r>
            <a:endParaRPr b="0" lang="en-US" sz="2800" spc="-1" strike="noStrike">
              <a:solidFill>
                <a:srgbClr val="000000"/>
              </a:solidFill>
              <a:latin typeface="Calibri"/>
            </a:endParaRPr>
          </a:p>
        </p:txBody>
      </p:sp>
      <p:sp>
        <p:nvSpPr>
          <p:cNvPr id="177" name="object 11"/>
          <p:cNvSpPr/>
          <p:nvPr/>
        </p:nvSpPr>
        <p:spPr>
          <a:xfrm>
            <a:off x="12992040" y="3584520"/>
            <a:ext cx="1260360" cy="989640"/>
          </a:xfrm>
          <a:prstGeom prst="rect">
            <a:avLst/>
          </a:prstGeom>
          <a:noFill/>
          <a:ln w="0">
            <a:noFill/>
          </a:ln>
        </p:spPr>
        <p:style>
          <a:lnRef idx="0"/>
          <a:fillRef idx="0"/>
          <a:effectRef idx="0"/>
          <a:fontRef idx="minor"/>
        </p:style>
        <p:txBody>
          <a:bodyPr lIns="0" rIns="0" tIns="0" bIns="0" anchor="t">
            <a:spAutoFit/>
          </a:bodyPr>
          <a:p>
            <a:pPr marL="220680" indent="-20808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you’ll your</a:t>
            </a:r>
            <a:endParaRPr b="0" lang="en-US" sz="2800" spc="-1" strike="noStrike">
              <a:solidFill>
                <a:srgbClr val="000000"/>
              </a:solidFill>
              <a:latin typeface="Calibri"/>
            </a:endParaRPr>
          </a:p>
        </p:txBody>
      </p:sp>
      <p:sp>
        <p:nvSpPr>
          <p:cNvPr id="178" name="object 12"/>
          <p:cNvSpPr/>
          <p:nvPr/>
        </p:nvSpPr>
        <p:spPr>
          <a:xfrm>
            <a:off x="14449320" y="3584520"/>
            <a:ext cx="14702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need</a:t>
            </a:r>
            <a:r>
              <a:rPr b="0" lang="de-DE" sz="2800" spc="-1" strike="noStrike">
                <a:solidFill>
                  <a:srgbClr val="d9b83d"/>
                </a:solidFill>
                <a:latin typeface="Arial"/>
              </a:rPr>
              <a:t>	</a:t>
            </a:r>
            <a:r>
              <a:rPr b="0" lang="de-DE" sz="2800" spc="-1" strike="noStrike">
                <a:solidFill>
                  <a:srgbClr val="d9b83d"/>
                </a:solidFill>
                <a:latin typeface="Arial"/>
              </a:rPr>
              <a:t>it</a:t>
            </a:r>
            <a:endParaRPr b="0" lang="en-US" sz="2800" spc="-1" strike="noStrike">
              <a:solidFill>
                <a:srgbClr val="000000"/>
              </a:solidFill>
              <a:latin typeface="Calibri"/>
            </a:endParaRPr>
          </a:p>
        </p:txBody>
      </p:sp>
      <p:sp>
        <p:nvSpPr>
          <p:cNvPr id="179" name="object 13"/>
          <p:cNvSpPr/>
          <p:nvPr/>
        </p:nvSpPr>
        <p:spPr>
          <a:xfrm>
            <a:off x="14241600" y="4079880"/>
            <a:ext cx="23018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destination</a:t>
            </a:r>
            <a:endParaRPr b="0" lang="en-US" sz="2800" spc="-1" strike="noStrike">
              <a:solidFill>
                <a:srgbClr val="000000"/>
              </a:solidFill>
              <a:latin typeface="Calibri"/>
            </a:endParaRPr>
          </a:p>
        </p:txBody>
      </p:sp>
      <p:sp>
        <p:nvSpPr>
          <p:cNvPr id="180" name="object 14"/>
          <p:cNvSpPr/>
          <p:nvPr/>
        </p:nvSpPr>
        <p:spPr>
          <a:xfrm>
            <a:off x="10076040" y="4575240"/>
            <a:ext cx="14684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or</a:t>
            </a:r>
            <a:r>
              <a:rPr b="0" lang="de-DE" sz="2800" spc="-1" strike="noStrike">
                <a:solidFill>
                  <a:srgbClr val="d9b83d"/>
                </a:solidFill>
                <a:latin typeface="Arial"/>
              </a:rPr>
              <a:t>	</a:t>
            </a:r>
            <a:r>
              <a:rPr b="0" lang="de-DE" sz="2800" spc="-1" strike="noStrike">
                <a:solidFill>
                  <a:srgbClr val="d9b83d"/>
                </a:solidFill>
                <a:latin typeface="Arial"/>
              </a:rPr>
              <a:t>not?</a:t>
            </a:r>
            <a:endParaRPr b="0" lang="en-US" sz="2800" spc="-1" strike="noStrike">
              <a:solidFill>
                <a:srgbClr val="000000"/>
              </a:solidFill>
              <a:latin typeface="Calibri"/>
            </a:endParaRPr>
          </a:p>
        </p:txBody>
      </p:sp>
      <p:sp>
        <p:nvSpPr>
          <p:cNvPr id="181" name="object 15"/>
          <p:cNvSpPr/>
          <p:nvPr/>
        </p:nvSpPr>
        <p:spPr>
          <a:xfrm>
            <a:off x="9836280" y="5743440"/>
            <a:ext cx="99720" cy="100080"/>
          </a:xfrm>
          <a:custGeom>
            <a:avLst/>
            <a:gdLst/>
            <a:ahLst/>
            <a:rect l="l" t="t" r="r" b="b"/>
            <a:pathLst>
              <a:path w="100965" h="100964">
                <a:moveTo>
                  <a:pt x="48257" y="0"/>
                </a:moveTo>
                <a:lnTo>
                  <a:pt x="13521" y="15876"/>
                </a:lnTo>
                <a:lnTo>
                  <a:pt x="0" y="51554"/>
                </a:lnTo>
                <a:lnTo>
                  <a:pt x="1879" y="64232"/>
                </a:lnTo>
                <a:lnTo>
                  <a:pt x="25782" y="94186"/>
                </a:lnTo>
                <a:lnTo>
                  <a:pt x="50928" y="100394"/>
                </a:lnTo>
                <a:lnTo>
                  <a:pt x="63843" y="98637"/>
                </a:lnTo>
                <a:lnTo>
                  <a:pt x="93992" y="75013"/>
                </a:lnTo>
                <a:lnTo>
                  <a:pt x="100415" y="50167"/>
                </a:lnTo>
                <a:lnTo>
                  <a:pt x="100364" y="47760"/>
                </a:lnTo>
                <a:lnTo>
                  <a:pt x="84129" y="13128"/>
                </a:lnTo>
                <a:lnTo>
                  <a:pt x="48257"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2" name="object 16"/>
          <p:cNvSpPr/>
          <p:nvPr/>
        </p:nvSpPr>
        <p:spPr>
          <a:xfrm>
            <a:off x="10088640" y="5586480"/>
            <a:ext cx="2738520" cy="1151640"/>
          </a:xfrm>
          <a:prstGeom prst="rect">
            <a:avLst/>
          </a:prstGeom>
          <a:noFill/>
          <a:ln w="0">
            <a:noFill/>
          </a:ln>
        </p:spPr>
        <p:style>
          <a:lnRef idx="0"/>
          <a:fillRef idx="0"/>
          <a:effectRef idx="0"/>
          <a:fontRef idx="minor"/>
        </p:style>
        <p:txBody>
          <a:bodyPr lIns="0" rIns="0" tIns="0" bIns="0" anchor="t">
            <a:spAutoFit/>
          </a:bodyPr>
          <a:p>
            <a:pPr marL="12600">
              <a:lnSpc>
                <a:spcPct val="135000"/>
              </a:lnSpc>
              <a:tabLst>
                <a:tab algn="l" pos="0"/>
                <a:tab algn="l" pos="1382760"/>
                <a:tab algn="l" pos="20685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Check-in</a:t>
            </a:r>
            <a:r>
              <a:rPr b="0" lang="en-US" sz="2800" spc="-1" strike="noStrike">
                <a:solidFill>
                  <a:srgbClr val="d9b83d"/>
                </a:solidFill>
                <a:latin typeface="Arial"/>
              </a:rPr>
              <a:t>	</a:t>
            </a:r>
            <a:r>
              <a:rPr b="0" lang="en-US" sz="2800" spc="-1" strike="noStrike">
                <a:solidFill>
                  <a:srgbClr val="d9b83d"/>
                </a:solidFill>
                <a:latin typeface="Arial"/>
              </a:rPr>
              <a:t>and seats</a:t>
            </a:r>
            <a:r>
              <a:rPr b="0" lang="en-US" sz="2800" spc="-1" strike="noStrike">
                <a:solidFill>
                  <a:srgbClr val="d9b83d"/>
                </a:solidFill>
                <a:latin typeface="Arial"/>
              </a:rPr>
              <a:t>	</a:t>
            </a:r>
            <a:r>
              <a:rPr b="0" lang="en-US" sz="2800" spc="-1" strike="noStrike">
                <a:solidFill>
                  <a:srgbClr val="d9b83d"/>
                </a:solidFill>
                <a:latin typeface="Arial"/>
              </a:rPr>
              <a:t>online</a:t>
            </a:r>
            <a:endParaRPr b="0" lang="en-US" sz="2800" spc="-1" strike="noStrike">
              <a:solidFill>
                <a:srgbClr val="000000"/>
              </a:solidFill>
              <a:latin typeface="Calibri"/>
            </a:endParaRPr>
          </a:p>
        </p:txBody>
      </p:sp>
      <p:sp>
        <p:nvSpPr>
          <p:cNvPr id="183" name="object 17"/>
          <p:cNvSpPr/>
          <p:nvPr/>
        </p:nvSpPr>
        <p:spPr>
          <a:xfrm>
            <a:off x="13058640" y="5586480"/>
            <a:ext cx="18259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pre-book</a:t>
            </a:r>
            <a:endParaRPr b="0" lang="en-US" sz="2800" spc="-1" strike="noStrike">
              <a:solidFill>
                <a:srgbClr val="000000"/>
              </a:solidFill>
              <a:latin typeface="Calibri"/>
            </a:endParaRPr>
          </a:p>
        </p:txBody>
      </p:sp>
      <p:sp>
        <p:nvSpPr>
          <p:cNvPr id="184" name="object 18"/>
          <p:cNvSpPr/>
          <p:nvPr/>
        </p:nvSpPr>
        <p:spPr>
          <a:xfrm>
            <a:off x="15116040" y="5586480"/>
            <a:ext cx="9115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your</a:t>
            </a:r>
            <a:endParaRPr b="0" lang="en-US" sz="2800" spc="-1" strike="noStrike">
              <a:solidFill>
                <a:srgbClr val="000000"/>
              </a:solidFill>
              <a:latin typeface="Calibri"/>
            </a:endParaRPr>
          </a:p>
        </p:txBody>
      </p:sp>
      <p:sp>
        <p:nvSpPr>
          <p:cNvPr id="185" name="object 19"/>
          <p:cNvSpPr/>
          <p:nvPr/>
        </p:nvSpPr>
        <p:spPr>
          <a:xfrm>
            <a:off x="9836280" y="7605720"/>
            <a:ext cx="95040" cy="93600"/>
          </a:xfrm>
          <a:custGeom>
            <a:avLst/>
            <a:gdLst/>
            <a:ahLst/>
            <a:rect l="l" t="t" r="r" b="b"/>
            <a:pathLst>
              <a:path w="95250" h="93345">
                <a:moveTo>
                  <a:pt x="35636" y="0"/>
                </a:moveTo>
                <a:lnTo>
                  <a:pt x="1449" y="34722"/>
                </a:lnTo>
                <a:lnTo>
                  <a:pt x="0" y="48786"/>
                </a:lnTo>
                <a:lnTo>
                  <a:pt x="2115" y="60445"/>
                </a:lnTo>
                <a:lnTo>
                  <a:pt x="39063" y="92444"/>
                </a:lnTo>
                <a:lnTo>
                  <a:pt x="54785" y="93287"/>
                </a:lnTo>
                <a:lnTo>
                  <a:pt x="65114" y="90048"/>
                </a:lnTo>
                <a:lnTo>
                  <a:pt x="76045" y="82944"/>
                </a:lnTo>
                <a:lnTo>
                  <a:pt x="88428" y="70901"/>
                </a:lnTo>
                <a:lnTo>
                  <a:pt x="93499" y="59256"/>
                </a:lnTo>
                <a:lnTo>
                  <a:pt x="95188" y="46207"/>
                </a:lnTo>
                <a:lnTo>
                  <a:pt x="94941" y="41187"/>
                </a:lnTo>
                <a:lnTo>
                  <a:pt x="75078" y="7335"/>
                </a:lnTo>
                <a:lnTo>
                  <a:pt x="35636"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6" name="object 20"/>
          <p:cNvSpPr/>
          <p:nvPr/>
        </p:nvSpPr>
        <p:spPr>
          <a:xfrm>
            <a:off x="10076040" y="7443720"/>
            <a:ext cx="146844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Request in</a:t>
            </a:r>
            <a:endParaRPr b="0" lang="en-US" sz="2800" spc="-1" strike="noStrike">
              <a:solidFill>
                <a:srgbClr val="000000"/>
              </a:solidFill>
              <a:latin typeface="Calibri"/>
            </a:endParaRPr>
          </a:p>
        </p:txBody>
      </p:sp>
      <p:sp>
        <p:nvSpPr>
          <p:cNvPr id="187" name="object 21"/>
          <p:cNvSpPr/>
          <p:nvPr/>
        </p:nvSpPr>
        <p:spPr>
          <a:xfrm>
            <a:off x="11741040" y="7443720"/>
            <a:ext cx="105408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early</a:t>
            </a:r>
            <a:endParaRPr b="0" lang="en-US" sz="2800" spc="-1" strike="noStrike">
              <a:solidFill>
                <a:srgbClr val="000000"/>
              </a:solidFill>
              <a:latin typeface="Calibri"/>
            </a:endParaRPr>
          </a:p>
        </p:txBody>
      </p:sp>
      <p:sp>
        <p:nvSpPr>
          <p:cNvPr id="188" name="object 22"/>
          <p:cNvSpPr/>
          <p:nvPr/>
        </p:nvSpPr>
        <p:spPr>
          <a:xfrm>
            <a:off x="12992040" y="7443720"/>
            <a:ext cx="16765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boarding</a:t>
            </a:r>
            <a:endParaRPr b="0" lang="en-US" sz="2800" spc="-1" strike="noStrike">
              <a:solidFill>
                <a:srgbClr val="000000"/>
              </a:solidFill>
              <a:latin typeface="Calibri"/>
            </a:endParaRPr>
          </a:p>
        </p:txBody>
      </p:sp>
      <p:sp>
        <p:nvSpPr>
          <p:cNvPr id="189" name="object 23"/>
          <p:cNvSpPr/>
          <p:nvPr/>
        </p:nvSpPr>
        <p:spPr>
          <a:xfrm>
            <a:off x="14865480" y="7443720"/>
            <a:ext cx="188568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at</a:t>
            </a:r>
            <a:r>
              <a:rPr b="0" lang="de-DE" sz="2800" spc="-1" strike="noStrike">
                <a:solidFill>
                  <a:srgbClr val="d9b83d"/>
                </a:solidFill>
                <a:latin typeface="Arial"/>
              </a:rPr>
              <a:t>	</a:t>
            </a:r>
            <a:r>
              <a:rPr b="0" lang="de-DE" sz="2800" spc="-1" strike="noStrike">
                <a:solidFill>
                  <a:srgbClr val="d9b83d"/>
                </a:solidFill>
                <a:latin typeface="Arial"/>
              </a:rPr>
              <a:t>check-</a:t>
            </a:r>
            <a:endParaRPr b="0" lang="en-US" sz="2800" spc="-1" strike="noStrike">
              <a:solidFill>
                <a:srgbClr val="000000"/>
              </a:solidFill>
              <a:latin typeface="Calibri"/>
            </a:endParaRPr>
          </a:p>
        </p:txBody>
      </p:sp>
      <p:sp>
        <p:nvSpPr>
          <p:cNvPr id="190" name="object 24"/>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bject 25"/>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bject 26"/>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bject 27"/>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bject 28"/>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5" name="object 29"/>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6" name="object 30"/>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7" name="object 31"/>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99" name="object 3"/>
          <p:cNvSpPr/>
          <p:nvPr/>
        </p:nvSpPr>
        <p:spPr>
          <a:xfrm>
            <a:off x="8570880" y="5722920"/>
            <a:ext cx="31719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5908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sk</a:t>
            </a:r>
            <a:r>
              <a:rPr b="0" lang="de-DE" sz="3600" spc="-1" strike="noStrike">
                <a:solidFill>
                  <a:srgbClr val="050606"/>
                </a:solidFill>
                <a:latin typeface="Arial"/>
              </a:rPr>
              <a:t>	</a:t>
            </a:r>
            <a:r>
              <a:rPr b="0" lang="de-DE" sz="3600" spc="-1" strike="noStrike">
                <a:solidFill>
                  <a:srgbClr val="050606"/>
                </a:solidFill>
                <a:latin typeface="Arial"/>
              </a:rPr>
              <a:t>a</a:t>
            </a:r>
            <a:r>
              <a:rPr b="0" lang="de-DE" sz="3600" spc="-1" strike="noStrike">
                <a:solidFill>
                  <a:srgbClr val="050606"/>
                </a:solidFill>
                <a:latin typeface="Arial"/>
              </a:rPr>
              <a:t>	</a:t>
            </a:r>
            <a:r>
              <a:rPr b="0" lang="de-DE" sz="3600" spc="-1" strike="noStrike">
                <a:solidFill>
                  <a:srgbClr val="050606"/>
                </a:solidFill>
                <a:latin typeface="Arial"/>
              </a:rPr>
              <a:t>friend</a:t>
            </a:r>
            <a:endParaRPr b="0" lang="en-US" sz="3600" spc="-1" strike="noStrike">
              <a:solidFill>
                <a:srgbClr val="000000"/>
              </a:solidFill>
              <a:latin typeface="Calibri"/>
            </a:endParaRPr>
          </a:p>
        </p:txBody>
      </p:sp>
      <p:sp>
        <p:nvSpPr>
          <p:cNvPr id="200" name="object 4"/>
          <p:cNvSpPr/>
          <p:nvPr/>
        </p:nvSpPr>
        <p:spPr>
          <a:xfrm>
            <a:off x="11993400" y="5722920"/>
            <a:ext cx="3171960" cy="1349640"/>
          </a:xfrm>
          <a:prstGeom prst="rect">
            <a:avLst/>
          </a:prstGeom>
          <a:noFill/>
          <a:ln w="0">
            <a:noFill/>
          </a:ln>
        </p:spPr>
        <p:style>
          <a:lnRef idx="0"/>
          <a:fillRef idx="0"/>
          <a:effectRef idx="0"/>
          <a:fontRef idx="minor"/>
        </p:style>
        <p:txBody>
          <a:bodyPr lIns="0" rIns="0" tIns="0" bIns="0" anchor="t">
            <a:spAutoFit/>
          </a:bodyPr>
          <a:p>
            <a:pPr marL="12600">
              <a:lnSpc>
                <a:spcPct val="123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or</a:t>
            </a:r>
            <a:r>
              <a:rPr b="0" lang="en-US" sz="3600" spc="-1" strike="noStrike">
                <a:solidFill>
                  <a:srgbClr val="050606"/>
                </a:solidFill>
                <a:latin typeface="Arial"/>
              </a:rPr>
              <a:t>	</a:t>
            </a:r>
            <a:r>
              <a:rPr b="0" lang="en-US" sz="3600" spc="-1" strike="noStrike">
                <a:solidFill>
                  <a:srgbClr val="050606"/>
                </a:solidFill>
                <a:latin typeface="Arial"/>
              </a:rPr>
              <a:t>colleague to</a:t>
            </a:r>
            <a:endParaRPr b="0" lang="en-US" sz="3600" spc="-1" strike="noStrike">
              <a:solidFill>
                <a:srgbClr val="000000"/>
              </a:solidFill>
              <a:latin typeface="Calibri"/>
            </a:endParaRPr>
          </a:p>
        </p:txBody>
      </p:sp>
      <p:sp>
        <p:nvSpPr>
          <p:cNvPr id="201" name="object 5"/>
          <p:cNvSpPr/>
          <p:nvPr/>
        </p:nvSpPr>
        <p:spPr>
          <a:xfrm>
            <a:off x="15416280" y="5722920"/>
            <a:ext cx="1854000" cy="122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who</a:t>
            </a:r>
            <a:r>
              <a:rPr b="0" lang="de-DE" sz="3600" spc="-1" strike="noStrike">
                <a:solidFill>
                  <a:srgbClr val="050606"/>
                </a:solidFill>
                <a:latin typeface="Arial"/>
              </a:rPr>
              <a:t>	</a:t>
            </a:r>
            <a:r>
              <a:rPr b="0" lang="de-DE" sz="3600" spc="-1" strike="noStrike">
                <a:solidFill>
                  <a:srgbClr val="050606"/>
                </a:solidFill>
                <a:latin typeface="Arial"/>
              </a:rPr>
              <a:t>has</a:t>
            </a:r>
            <a:endParaRPr b="0" lang="en-US" sz="3600" spc="-1" strike="noStrike">
              <a:solidFill>
                <a:srgbClr val="000000"/>
              </a:solidFill>
              <a:latin typeface="Calibri"/>
            </a:endParaRPr>
          </a:p>
          <a:p>
            <a:pPr marL="12600">
              <a:lnSpc>
                <a:spcPct val="100000"/>
              </a:lnSpc>
              <a:spcBef>
                <a:spcPts val="1001"/>
              </a:spcBef>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nd</a:t>
            </a:r>
            <a:endParaRPr b="0" lang="en-US" sz="3600" spc="-1" strike="noStrike">
              <a:solidFill>
                <a:srgbClr val="000000"/>
              </a:solidFill>
              <a:latin typeface="Calibri"/>
            </a:endParaRPr>
          </a:p>
        </p:txBody>
      </p:sp>
      <p:sp>
        <p:nvSpPr>
          <p:cNvPr id="202" name="object 6"/>
          <p:cNvSpPr/>
          <p:nvPr/>
        </p:nvSpPr>
        <p:spPr>
          <a:xfrm>
            <a:off x="9361440" y="6399360"/>
            <a:ext cx="23814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ravelled</a:t>
            </a:r>
            <a:endParaRPr b="0" lang="en-US" sz="3600" spc="-1" strike="noStrike">
              <a:solidFill>
                <a:srgbClr val="000000"/>
              </a:solidFill>
              <a:latin typeface="Calibri"/>
            </a:endParaRPr>
          </a:p>
        </p:txBody>
      </p:sp>
      <p:sp>
        <p:nvSpPr>
          <p:cNvPr id="203" name="object 7"/>
          <p:cNvSpPr/>
          <p:nvPr/>
        </p:nvSpPr>
        <p:spPr>
          <a:xfrm>
            <a:off x="12783960" y="6399360"/>
            <a:ext cx="1590840" cy="1097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UK</a:t>
            </a:r>
            <a:endParaRPr b="0" lang="en-US" sz="3600" spc="-1" strike="noStrike">
              <a:solidFill>
                <a:srgbClr val="000000"/>
              </a:solidFill>
              <a:latin typeface="Calibri"/>
            </a:endParaRPr>
          </a:p>
        </p:txBody>
      </p:sp>
      <p:sp>
        <p:nvSpPr>
          <p:cNvPr id="204" name="object 8"/>
          <p:cNvSpPr/>
          <p:nvPr/>
        </p:nvSpPr>
        <p:spPr>
          <a:xfrm>
            <a:off x="14627160" y="6399360"/>
            <a:ext cx="15908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before</a:t>
            </a:r>
            <a:endParaRPr b="0" lang="en-US" sz="3600" spc="-1" strike="noStrike">
              <a:solidFill>
                <a:srgbClr val="000000"/>
              </a:solidFill>
              <a:latin typeface="Calibri"/>
            </a:endParaRPr>
          </a:p>
        </p:txBody>
      </p:sp>
      <p:sp>
        <p:nvSpPr>
          <p:cNvPr id="205" name="object 9"/>
          <p:cNvSpPr/>
          <p:nvPr/>
        </p:nvSpPr>
        <p:spPr>
          <a:xfrm>
            <a:off x="9888480" y="7075440"/>
            <a:ext cx="23814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85436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choose</a:t>
            </a:r>
            <a:r>
              <a:rPr b="0" lang="de-DE" sz="3600" spc="-1" strike="noStrike">
                <a:solidFill>
                  <a:srgbClr val="050606"/>
                </a:solidFill>
                <a:latin typeface="Arial"/>
              </a:rPr>
              <a:t>	</a:t>
            </a:r>
            <a:r>
              <a:rPr b="0" lang="de-DE" sz="3600" spc="-1" strike="noStrike">
                <a:solidFill>
                  <a:srgbClr val="050606"/>
                </a:solidFill>
                <a:latin typeface="Arial"/>
              </a:rPr>
              <a:t>to</a:t>
            </a:r>
            <a:endParaRPr b="0" lang="en-US" sz="3600" spc="-1" strike="noStrike">
              <a:solidFill>
                <a:srgbClr val="000000"/>
              </a:solidFill>
              <a:latin typeface="Calibri"/>
            </a:endParaRPr>
          </a:p>
        </p:txBody>
      </p:sp>
      <p:sp>
        <p:nvSpPr>
          <p:cNvPr id="206" name="object 10"/>
          <p:cNvSpPr/>
          <p:nvPr/>
        </p:nvSpPr>
        <p:spPr>
          <a:xfrm>
            <a:off x="12520440" y="7075440"/>
            <a:ext cx="15908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rrive</a:t>
            </a:r>
            <a:endParaRPr b="0" lang="en-US" sz="3600" spc="-1" strike="noStrike">
              <a:solidFill>
                <a:srgbClr val="000000"/>
              </a:solidFill>
              <a:latin typeface="Calibri"/>
            </a:endParaRPr>
          </a:p>
        </p:txBody>
      </p:sp>
      <p:sp>
        <p:nvSpPr>
          <p:cNvPr id="207" name="object 11"/>
          <p:cNvSpPr/>
          <p:nvPr/>
        </p:nvSpPr>
        <p:spPr>
          <a:xfrm>
            <a:off x="14363640" y="7075440"/>
            <a:ext cx="2908440" cy="1349640"/>
          </a:xfrm>
          <a:prstGeom prst="rect">
            <a:avLst/>
          </a:prstGeom>
          <a:noFill/>
          <a:ln w="0">
            <a:noFill/>
          </a:ln>
        </p:spPr>
        <p:style>
          <a:lnRef idx="0"/>
          <a:fillRef idx="0"/>
          <a:effectRef idx="0"/>
          <a:fontRef idx="minor"/>
        </p:style>
        <p:txBody>
          <a:bodyPr lIns="0" rIns="0" tIns="0" bIns="0" anchor="t">
            <a:spAutoFit/>
          </a:bodyPr>
          <a:p>
            <a:pPr marL="803160" indent="-790560">
              <a:lnSpc>
                <a:spcPct val="123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at</a:t>
            </a:r>
            <a:r>
              <a:rPr b="0" lang="en-US" sz="3600" spc="-1" strike="noStrike">
                <a:solidFill>
                  <a:srgbClr val="050606"/>
                </a:solidFill>
                <a:latin typeface="Arial"/>
              </a:rPr>
              <a:t>	</a:t>
            </a:r>
            <a:r>
              <a:rPr b="0" lang="en-US" sz="3600" spc="-1" strike="noStrike">
                <a:solidFill>
                  <a:srgbClr val="050606"/>
                </a:solidFill>
                <a:latin typeface="Arial"/>
              </a:rPr>
              <a:t>Heathrow airport.</a:t>
            </a:r>
            <a:endParaRPr b="0" lang="en-US" sz="3600" spc="-1" strike="noStrike">
              <a:solidFill>
                <a:srgbClr val="000000"/>
              </a:solidFill>
              <a:latin typeface="Calibri"/>
            </a:endParaRPr>
          </a:p>
        </p:txBody>
      </p:sp>
      <p:sp>
        <p:nvSpPr>
          <p:cNvPr id="208" name="object 14"/>
          <p:cNvSpPr/>
          <p:nvPr/>
        </p:nvSpPr>
        <p:spPr>
          <a:xfrm>
            <a:off x="10363320" y="9056520"/>
            <a:ext cx="64054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50606"/>
                </a:solidFill>
                <a:latin typeface="Arial"/>
              </a:rPr>
              <a:t>JEWELS AIRPORT TRANSFERS</a:t>
            </a:r>
            <a:endParaRPr b="0" lang="en-US" sz="3000" spc="-1" strike="noStrike">
              <a:solidFill>
                <a:srgbClr val="000000"/>
              </a:solidFill>
              <a:latin typeface="Calibri"/>
            </a:endParaRPr>
          </a:p>
        </p:txBody>
      </p:sp>
      <p:sp>
        <p:nvSpPr>
          <p:cNvPr id="209" name="object 15"/>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16"/>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bject 17"/>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2" name="object 18"/>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3" name="object 19"/>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20"/>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bject 21"/>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6" name="object 22"/>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3T11:23:21Z</dcterms:created>
  <dc:creator>Online2PDF.com</dc:creator>
  <dc:description/>
  <dc:language>en-US</dc:language>
  <cp:lastModifiedBy>Dell</cp:lastModifiedBy>
  <dcterms:modified xsi:type="dcterms:W3CDTF">2019-05-23T15:09:36Z</dcterms:modified>
  <cp:revision>15</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9-05-23T00:00:00Z</vt:filetime>
  </property>
  <property fmtid="{D5CDD505-2E9C-101B-9397-08002B2CF9AE}" pid="3" name="LastSaved">
    <vt:filetime>2019-05-23T00:00:00Z</vt:filetime>
  </property>
</Properties>
</file>