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4.jpeg" ContentType="image/jpe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8288000" cy="10288588"/>
  <p:notesSz cx="18288000" cy="10288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24EDA08-0031-4AAC-BDD6-8E155CA31F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914400" y="236484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E693AB1-77E9-4785-95D5-B8F92A865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96C6EE2-88CD-4231-8944-D497BDFD06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91440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647928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1204416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91440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647928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1204416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C957652-F5FA-401B-A691-682CF9E3F5C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2CDA1F6A-A57E-4EE5-A2F9-BD371A3D684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type="subTitle"/>
          </p:nvPr>
        </p:nvSpPr>
        <p:spPr>
          <a:xfrm>
            <a:off x="914400" y="2364840"/>
            <a:ext cx="16459200" cy="6789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CC557F01-8D7F-407F-98E9-4583C5D3DAA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914400" y="2364840"/>
            <a:ext cx="1645920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5D2BC71B-4FD8-4A77-AB21-DB83E83F030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3"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26C171BD-6007-4345-B710-A6A4A53E733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1EAFDFDF-7011-4CB3-8D0D-99A5267B0FB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017720" y="1292040"/>
            <a:ext cx="16252560" cy="3827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A4DC5083-EC16-40DC-B4B0-5C46C7FAA01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8"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A641EE50-8AD1-4089-8B64-696D8FEA5F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914400" y="2364840"/>
            <a:ext cx="16459200" cy="6789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1BAB05C-EF41-47AC-9B39-17F2B56A5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2"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4"/>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70B6CE6-9112-462F-BC5D-E0E2145D980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6"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4"/>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8C9F8163-D6B9-4C2C-851E-EC3771E7A9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0" name="PlaceHolder 2"/>
          <p:cNvSpPr>
            <a:spLocks noGrp="1"/>
          </p:cNvSpPr>
          <p:nvPr>
            <p:ph/>
          </p:nvPr>
        </p:nvSpPr>
        <p:spPr>
          <a:xfrm>
            <a:off x="914400" y="236484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649501A8-DF7E-496F-A8DD-D8D9232BC7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3"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5"/>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AD680B46-7660-4161-86E1-6ABEA514176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8" name="PlaceHolder 2"/>
          <p:cNvSpPr>
            <a:spLocks noGrp="1"/>
          </p:cNvSpPr>
          <p:nvPr>
            <p:ph/>
          </p:nvPr>
        </p:nvSpPr>
        <p:spPr>
          <a:xfrm>
            <a:off x="91440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3"/>
          <p:cNvSpPr>
            <a:spLocks noGrp="1"/>
          </p:cNvSpPr>
          <p:nvPr>
            <p:ph/>
          </p:nvPr>
        </p:nvSpPr>
        <p:spPr>
          <a:xfrm>
            <a:off x="647928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4"/>
          <p:cNvSpPr>
            <a:spLocks noGrp="1"/>
          </p:cNvSpPr>
          <p:nvPr>
            <p:ph/>
          </p:nvPr>
        </p:nvSpPr>
        <p:spPr>
          <a:xfrm>
            <a:off x="12044160" y="236484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5"/>
          <p:cNvSpPr>
            <a:spLocks noGrp="1"/>
          </p:cNvSpPr>
          <p:nvPr>
            <p:ph/>
          </p:nvPr>
        </p:nvSpPr>
        <p:spPr>
          <a:xfrm>
            <a:off x="91440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PlaceHolder 6"/>
          <p:cNvSpPr>
            <a:spLocks noGrp="1"/>
          </p:cNvSpPr>
          <p:nvPr>
            <p:ph/>
          </p:nvPr>
        </p:nvSpPr>
        <p:spPr>
          <a:xfrm>
            <a:off x="647928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7"/>
          <p:cNvSpPr>
            <a:spLocks noGrp="1"/>
          </p:cNvSpPr>
          <p:nvPr>
            <p:ph/>
          </p:nvPr>
        </p:nvSpPr>
        <p:spPr>
          <a:xfrm>
            <a:off x="12044160" y="5911560"/>
            <a:ext cx="52995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B5F91647-1B58-4AFC-B20D-A282A6304A7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914400" y="2364840"/>
            <a:ext cx="1645920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F0552D6-AD2D-4ECA-AA19-43DEC4E8A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91F06EFC-6EBD-452F-ACD6-35D0AAAAD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D668954-F624-403E-BEFA-535192B46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17720" y="1292040"/>
            <a:ext cx="16252560" cy="3827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F6CCE2A-54A9-4F73-8411-B9A35D254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934848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91440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9DD8964-0A4A-4A1C-B569-B81178843C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914400" y="2364840"/>
            <a:ext cx="8031960" cy="67899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9348480" y="591156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F6C7F71-E0DF-4939-86EA-CAE656C43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91440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9348480" y="2364840"/>
            <a:ext cx="803196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914400" y="5911560"/>
            <a:ext cx="16459200" cy="3238560"/>
          </a:xfrm>
          <a:prstGeom prst="rect">
            <a:avLst/>
          </a:prstGeom>
          <a:noFill/>
          <a:ln w="0">
            <a:noFill/>
          </a:ln>
        </p:spPr>
        <p:txBody>
          <a:bodyPr lIns="0" rIns="0" tIns="0" bIns="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2FC5F44-FD72-4EAB-AA75-7CDF0776FB4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914400" y="2364840"/>
            <a:ext cx="16459200" cy="678996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6218280" y="9565920"/>
            <a:ext cx="5851440" cy="5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914400" y="9565920"/>
            <a:ext cx="4206960" cy="514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13166640" y="9565920"/>
            <a:ext cx="4206960" cy="5144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E719-F302-4D2F-844A-41E2F5CB6CC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bk object 16"/>
          <p:cNvSpPr/>
          <p:nvPr/>
        </p:nvSpPr>
        <p:spPr>
          <a:xfrm>
            <a:off x="0" y="1257480"/>
            <a:ext cx="2017800" cy="9029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bk object 17"/>
          <p:cNvSpPr/>
          <p:nvPr/>
        </p:nvSpPr>
        <p:spPr>
          <a:xfrm>
            <a:off x="0" y="0"/>
            <a:ext cx="4048200" cy="51436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1"/>
          <p:cNvSpPr>
            <a:spLocks noGrp="1"/>
          </p:cNvSpPr>
          <p:nvPr>
            <p:ph type="title"/>
          </p:nvPr>
        </p:nvSpPr>
        <p:spPr>
          <a:xfrm>
            <a:off x="1017720" y="1292040"/>
            <a:ext cx="16252560" cy="825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44" name="PlaceHolder 2"/>
          <p:cNvSpPr>
            <a:spLocks noGrp="1"/>
          </p:cNvSpPr>
          <p:nvPr>
            <p:ph type="body"/>
          </p:nvPr>
        </p:nvSpPr>
        <p:spPr>
          <a:xfrm>
            <a:off x="914400" y="2364840"/>
            <a:ext cx="16459200" cy="678996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343080" indent="-34308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 name="PlaceHolder 3"/>
          <p:cNvSpPr>
            <a:spLocks noGrp="1"/>
          </p:cNvSpPr>
          <p:nvPr>
            <p:ph type="ftr" idx="4"/>
          </p:nvPr>
        </p:nvSpPr>
        <p:spPr>
          <a:xfrm>
            <a:off x="6218280" y="9565920"/>
            <a:ext cx="5851440" cy="5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4"/>
          <p:cNvSpPr>
            <a:spLocks noGrp="1"/>
          </p:cNvSpPr>
          <p:nvPr>
            <p:ph type="dt" idx="5"/>
          </p:nvPr>
        </p:nvSpPr>
        <p:spPr>
          <a:xfrm>
            <a:off x="914400" y="9565920"/>
            <a:ext cx="4206960" cy="514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13166640" y="9565920"/>
            <a:ext cx="4206960" cy="5144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A9FB-35F3-46DD-94E8-26AC083F10C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object 2"/>
          <p:cNvSpPr/>
          <p:nvPr/>
        </p:nvSpPr>
        <p:spPr>
          <a:xfrm>
            <a:off x="12803040" y="0"/>
            <a:ext cx="5484960" cy="83977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bject 3"/>
          <p:cNvSpPr/>
          <p:nvPr/>
        </p:nvSpPr>
        <p:spPr>
          <a:xfrm>
            <a:off x="9532800" y="1028880"/>
            <a:ext cx="7724880" cy="92581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object 4"/>
          <p:cNvSpPr/>
          <p:nvPr/>
        </p:nvSpPr>
        <p:spPr>
          <a:xfrm>
            <a:off x="11342520" y="6365880"/>
            <a:ext cx="6945480" cy="392112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object 5"/>
          <p:cNvSpPr/>
          <p:nvPr/>
        </p:nvSpPr>
        <p:spPr>
          <a:xfrm>
            <a:off x="1015920" y="3865680"/>
            <a:ext cx="7134480" cy="481320"/>
          </a:xfrm>
          <a:prstGeom prst="rect">
            <a:avLst/>
          </a:prstGeom>
          <a:noFill/>
          <a:ln w="0">
            <a:noFill/>
          </a:ln>
        </p:spPr>
        <p:style>
          <a:lnRef idx="0"/>
          <a:fillRef idx="0"/>
          <a:effectRef idx="0"/>
          <a:fontRef idx="minor"/>
        </p:style>
        <p:txBody>
          <a:bodyPr lIns="0" rIns="0" tIns="0" bIns="0" anchor="t">
            <a:spAutoFit/>
          </a:bodyPr>
          <a:p>
            <a:pPr marL="12600">
              <a:lnSpc>
                <a:spcPts val="3787"/>
              </a:lnSpc>
              <a:tabLst>
                <a:tab algn="l" pos="0"/>
                <a:tab algn="l" pos="1819440"/>
                <a:tab algn="l" pos="3886200"/>
                <a:tab algn="l" pos="4572000"/>
                <a:tab algn="l" pos="5486400"/>
                <a:tab algn="l" pos="6400800"/>
                <a:tab algn="l" pos="7315200"/>
                <a:tab algn="l" pos="8229600"/>
                <a:tab algn="l" pos="9144000"/>
                <a:tab algn="l" pos="10058400"/>
              </a:tabLst>
            </a:pPr>
            <a:r>
              <a:rPr b="0" lang="en-IN" sz="3200" spc="-1" strike="noStrike">
                <a:solidFill>
                  <a:srgbClr val="ff5656"/>
                </a:solidFill>
                <a:latin typeface="Arial"/>
              </a:rPr>
              <a:t>JEWELS AIRPORT TRANSFERS</a:t>
            </a:r>
            <a:endParaRPr b="0" lang="en-US" sz="3200" spc="-1" strike="noStrike">
              <a:solidFill>
                <a:srgbClr val="000000"/>
              </a:solidFill>
              <a:latin typeface="Calibri"/>
            </a:endParaRPr>
          </a:p>
        </p:txBody>
      </p:sp>
      <p:sp>
        <p:nvSpPr>
          <p:cNvPr id="88" name="object 6"/>
          <p:cNvSpPr/>
          <p:nvPr/>
        </p:nvSpPr>
        <p:spPr>
          <a:xfrm>
            <a:off x="1015920" y="4622760"/>
            <a:ext cx="7134480" cy="2851560"/>
          </a:xfrm>
          <a:prstGeom prst="rect">
            <a:avLst/>
          </a:prstGeom>
          <a:noFill/>
          <a:ln w="0">
            <a:noFill/>
          </a:ln>
        </p:spPr>
        <p:style>
          <a:lnRef idx="0"/>
          <a:fillRef idx="0"/>
          <a:effectRef idx="0"/>
          <a:fontRef idx="minor"/>
        </p:style>
        <p:txBody>
          <a:bodyPr lIns="0" rIns="0" tIns="0" bIns="0" anchor="t">
            <a:spAutoFit/>
          </a:bodyPr>
          <a:p>
            <a:pPr marL="12600">
              <a:lnSpc>
                <a:spcPct val="78000"/>
              </a:lnSpc>
              <a:tabLst>
                <a:tab algn="l" pos="0"/>
                <a:tab algn="l" pos="1366920"/>
                <a:tab algn="l" pos="3060720"/>
                <a:tab algn="l" pos="3400560"/>
                <a:tab algn="l" pos="3738600"/>
                <a:tab algn="l" pos="5772240"/>
                <a:tab algn="l" pos="6400800"/>
                <a:tab algn="l" pos="7315200"/>
                <a:tab algn="l" pos="8229600"/>
                <a:tab algn="l" pos="9144000"/>
                <a:tab algn="l" pos="10058400"/>
              </a:tabLst>
            </a:pPr>
            <a:r>
              <a:rPr b="0" lang="en-US" sz="4800" spc="-1" strike="noStrike">
                <a:solidFill>
                  <a:srgbClr val="050606"/>
                </a:solidFill>
                <a:latin typeface="Arial"/>
              </a:rPr>
              <a:t>TRAVELLER</a:t>
            </a:r>
            <a:r>
              <a:rPr b="0" lang="en-US" sz="4800" spc="-1" strike="noStrike">
                <a:solidFill>
                  <a:srgbClr val="050606"/>
                </a:solidFill>
                <a:latin typeface="Arial"/>
              </a:rPr>
              <a:t>	</a:t>
            </a:r>
            <a:r>
              <a:rPr b="0" lang="en-US" sz="4800" spc="-1" strike="noStrike">
                <a:solidFill>
                  <a:srgbClr val="050606"/>
                </a:solidFill>
                <a:latin typeface="Arial"/>
              </a:rPr>
              <a:t>	</a:t>
            </a:r>
            <a:r>
              <a:rPr b="0" lang="en-US" sz="4800" spc="-1" strike="noStrike">
                <a:solidFill>
                  <a:srgbClr val="050606"/>
                </a:solidFill>
                <a:latin typeface="Arial"/>
              </a:rPr>
              <a:t>CHECKLIST FOR</a:t>
            </a:r>
            <a:r>
              <a:rPr b="0" lang="en-US" sz="4800" spc="-1" strike="noStrike">
                <a:solidFill>
                  <a:srgbClr val="050606"/>
                </a:solidFill>
                <a:latin typeface="Arial"/>
              </a:rPr>
              <a:t>	</a:t>
            </a:r>
            <a:r>
              <a:rPr b="0" lang="en-US" sz="4800" spc="-1" strike="noStrike">
                <a:solidFill>
                  <a:srgbClr val="050606"/>
                </a:solidFill>
                <a:latin typeface="Arial"/>
              </a:rPr>
              <a:t>FLYING</a:t>
            </a:r>
            <a:r>
              <a:rPr b="0" lang="en-US" sz="4800" spc="-1" strike="noStrike">
                <a:solidFill>
                  <a:srgbClr val="050606"/>
                </a:solidFill>
                <a:latin typeface="Arial"/>
              </a:rPr>
              <a:t>	</a:t>
            </a:r>
            <a:r>
              <a:rPr b="0" lang="en-US" sz="4800" spc="-1" strike="noStrike">
                <a:solidFill>
                  <a:srgbClr val="050606"/>
                </a:solidFill>
                <a:latin typeface="Arial"/>
              </a:rPr>
              <a:t>	</a:t>
            </a:r>
            <a:r>
              <a:rPr b="0" lang="en-US" sz="4800" spc="-1" strike="noStrike">
                <a:solidFill>
                  <a:srgbClr val="050606"/>
                </a:solidFill>
                <a:latin typeface="Arial"/>
              </a:rPr>
              <a:t>FROM HEATHROW</a:t>
            </a:r>
            <a:r>
              <a:rPr b="0" lang="en-US" sz="4800" spc="-1" strike="noStrike">
                <a:solidFill>
                  <a:srgbClr val="050606"/>
                </a:solidFill>
                <a:latin typeface="Arial"/>
              </a:rPr>
              <a:t>	</a:t>
            </a:r>
            <a:r>
              <a:rPr b="0" lang="en-US" sz="4800" spc="-1" strike="noStrike">
                <a:solidFill>
                  <a:srgbClr val="050606"/>
                </a:solidFill>
                <a:latin typeface="Arial"/>
              </a:rPr>
              <a:t>AIRPORT</a:t>
            </a:r>
            <a:r>
              <a:rPr b="0" lang="en-US" sz="4800" spc="-1" strike="noStrike">
                <a:solidFill>
                  <a:srgbClr val="050606"/>
                </a:solidFill>
                <a:latin typeface="Arial"/>
              </a:rPr>
              <a:t>	</a:t>
            </a:r>
            <a:r>
              <a:rPr b="0" lang="en-US" sz="4800" spc="-1" strike="noStrike">
                <a:solidFill>
                  <a:srgbClr val="050606"/>
                </a:solidFill>
                <a:latin typeface="Arial"/>
              </a:rPr>
              <a:t>(UK)</a:t>
            </a:r>
            <a:endParaRPr b="0" lang="en-US" sz="4800" spc="-1" strike="noStrike">
              <a:solidFill>
                <a:srgbClr val="000000"/>
              </a:solidFill>
              <a:latin typeface="Calibri"/>
            </a:endParaRPr>
          </a:p>
        </p:txBody>
      </p:sp>
      <p:sp>
        <p:nvSpPr>
          <p:cNvPr id="89" name="object 7"/>
          <p:cNvSpPr/>
          <p:nvPr/>
        </p:nvSpPr>
        <p:spPr>
          <a:xfrm>
            <a:off x="12190320" y="7956720"/>
            <a:ext cx="8780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Book</a:t>
            </a:r>
            <a:endParaRPr b="0" lang="en-US" sz="2800" spc="-1" strike="noStrike">
              <a:solidFill>
                <a:srgbClr val="000000"/>
              </a:solidFill>
              <a:latin typeface="Calibri"/>
            </a:endParaRPr>
          </a:p>
        </p:txBody>
      </p:sp>
      <p:sp>
        <p:nvSpPr>
          <p:cNvPr id="90" name="object 8"/>
          <p:cNvSpPr/>
          <p:nvPr/>
        </p:nvSpPr>
        <p:spPr>
          <a:xfrm>
            <a:off x="13285800" y="7956720"/>
            <a:ext cx="153360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Airport</a:t>
            </a:r>
            <a:endParaRPr b="0" lang="en-US" sz="2800" spc="-1" strike="noStrike">
              <a:solidFill>
                <a:srgbClr val="000000"/>
              </a:solidFill>
              <a:latin typeface="Calibri"/>
            </a:endParaRPr>
          </a:p>
        </p:txBody>
      </p:sp>
      <p:sp>
        <p:nvSpPr>
          <p:cNvPr id="91" name="object 9"/>
          <p:cNvSpPr/>
          <p:nvPr/>
        </p:nvSpPr>
        <p:spPr>
          <a:xfrm>
            <a:off x="15036840" y="7956720"/>
            <a:ext cx="19717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Transfers</a:t>
            </a:r>
            <a:endParaRPr b="0" lang="en-US" sz="2800" spc="-1" strike="noStrike">
              <a:solidFill>
                <a:srgbClr val="000000"/>
              </a:solidFill>
              <a:latin typeface="Calibri"/>
            </a:endParaRPr>
          </a:p>
        </p:txBody>
      </p:sp>
      <p:sp>
        <p:nvSpPr>
          <p:cNvPr id="92" name="object 10"/>
          <p:cNvSpPr/>
          <p:nvPr/>
        </p:nvSpPr>
        <p:spPr>
          <a:xfrm>
            <a:off x="12190320" y="8451720"/>
            <a:ext cx="2409840" cy="853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98288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Services</a:t>
            </a:r>
            <a:r>
              <a:rPr b="0" lang="de-DE" sz="2800" spc="-1" strike="noStrike">
                <a:solidFill>
                  <a:srgbClr val="050606"/>
                </a:solidFill>
                <a:latin typeface="Arial"/>
              </a:rPr>
              <a:t>	</a:t>
            </a:r>
            <a:r>
              <a:rPr b="0" lang="de-DE" sz="2800" spc="-1" strike="noStrike">
                <a:solidFill>
                  <a:srgbClr val="050606"/>
                </a:solidFill>
                <a:latin typeface="Arial"/>
              </a:rPr>
              <a:t>UK</a:t>
            </a:r>
            <a:endParaRPr b="0" lang="en-US" sz="2800" spc="-1" strike="noStrike">
              <a:solidFill>
                <a:srgbClr val="000000"/>
              </a:solidFill>
              <a:latin typeface="Calibri"/>
            </a:endParaRPr>
          </a:p>
        </p:txBody>
      </p:sp>
      <p:sp>
        <p:nvSpPr>
          <p:cNvPr id="93" name="object 11"/>
          <p:cNvSpPr/>
          <p:nvPr/>
        </p:nvSpPr>
        <p:spPr>
          <a:xfrm>
            <a:off x="15063840" y="4492800"/>
            <a:ext cx="3224160" cy="375264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object 12"/>
          <p:cNvSpPr/>
          <p:nvPr/>
        </p:nvSpPr>
        <p:spPr>
          <a:xfrm>
            <a:off x="9628200" y="9879120"/>
            <a:ext cx="2124000" cy="407880"/>
          </a:xfrm>
          <a:custGeom>
            <a:avLst/>
            <a:gdLst/>
            <a:ahLst/>
            <a:rect l="l" t="t" r="r" b="b"/>
            <a:pathLst>
              <a:path w="2124075" h="408304">
                <a:moveTo>
                  <a:pt x="814052" y="125894"/>
                </a:moveTo>
                <a:lnTo>
                  <a:pt x="773059" y="136589"/>
                </a:lnTo>
                <a:lnTo>
                  <a:pt x="740923" y="157544"/>
                </a:lnTo>
                <a:lnTo>
                  <a:pt x="718724" y="177865"/>
                </a:lnTo>
                <a:lnTo>
                  <a:pt x="709389" y="186680"/>
                </a:lnTo>
                <a:lnTo>
                  <a:pt x="662172" y="259782"/>
                </a:lnTo>
                <a:lnTo>
                  <a:pt x="607553" y="354040"/>
                </a:lnTo>
                <a:lnTo>
                  <a:pt x="576836" y="407708"/>
                </a:lnTo>
                <a:lnTo>
                  <a:pt x="693103" y="407708"/>
                </a:lnTo>
                <a:lnTo>
                  <a:pt x="699438" y="397273"/>
                </a:lnTo>
                <a:lnTo>
                  <a:pt x="705897" y="386909"/>
                </a:lnTo>
                <a:lnTo>
                  <a:pt x="726665" y="354874"/>
                </a:lnTo>
                <a:lnTo>
                  <a:pt x="756819" y="309891"/>
                </a:lnTo>
                <a:lnTo>
                  <a:pt x="787917" y="271031"/>
                </a:lnTo>
                <a:lnTo>
                  <a:pt x="817227" y="246365"/>
                </a:lnTo>
                <a:lnTo>
                  <a:pt x="854493" y="227197"/>
                </a:lnTo>
                <a:lnTo>
                  <a:pt x="940802" y="227197"/>
                </a:lnTo>
                <a:lnTo>
                  <a:pt x="939050" y="223568"/>
                </a:lnTo>
                <a:lnTo>
                  <a:pt x="910237" y="180262"/>
                </a:lnTo>
                <a:lnTo>
                  <a:pt x="882037" y="152282"/>
                </a:lnTo>
                <a:lnTo>
                  <a:pt x="843668" y="130354"/>
                </a:lnTo>
                <a:lnTo>
                  <a:pt x="824019" y="126214"/>
                </a:lnTo>
                <a:lnTo>
                  <a:pt x="814052" y="125894"/>
                </a:lnTo>
                <a:close/>
              </a:path>
              <a:path w="2124075" h="408304">
                <a:moveTo>
                  <a:pt x="940802" y="227197"/>
                </a:moveTo>
                <a:lnTo>
                  <a:pt x="854493" y="227197"/>
                </a:lnTo>
                <a:lnTo>
                  <a:pt x="857470" y="238566"/>
                </a:lnTo>
                <a:lnTo>
                  <a:pt x="863435" y="261257"/>
                </a:lnTo>
                <a:lnTo>
                  <a:pt x="866470" y="272877"/>
                </a:lnTo>
                <a:lnTo>
                  <a:pt x="875937" y="310134"/>
                </a:lnTo>
                <a:lnTo>
                  <a:pt x="882682" y="338058"/>
                </a:lnTo>
                <a:lnTo>
                  <a:pt x="885763" y="350079"/>
                </a:lnTo>
                <a:lnTo>
                  <a:pt x="888831" y="362125"/>
                </a:lnTo>
                <a:lnTo>
                  <a:pt x="891894" y="374196"/>
                </a:lnTo>
                <a:lnTo>
                  <a:pt x="900372" y="407708"/>
                </a:lnTo>
                <a:lnTo>
                  <a:pt x="997138" y="407708"/>
                </a:lnTo>
                <a:lnTo>
                  <a:pt x="988497" y="369770"/>
                </a:lnTo>
                <a:lnTo>
                  <a:pt x="978331" y="332346"/>
                </a:lnTo>
                <a:lnTo>
                  <a:pt x="967088" y="295500"/>
                </a:lnTo>
                <a:lnTo>
                  <a:pt x="954442" y="258701"/>
                </a:lnTo>
                <a:lnTo>
                  <a:pt x="944569" y="234995"/>
                </a:lnTo>
                <a:lnTo>
                  <a:pt x="940802" y="227197"/>
                </a:lnTo>
                <a:close/>
              </a:path>
              <a:path w="2124075" h="408304">
                <a:moveTo>
                  <a:pt x="234438" y="121028"/>
                </a:moveTo>
                <a:lnTo>
                  <a:pt x="187721" y="133526"/>
                </a:lnTo>
                <a:lnTo>
                  <a:pt x="154974" y="158690"/>
                </a:lnTo>
                <a:lnTo>
                  <a:pt x="127884" y="186199"/>
                </a:lnTo>
                <a:lnTo>
                  <a:pt x="103834" y="215964"/>
                </a:lnTo>
                <a:lnTo>
                  <a:pt x="82227" y="247464"/>
                </a:lnTo>
                <a:lnTo>
                  <a:pt x="62467" y="280176"/>
                </a:lnTo>
                <a:lnTo>
                  <a:pt x="43959" y="313582"/>
                </a:lnTo>
                <a:lnTo>
                  <a:pt x="17524" y="366430"/>
                </a:lnTo>
                <a:lnTo>
                  <a:pt x="0" y="407708"/>
                </a:lnTo>
                <a:lnTo>
                  <a:pt x="115984" y="407708"/>
                </a:lnTo>
                <a:lnTo>
                  <a:pt x="140847" y="363347"/>
                </a:lnTo>
                <a:lnTo>
                  <a:pt x="147700" y="350967"/>
                </a:lnTo>
                <a:lnTo>
                  <a:pt x="154349" y="340117"/>
                </a:lnTo>
                <a:lnTo>
                  <a:pt x="184179" y="299576"/>
                </a:lnTo>
                <a:lnTo>
                  <a:pt x="219940" y="263752"/>
                </a:lnTo>
                <a:lnTo>
                  <a:pt x="251261" y="240095"/>
                </a:lnTo>
                <a:lnTo>
                  <a:pt x="274520" y="225896"/>
                </a:lnTo>
                <a:lnTo>
                  <a:pt x="371003" y="225896"/>
                </a:lnTo>
                <a:lnTo>
                  <a:pt x="366507" y="218217"/>
                </a:lnTo>
                <a:lnTo>
                  <a:pt x="336002" y="178184"/>
                </a:lnTo>
                <a:lnTo>
                  <a:pt x="306708" y="152510"/>
                </a:lnTo>
                <a:lnTo>
                  <a:pt x="270756" y="131406"/>
                </a:lnTo>
                <a:lnTo>
                  <a:pt x="245727" y="122483"/>
                </a:lnTo>
                <a:lnTo>
                  <a:pt x="234438" y="121028"/>
                </a:lnTo>
                <a:close/>
              </a:path>
              <a:path w="2124075" h="408304">
                <a:moveTo>
                  <a:pt x="371003" y="225896"/>
                </a:moveTo>
                <a:lnTo>
                  <a:pt x="274520" y="225896"/>
                </a:lnTo>
                <a:lnTo>
                  <a:pt x="279628" y="237781"/>
                </a:lnTo>
                <a:lnTo>
                  <a:pt x="289761" y="260756"/>
                </a:lnTo>
                <a:lnTo>
                  <a:pt x="294656" y="272120"/>
                </a:lnTo>
                <a:lnTo>
                  <a:pt x="311609" y="319939"/>
                </a:lnTo>
                <a:lnTo>
                  <a:pt x="323907" y="367159"/>
                </a:lnTo>
                <a:lnTo>
                  <a:pt x="334221" y="407708"/>
                </a:lnTo>
                <a:lnTo>
                  <a:pt x="432935" y="407708"/>
                </a:lnTo>
                <a:lnTo>
                  <a:pt x="430518" y="398333"/>
                </a:lnTo>
                <a:lnTo>
                  <a:pt x="424481" y="374552"/>
                </a:lnTo>
                <a:lnTo>
                  <a:pt x="421397" y="362554"/>
                </a:lnTo>
                <a:lnTo>
                  <a:pt x="407629" y="313711"/>
                </a:lnTo>
                <a:lnTo>
                  <a:pt x="394593" y="276028"/>
                </a:lnTo>
                <a:lnTo>
                  <a:pt x="378789" y="240216"/>
                </a:lnTo>
                <a:lnTo>
                  <a:pt x="372864" y="229075"/>
                </a:lnTo>
                <a:lnTo>
                  <a:pt x="371003" y="225896"/>
                </a:lnTo>
                <a:close/>
              </a:path>
              <a:path w="2124075" h="408304">
                <a:moveTo>
                  <a:pt x="1365520" y="94443"/>
                </a:moveTo>
                <a:lnTo>
                  <a:pt x="1320435" y="111030"/>
                </a:lnTo>
                <a:lnTo>
                  <a:pt x="1281979" y="144458"/>
                </a:lnTo>
                <a:lnTo>
                  <a:pt x="1246259" y="179309"/>
                </a:lnTo>
                <a:lnTo>
                  <a:pt x="1219757" y="208928"/>
                </a:lnTo>
                <a:lnTo>
                  <a:pt x="1195264" y="241310"/>
                </a:lnTo>
                <a:lnTo>
                  <a:pt x="1167457" y="283654"/>
                </a:lnTo>
                <a:lnTo>
                  <a:pt x="1147497" y="316235"/>
                </a:lnTo>
                <a:lnTo>
                  <a:pt x="1128028" y="349207"/>
                </a:lnTo>
                <a:lnTo>
                  <a:pt x="1095989" y="404254"/>
                </a:lnTo>
                <a:lnTo>
                  <a:pt x="1093957" y="407708"/>
                </a:lnTo>
                <a:lnTo>
                  <a:pt x="1218296" y="407708"/>
                </a:lnTo>
                <a:lnTo>
                  <a:pt x="1218911" y="406621"/>
                </a:lnTo>
                <a:lnTo>
                  <a:pt x="1226585" y="393455"/>
                </a:lnTo>
                <a:lnTo>
                  <a:pt x="1250934" y="353993"/>
                </a:lnTo>
                <a:lnTo>
                  <a:pt x="1277380" y="314443"/>
                </a:lnTo>
                <a:lnTo>
                  <a:pt x="1304470" y="278206"/>
                </a:lnTo>
                <a:lnTo>
                  <a:pt x="1330658" y="250520"/>
                </a:lnTo>
                <a:lnTo>
                  <a:pt x="1376465" y="206531"/>
                </a:lnTo>
                <a:lnTo>
                  <a:pt x="1385515" y="197622"/>
                </a:lnTo>
                <a:lnTo>
                  <a:pt x="1480865" y="197622"/>
                </a:lnTo>
                <a:lnTo>
                  <a:pt x="1480691" y="197211"/>
                </a:lnTo>
                <a:lnTo>
                  <a:pt x="1454076" y="154164"/>
                </a:lnTo>
                <a:lnTo>
                  <a:pt x="1426879" y="123925"/>
                </a:lnTo>
                <a:lnTo>
                  <a:pt x="1386536" y="97351"/>
                </a:lnTo>
                <a:lnTo>
                  <a:pt x="1376143" y="95023"/>
                </a:lnTo>
                <a:lnTo>
                  <a:pt x="1365520" y="94443"/>
                </a:lnTo>
                <a:close/>
              </a:path>
              <a:path w="2124075" h="408304">
                <a:moveTo>
                  <a:pt x="1480865" y="197622"/>
                </a:moveTo>
                <a:lnTo>
                  <a:pt x="1385515" y="197622"/>
                </a:lnTo>
                <a:lnTo>
                  <a:pt x="1389935" y="199110"/>
                </a:lnTo>
                <a:lnTo>
                  <a:pt x="1392891" y="202063"/>
                </a:lnTo>
                <a:lnTo>
                  <a:pt x="1406867" y="245206"/>
                </a:lnTo>
                <a:lnTo>
                  <a:pt x="1411502" y="285437"/>
                </a:lnTo>
                <a:lnTo>
                  <a:pt x="1418242" y="349443"/>
                </a:lnTo>
                <a:lnTo>
                  <a:pt x="1420639" y="372362"/>
                </a:lnTo>
                <a:lnTo>
                  <a:pt x="1421980" y="385059"/>
                </a:lnTo>
                <a:lnTo>
                  <a:pt x="1423348" y="397866"/>
                </a:lnTo>
                <a:lnTo>
                  <a:pt x="1424413" y="407708"/>
                </a:lnTo>
                <a:lnTo>
                  <a:pt x="1519071" y="407708"/>
                </a:lnTo>
                <a:lnTo>
                  <a:pt x="1517996" y="400474"/>
                </a:lnTo>
                <a:lnTo>
                  <a:pt x="1516122" y="387783"/>
                </a:lnTo>
                <a:lnTo>
                  <a:pt x="1510527" y="349443"/>
                </a:lnTo>
                <a:lnTo>
                  <a:pt x="1504937" y="310657"/>
                </a:lnTo>
                <a:lnTo>
                  <a:pt x="1495502" y="244852"/>
                </a:lnTo>
                <a:lnTo>
                  <a:pt x="1492952" y="232423"/>
                </a:lnTo>
                <a:lnTo>
                  <a:pt x="1489625" y="220357"/>
                </a:lnTo>
                <a:lnTo>
                  <a:pt x="1485534" y="208628"/>
                </a:lnTo>
                <a:lnTo>
                  <a:pt x="1480865" y="197622"/>
                </a:lnTo>
                <a:close/>
              </a:path>
              <a:path w="2124075" h="408304">
                <a:moveTo>
                  <a:pt x="1982688" y="0"/>
                </a:moveTo>
                <a:lnTo>
                  <a:pt x="1931523" y="9594"/>
                </a:lnTo>
                <a:lnTo>
                  <a:pt x="1893677" y="27550"/>
                </a:lnTo>
                <a:lnTo>
                  <a:pt x="1861863" y="49424"/>
                </a:lnTo>
                <a:lnTo>
                  <a:pt x="1833161" y="74880"/>
                </a:lnTo>
                <a:lnTo>
                  <a:pt x="1807120" y="103153"/>
                </a:lnTo>
                <a:lnTo>
                  <a:pt x="1783287" y="133479"/>
                </a:lnTo>
                <a:lnTo>
                  <a:pt x="1761212" y="165094"/>
                </a:lnTo>
                <a:lnTo>
                  <a:pt x="1734273" y="207316"/>
                </a:lnTo>
                <a:lnTo>
                  <a:pt x="1707869" y="250160"/>
                </a:lnTo>
                <a:lnTo>
                  <a:pt x="1673030" y="308294"/>
                </a:lnTo>
                <a:lnTo>
                  <a:pt x="1614389" y="407708"/>
                </a:lnTo>
                <a:lnTo>
                  <a:pt x="1729083" y="407708"/>
                </a:lnTo>
                <a:lnTo>
                  <a:pt x="1730391" y="405135"/>
                </a:lnTo>
                <a:lnTo>
                  <a:pt x="1736672" y="393836"/>
                </a:lnTo>
                <a:lnTo>
                  <a:pt x="1743488" y="382767"/>
                </a:lnTo>
                <a:lnTo>
                  <a:pt x="1750929" y="371979"/>
                </a:lnTo>
                <a:lnTo>
                  <a:pt x="1759084" y="361523"/>
                </a:lnTo>
                <a:lnTo>
                  <a:pt x="1766784" y="351372"/>
                </a:lnTo>
                <a:lnTo>
                  <a:pt x="1787680" y="319493"/>
                </a:lnTo>
                <a:lnTo>
                  <a:pt x="1813067" y="275414"/>
                </a:lnTo>
                <a:lnTo>
                  <a:pt x="1819450" y="264427"/>
                </a:lnTo>
                <a:lnTo>
                  <a:pt x="1847270" y="222013"/>
                </a:lnTo>
                <a:lnTo>
                  <a:pt x="1872544" y="193131"/>
                </a:lnTo>
                <a:lnTo>
                  <a:pt x="1892567" y="175975"/>
                </a:lnTo>
                <a:lnTo>
                  <a:pt x="1901128" y="168834"/>
                </a:lnTo>
                <a:lnTo>
                  <a:pt x="1938423" y="137443"/>
                </a:lnTo>
                <a:lnTo>
                  <a:pt x="1976417" y="116081"/>
                </a:lnTo>
                <a:lnTo>
                  <a:pt x="1987476" y="113429"/>
                </a:lnTo>
                <a:lnTo>
                  <a:pt x="2081650" y="113429"/>
                </a:lnTo>
                <a:lnTo>
                  <a:pt x="2079649" y="107297"/>
                </a:lnTo>
                <a:lnTo>
                  <a:pt x="2065929" y="70660"/>
                </a:lnTo>
                <a:lnTo>
                  <a:pt x="2047153" y="35709"/>
                </a:lnTo>
                <a:lnTo>
                  <a:pt x="2013852" y="7026"/>
                </a:lnTo>
                <a:lnTo>
                  <a:pt x="1993718" y="976"/>
                </a:lnTo>
                <a:lnTo>
                  <a:pt x="1982688" y="0"/>
                </a:lnTo>
                <a:close/>
              </a:path>
              <a:path w="2124075" h="408304">
                <a:moveTo>
                  <a:pt x="2081650" y="113429"/>
                </a:moveTo>
                <a:lnTo>
                  <a:pt x="1987476" y="113429"/>
                </a:lnTo>
                <a:lnTo>
                  <a:pt x="1996584" y="113764"/>
                </a:lnTo>
                <a:lnTo>
                  <a:pt x="2003949" y="117182"/>
                </a:lnTo>
                <a:lnTo>
                  <a:pt x="2009774" y="123780"/>
                </a:lnTo>
                <a:lnTo>
                  <a:pt x="2014267" y="133655"/>
                </a:lnTo>
                <a:lnTo>
                  <a:pt x="2017633" y="146902"/>
                </a:lnTo>
                <a:lnTo>
                  <a:pt x="2020078" y="163618"/>
                </a:lnTo>
                <a:lnTo>
                  <a:pt x="2020078" y="173964"/>
                </a:lnTo>
                <a:lnTo>
                  <a:pt x="2021990" y="193493"/>
                </a:lnTo>
                <a:lnTo>
                  <a:pt x="2023768" y="213042"/>
                </a:lnTo>
                <a:lnTo>
                  <a:pt x="2025453" y="232608"/>
                </a:lnTo>
                <a:lnTo>
                  <a:pt x="2027089" y="252188"/>
                </a:lnTo>
                <a:lnTo>
                  <a:pt x="2028717" y="271780"/>
                </a:lnTo>
                <a:lnTo>
                  <a:pt x="2030381" y="291381"/>
                </a:lnTo>
                <a:lnTo>
                  <a:pt x="2033983" y="330601"/>
                </a:lnTo>
                <a:lnTo>
                  <a:pt x="2038235" y="369828"/>
                </a:lnTo>
                <a:lnTo>
                  <a:pt x="2043288" y="407708"/>
                </a:lnTo>
                <a:lnTo>
                  <a:pt x="2124084" y="407708"/>
                </a:lnTo>
                <a:lnTo>
                  <a:pt x="2122987" y="396911"/>
                </a:lnTo>
                <a:lnTo>
                  <a:pt x="2121291" y="378948"/>
                </a:lnTo>
                <a:lnTo>
                  <a:pt x="2116688" y="324246"/>
                </a:lnTo>
                <a:lnTo>
                  <a:pt x="2112352" y="268225"/>
                </a:lnTo>
                <a:lnTo>
                  <a:pt x="2111124" y="255621"/>
                </a:lnTo>
                <a:lnTo>
                  <a:pt x="2104293" y="205669"/>
                </a:lnTo>
                <a:lnTo>
                  <a:pt x="2093983" y="156298"/>
                </a:lnTo>
                <a:lnTo>
                  <a:pt x="2083639" y="119524"/>
                </a:lnTo>
                <a:lnTo>
                  <a:pt x="2081650"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object 2"/>
          <p:cNvSpPr/>
          <p:nvPr/>
        </p:nvSpPr>
        <p:spPr>
          <a:xfrm>
            <a:off x="1814400" y="1373040"/>
            <a:ext cx="5577120" cy="6392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5. SECURITY</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MEASUREMENTS</a:t>
            </a:r>
            <a:r>
              <a:rPr b="1" lang="en-US" sz="7000" spc="-1" strike="noStrike">
                <a:solidFill>
                  <a:srgbClr val="050606"/>
                </a:solidFill>
                <a:latin typeface="Arial"/>
              </a:rPr>
              <a:t>	</a:t>
            </a:r>
            <a:r>
              <a:rPr b="1" lang="en-US" sz="7000" spc="-1" strike="noStrike">
                <a:solidFill>
                  <a:srgbClr val="050606"/>
                </a:solidFill>
                <a:latin typeface="Arial"/>
              </a:rPr>
              <a:t>AT</a:t>
            </a:r>
            <a:r>
              <a:rPr b="1" lang="en-US" sz="7000" spc="-1" strike="noStrike">
                <a:solidFill>
                  <a:srgbClr val="050606"/>
                </a:solidFill>
                <a:latin typeface="Arial"/>
              </a:rPr>
              <a:t>	</a:t>
            </a:r>
            <a:r>
              <a:rPr b="1" lang="en-US" sz="7000" spc="-1" strike="noStrike">
                <a:solidFill>
                  <a:srgbClr val="050606"/>
                </a:solidFill>
                <a:latin typeface="Arial"/>
              </a:rPr>
              <a:t>THE AIRPORT</a:t>
            </a:r>
            <a:endParaRPr b="0" lang="en-US" sz="7000" spc="-1" strike="noStrike">
              <a:solidFill>
                <a:srgbClr val="000000"/>
              </a:solidFill>
              <a:latin typeface="Calibri"/>
            </a:endParaRPr>
          </a:p>
          <a:p>
            <a:pPr marL="12600">
              <a:lnSpc>
                <a:spcPct val="100000"/>
              </a:lnSpc>
              <a:spcBef>
                <a:spcPts val="4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18" name="object 30"/>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bject 31"/>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bject 32"/>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bject 33"/>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bject 34"/>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3" name="object 35"/>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36"/>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5" name="object 37"/>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8"/>
          <p:cNvSpPr/>
          <p:nvPr/>
        </p:nvSpPr>
        <p:spPr>
          <a:xfrm>
            <a:off x="9137520" y="1533600"/>
            <a:ext cx="9144000" cy="734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If you’re carrying a suitcase, it will be checked as soon as you enter the airpor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Head to check-in desk that is located near the entrance of the airport for bag chec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After bag checking, follow the signs for other security check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Your bag, electronic items or any liquid that you’re carrying will be checke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Be ready to remove your clothes or jewellery, as the staff can ask for it due to security measuremen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Make sure all your devices are fully charged because if they’re not, you’ll not be allowed to take them with yo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object 2"/>
          <p:cNvSpPr/>
          <p:nvPr/>
        </p:nvSpPr>
        <p:spPr>
          <a:xfrm>
            <a:off x="0" y="1257480"/>
            <a:ext cx="2017800" cy="9029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bject 3"/>
          <p:cNvSpPr/>
          <p:nvPr/>
        </p:nvSpPr>
        <p:spPr>
          <a:xfrm>
            <a:off x="0" y="0"/>
            <a:ext cx="4048200" cy="51436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230" name="object 5"/>
          <p:cNvSpPr/>
          <p:nvPr/>
        </p:nvSpPr>
        <p:spPr>
          <a:xfrm>
            <a:off x="8570880" y="6404040"/>
            <a:ext cx="1592280" cy="1349640"/>
          </a:xfrm>
          <a:prstGeom prst="rect">
            <a:avLst/>
          </a:prstGeom>
          <a:noFill/>
          <a:ln w="0">
            <a:noFill/>
          </a:ln>
        </p:spPr>
        <p:style>
          <a:lnRef idx="0"/>
          <a:fillRef idx="0"/>
          <a:effectRef idx="0"/>
          <a:fontRef idx="minor"/>
        </p:style>
        <p:txBody>
          <a:bodyPr lIns="0" rIns="0" tIns="0" bIns="0" anchor="t">
            <a:spAutoFit/>
          </a:bodyPr>
          <a:p>
            <a:pPr marL="12600" indent="262080">
              <a:lnSpc>
                <a:spcPct val="12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Check before</a:t>
            </a:r>
            <a:endParaRPr b="0" lang="en-US" sz="3600" spc="-1" strike="noStrike">
              <a:solidFill>
                <a:srgbClr val="000000"/>
              </a:solidFill>
              <a:latin typeface="Calibri"/>
            </a:endParaRPr>
          </a:p>
        </p:txBody>
      </p:sp>
      <p:sp>
        <p:nvSpPr>
          <p:cNvPr id="231" name="object 6"/>
          <p:cNvSpPr/>
          <p:nvPr/>
        </p:nvSpPr>
        <p:spPr>
          <a:xfrm>
            <a:off x="10414080" y="6404040"/>
            <a:ext cx="26445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weight</a:t>
            </a:r>
            <a:endParaRPr b="0" lang="en-US" sz="3600" spc="-1" strike="noStrike">
              <a:solidFill>
                <a:srgbClr val="000000"/>
              </a:solidFill>
              <a:latin typeface="Calibri"/>
            </a:endParaRPr>
          </a:p>
        </p:txBody>
      </p:sp>
      <p:sp>
        <p:nvSpPr>
          <p:cNvPr id="232" name="object 7"/>
          <p:cNvSpPr/>
          <p:nvPr/>
        </p:nvSpPr>
        <p:spPr>
          <a:xfrm>
            <a:off x="13309560" y="6404040"/>
            <a:ext cx="18558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of</a:t>
            </a:r>
            <a:r>
              <a:rPr b="0" lang="de-DE" sz="3600" spc="-1" strike="noStrike">
                <a:solidFill>
                  <a:srgbClr val="050606"/>
                </a:solidFill>
                <a:latin typeface="Arial"/>
              </a:rPr>
              <a:t>	</a:t>
            </a:r>
            <a:r>
              <a:rPr b="0" lang="de-DE" sz="3600" spc="-1" strike="noStrike">
                <a:solidFill>
                  <a:srgbClr val="050606"/>
                </a:solidFill>
                <a:latin typeface="Arial"/>
              </a:rPr>
              <a:t>your</a:t>
            </a:r>
            <a:endParaRPr b="0" lang="en-US" sz="3600" spc="-1" strike="noStrike">
              <a:solidFill>
                <a:srgbClr val="000000"/>
              </a:solidFill>
              <a:latin typeface="Calibri"/>
            </a:endParaRPr>
          </a:p>
        </p:txBody>
      </p:sp>
      <p:sp>
        <p:nvSpPr>
          <p:cNvPr id="233" name="object 8"/>
          <p:cNvSpPr/>
          <p:nvPr/>
        </p:nvSpPr>
        <p:spPr>
          <a:xfrm>
            <a:off x="15416280" y="6404040"/>
            <a:ext cx="18540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luggage</a:t>
            </a:r>
            <a:endParaRPr b="0" lang="en-US" sz="3600" spc="-1" strike="noStrike">
              <a:solidFill>
                <a:srgbClr val="000000"/>
              </a:solidFill>
              <a:latin typeface="Calibri"/>
            </a:endParaRPr>
          </a:p>
        </p:txBody>
      </p:sp>
      <p:sp>
        <p:nvSpPr>
          <p:cNvPr id="234" name="object 9"/>
          <p:cNvSpPr/>
          <p:nvPr/>
        </p:nvSpPr>
        <p:spPr>
          <a:xfrm>
            <a:off x="10414080" y="7080120"/>
            <a:ext cx="4224240" cy="2024280"/>
          </a:xfrm>
          <a:prstGeom prst="rect">
            <a:avLst/>
          </a:prstGeom>
          <a:noFill/>
          <a:ln w="0">
            <a:noFill/>
          </a:ln>
        </p:spPr>
        <p:style>
          <a:lnRef idx="0"/>
          <a:fillRef idx="0"/>
          <a:effectRef idx="0"/>
          <a:fontRef idx="minor"/>
        </p:style>
        <p:txBody>
          <a:bodyPr lIns="0" rIns="0" tIns="0" bIns="0" anchor="t">
            <a:spAutoFit/>
          </a:bodyPr>
          <a:p>
            <a:pPr marL="538200" indent="-527040">
              <a:lnSpc>
                <a:spcPct val="123000"/>
              </a:lnSpc>
              <a:tabLst>
                <a:tab algn="l" pos="0"/>
                <a:tab algn="l" pos="2117880"/>
                <a:tab algn="l" pos="2644920"/>
                <a:tab algn="l" pos="290844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leaving</a:t>
            </a:r>
            <a:r>
              <a:rPr b="0" lang="en-US" sz="3600" spc="-1" strike="noStrike">
                <a:solidFill>
                  <a:srgbClr val="050606"/>
                </a:solidFill>
                <a:latin typeface="Arial"/>
              </a:rPr>
              <a:t>	</a:t>
            </a:r>
            <a:r>
              <a:rPr b="0" lang="en-US" sz="3600" spc="-1" strike="noStrike">
                <a:solidFill>
                  <a:srgbClr val="050606"/>
                </a:solidFill>
                <a:latin typeface="Arial"/>
              </a:rPr>
              <a:t>to</a:t>
            </a:r>
            <a:r>
              <a:rPr b="0" lang="en-US" sz="3600" spc="-1" strike="noStrike">
                <a:solidFill>
                  <a:srgbClr val="050606"/>
                </a:solidFill>
                <a:latin typeface="Arial"/>
              </a:rPr>
              <a:t>	</a:t>
            </a:r>
            <a:r>
              <a:rPr b="0" lang="en-US" sz="3600" spc="-1" strike="noStrike">
                <a:solidFill>
                  <a:srgbClr val="050606"/>
                </a:solidFill>
                <a:latin typeface="Arial"/>
              </a:rPr>
              <a:t>	</a:t>
            </a:r>
            <a:r>
              <a:rPr b="0" lang="en-US" sz="3600" spc="-1" strike="noStrike">
                <a:solidFill>
                  <a:srgbClr val="050606"/>
                </a:solidFill>
                <a:latin typeface="Arial"/>
              </a:rPr>
              <a:t>avoid packing</a:t>
            </a:r>
            <a:r>
              <a:rPr b="0" lang="en-US" sz="3600" spc="-1" strike="noStrike">
                <a:solidFill>
                  <a:srgbClr val="050606"/>
                </a:solidFill>
                <a:latin typeface="Arial"/>
              </a:rPr>
              <a:t>	</a:t>
            </a:r>
            <a:r>
              <a:rPr b="0" lang="en-US" sz="3600" spc="-1" strike="noStrike">
                <a:solidFill>
                  <a:srgbClr val="050606"/>
                </a:solidFill>
                <a:latin typeface="Arial"/>
              </a:rPr>
              <a:t>during</a:t>
            </a:r>
            <a:endParaRPr b="0" lang="en-US" sz="3600" spc="-1" strike="noStrike">
              <a:solidFill>
                <a:srgbClr val="000000"/>
              </a:solidFill>
              <a:latin typeface="Calibri"/>
            </a:endParaRPr>
          </a:p>
        </p:txBody>
      </p:sp>
      <p:sp>
        <p:nvSpPr>
          <p:cNvPr id="235" name="object 10"/>
          <p:cNvSpPr/>
          <p:nvPr/>
        </p:nvSpPr>
        <p:spPr>
          <a:xfrm>
            <a:off x="14889240" y="7080120"/>
            <a:ext cx="2382840" cy="1349640"/>
          </a:xfrm>
          <a:prstGeom prst="rect">
            <a:avLst/>
          </a:prstGeom>
          <a:noFill/>
          <a:ln w="0">
            <a:noFill/>
          </a:ln>
        </p:spPr>
        <p:style>
          <a:lnRef idx="0"/>
          <a:fillRef idx="0"/>
          <a:effectRef idx="0"/>
          <a:fontRef idx="minor"/>
        </p:style>
        <p:txBody>
          <a:bodyPr lIns="0" rIns="0" tIns="0" bIns="0" anchor="t">
            <a:spAutoFit/>
          </a:bodyPr>
          <a:p>
            <a:pPr marL="12600">
              <a:lnSpc>
                <a:spcPct val="123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any</a:t>
            </a:r>
            <a:r>
              <a:rPr b="0" lang="en-US" sz="3600" spc="-1" strike="noStrike">
                <a:solidFill>
                  <a:srgbClr val="050606"/>
                </a:solidFill>
                <a:latin typeface="Arial"/>
              </a:rPr>
              <a:t>	</a:t>
            </a:r>
            <a:r>
              <a:rPr b="0" lang="en-US" sz="3600" spc="-1" strike="noStrike">
                <a:solidFill>
                  <a:srgbClr val="050606"/>
                </a:solidFill>
                <a:latin typeface="Arial"/>
              </a:rPr>
              <a:t>extra checking.</a:t>
            </a:r>
            <a:endParaRPr b="0" lang="en-US" sz="3600" spc="-1" strike="noStrike">
              <a:solidFill>
                <a:srgbClr val="000000"/>
              </a:solidFill>
              <a:latin typeface="Calibri"/>
            </a:endParaRPr>
          </a:p>
        </p:txBody>
      </p:sp>
      <p:sp>
        <p:nvSpPr>
          <p:cNvPr id="236" name="object 11"/>
          <p:cNvSpPr/>
          <p:nvPr/>
        </p:nvSpPr>
        <p:spPr>
          <a:xfrm>
            <a:off x="11553840" y="9024840"/>
            <a:ext cx="14256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JEWELS</a:t>
            </a:r>
            <a:endParaRPr b="0" lang="en-US" sz="3000" spc="-1" strike="noStrike">
              <a:solidFill>
                <a:srgbClr val="000000"/>
              </a:solidFill>
              <a:latin typeface="Calibri"/>
            </a:endParaRPr>
          </a:p>
        </p:txBody>
      </p:sp>
      <p:sp>
        <p:nvSpPr>
          <p:cNvPr id="237" name="object 12"/>
          <p:cNvSpPr/>
          <p:nvPr/>
        </p:nvSpPr>
        <p:spPr>
          <a:xfrm>
            <a:off x="13222440" y="9024840"/>
            <a:ext cx="16650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AIRPORT</a:t>
            </a:r>
            <a:endParaRPr b="0" lang="en-US" sz="3000" spc="-1" strike="noStrike">
              <a:solidFill>
                <a:srgbClr val="000000"/>
              </a:solidFill>
              <a:latin typeface="Calibri"/>
            </a:endParaRPr>
          </a:p>
        </p:txBody>
      </p:sp>
      <p:sp>
        <p:nvSpPr>
          <p:cNvPr id="238" name="object 13"/>
          <p:cNvSpPr/>
          <p:nvPr/>
        </p:nvSpPr>
        <p:spPr>
          <a:xfrm>
            <a:off x="15130440" y="9024840"/>
            <a:ext cx="21416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TRANSFERS</a:t>
            </a:r>
            <a:endParaRPr b="0" lang="en-US" sz="3000" spc="-1" strike="noStrike">
              <a:solidFill>
                <a:srgbClr val="000000"/>
              </a:solidFill>
              <a:latin typeface="Calibri"/>
            </a:endParaRPr>
          </a:p>
        </p:txBody>
      </p:sp>
      <p:sp>
        <p:nvSpPr>
          <p:cNvPr id="239" name="object 14"/>
          <p:cNvSpPr/>
          <p:nvPr/>
        </p:nvSpPr>
        <p:spPr>
          <a:xfrm>
            <a:off x="1066680" y="4614840"/>
            <a:ext cx="671760" cy="507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bject 15"/>
          <p:cNvSpPr/>
          <p:nvPr/>
        </p:nvSpPr>
        <p:spPr>
          <a:xfrm>
            <a:off x="1968480" y="4614840"/>
            <a:ext cx="676440" cy="5335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bject 16"/>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2" name="object 17"/>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3" name="object 18"/>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4" name="object 19"/>
          <p:cNvSpPr/>
          <p:nvPr/>
        </p:nvSpPr>
        <p:spPr>
          <a:xfrm>
            <a:off x="2836800" y="0"/>
            <a:ext cx="2419560" cy="17398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bject 20"/>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6" name="object 21"/>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object 2"/>
          <p:cNvSpPr/>
          <p:nvPr/>
        </p:nvSpPr>
        <p:spPr>
          <a:xfrm>
            <a:off x="1709640" y="1982880"/>
            <a:ext cx="506592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6. WHILE</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BOARDING THE</a:t>
            </a:r>
            <a:r>
              <a:rPr b="1" lang="en-US" sz="7000" spc="-1" strike="noStrike">
                <a:solidFill>
                  <a:srgbClr val="050606"/>
                </a:solidFill>
                <a:latin typeface="Arial"/>
              </a:rPr>
              <a:t>	</a:t>
            </a:r>
            <a:r>
              <a:rPr b="1" lang="en-US" sz="7000" spc="-1" strike="noStrike">
                <a:solidFill>
                  <a:srgbClr val="050606"/>
                </a:solidFill>
                <a:latin typeface="Arial"/>
              </a:rPr>
              <a:t> FLIGHT</a:t>
            </a:r>
            <a:endParaRPr b="0" lang="en-US" sz="7000" spc="-1" strike="noStrike">
              <a:solidFill>
                <a:srgbClr val="000000"/>
              </a:solidFill>
              <a:latin typeface="Calibri"/>
            </a:endParaRPr>
          </a:p>
          <a:p>
            <a:pPr marL="12600">
              <a:lnSpc>
                <a:spcPct val="100000"/>
              </a:lnSpc>
              <a:spcBef>
                <a:spcPts val="4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48" name="object 26"/>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bject 27"/>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bject 28"/>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bject 29"/>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bject 30"/>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3" name="object 31"/>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4" name="object 32"/>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5" name="object 33"/>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7"/>
          <p:cNvSpPr/>
          <p:nvPr/>
        </p:nvSpPr>
        <p:spPr>
          <a:xfrm>
            <a:off x="9144000" y="2033640"/>
            <a:ext cx="91440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At the gate, your boarding pass and passport will be checked</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The steward will greet you and advise you to find your sea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Make sure you put your luggage either under your seat or in the overhead storag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Take your seat with the seatbelt on and put your device on flight mod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Once everyone boards the flight, cabin crew will brief about the security precautions, such as emergency exits, oxygen masks,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object 2"/>
          <p:cNvSpPr/>
          <p:nvPr/>
        </p:nvSpPr>
        <p:spPr>
          <a:xfrm>
            <a:off x="0" y="1257480"/>
            <a:ext cx="2017800" cy="90295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bject 3"/>
          <p:cNvSpPr/>
          <p:nvPr/>
        </p:nvSpPr>
        <p:spPr>
          <a:xfrm>
            <a:off x="0" y="0"/>
            <a:ext cx="4048200" cy="514368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260" name="object 16"/>
          <p:cNvSpPr/>
          <p:nvPr/>
        </p:nvSpPr>
        <p:spPr>
          <a:xfrm>
            <a:off x="11553840" y="9024840"/>
            <a:ext cx="14256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JEWELS</a:t>
            </a:r>
            <a:endParaRPr b="0" lang="en-US" sz="3000" spc="-1" strike="noStrike">
              <a:solidFill>
                <a:srgbClr val="000000"/>
              </a:solidFill>
              <a:latin typeface="Calibri"/>
            </a:endParaRPr>
          </a:p>
        </p:txBody>
      </p:sp>
      <p:sp>
        <p:nvSpPr>
          <p:cNvPr id="261" name="object 17"/>
          <p:cNvSpPr/>
          <p:nvPr/>
        </p:nvSpPr>
        <p:spPr>
          <a:xfrm>
            <a:off x="13222440" y="9024840"/>
            <a:ext cx="166500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AIRPORT</a:t>
            </a:r>
            <a:endParaRPr b="0" lang="en-US" sz="3000" spc="-1" strike="noStrike">
              <a:solidFill>
                <a:srgbClr val="000000"/>
              </a:solidFill>
              <a:latin typeface="Calibri"/>
            </a:endParaRPr>
          </a:p>
        </p:txBody>
      </p:sp>
      <p:sp>
        <p:nvSpPr>
          <p:cNvPr id="262" name="object 18"/>
          <p:cNvSpPr/>
          <p:nvPr/>
        </p:nvSpPr>
        <p:spPr>
          <a:xfrm>
            <a:off x="15130440" y="9024840"/>
            <a:ext cx="21416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50606"/>
                </a:solidFill>
                <a:latin typeface="Arial"/>
              </a:rPr>
              <a:t>TRANSFERS</a:t>
            </a:r>
            <a:endParaRPr b="0" lang="en-US" sz="3000" spc="-1" strike="noStrike">
              <a:solidFill>
                <a:srgbClr val="000000"/>
              </a:solidFill>
              <a:latin typeface="Calibri"/>
            </a:endParaRPr>
          </a:p>
        </p:txBody>
      </p:sp>
      <p:sp>
        <p:nvSpPr>
          <p:cNvPr id="263" name="object 19"/>
          <p:cNvSpPr/>
          <p:nvPr/>
        </p:nvSpPr>
        <p:spPr>
          <a:xfrm>
            <a:off x="1066680" y="4614840"/>
            <a:ext cx="671760" cy="5079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bject 20"/>
          <p:cNvSpPr/>
          <p:nvPr/>
        </p:nvSpPr>
        <p:spPr>
          <a:xfrm>
            <a:off x="1968480" y="4614840"/>
            <a:ext cx="676440" cy="53352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object 21"/>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6" name="object 22"/>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7" name="object 23"/>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68" name="object 24"/>
          <p:cNvSpPr/>
          <p:nvPr/>
        </p:nvSpPr>
        <p:spPr>
          <a:xfrm>
            <a:off x="2836800" y="0"/>
            <a:ext cx="2419560" cy="173988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bject 25"/>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0" name="object 26"/>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2"/>
          <p:cNvSpPr/>
          <p:nvPr/>
        </p:nvSpPr>
        <p:spPr>
          <a:xfrm>
            <a:off x="8099280" y="567684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 avoid ear pain during the take-off, purchase some boiled sweets or mints at the airport and eat some of them during take-off.</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object 2"/>
          <p:cNvSpPr/>
          <p:nvPr/>
        </p:nvSpPr>
        <p:spPr>
          <a:xfrm>
            <a:off x="1709640" y="1982880"/>
            <a:ext cx="476748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7. ARRIVING AT</a:t>
            </a:r>
            <a:r>
              <a:rPr b="1" lang="en-US" sz="7000" spc="-1" strike="noStrike">
                <a:solidFill>
                  <a:srgbClr val="050606"/>
                </a:solidFill>
                <a:latin typeface="Arial"/>
              </a:rPr>
              <a:t>	</a:t>
            </a:r>
            <a:r>
              <a:rPr b="1" lang="en-US" sz="7000" spc="-1" strike="noStrike">
                <a:solidFill>
                  <a:srgbClr val="050606"/>
                </a:solidFill>
                <a:latin typeface="Arial"/>
              </a:rPr>
              <a:t>THE AIRPORT</a:t>
            </a:r>
            <a:endParaRPr b="0" lang="en-US" sz="7000" spc="-1" strike="noStrike">
              <a:solidFill>
                <a:srgbClr val="000000"/>
              </a:solidFill>
              <a:latin typeface="Calibri"/>
            </a:endParaRPr>
          </a:p>
          <a:p>
            <a:pPr marL="12600">
              <a:lnSpc>
                <a:spcPct val="100000"/>
              </a:lnSpc>
              <a:spcBef>
                <a:spcPts val="4238"/>
              </a:spcBef>
              <a:tabLst>
                <a:tab algn="l" pos="0"/>
                <a:tab algn="l" pos="152892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273" name="object 24"/>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bject 25"/>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object 26"/>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bject 27"/>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bject 28"/>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8" name="object 29"/>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9" name="object 30"/>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0" name="object 31"/>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bject 32"/>
          <p:cNvSpPr/>
          <p:nvPr/>
        </p:nvSpPr>
        <p:spPr>
          <a:xfrm>
            <a:off x="0" y="10012320"/>
            <a:ext cx="3765600" cy="27468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Rectangle 4"/>
          <p:cNvSpPr/>
          <p:nvPr/>
        </p:nvSpPr>
        <p:spPr>
          <a:xfrm>
            <a:off x="9171000" y="2389320"/>
            <a:ext cx="914400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You’ll have to represent your passport to the officials again at the custom departmen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After that, follow the board signs to collect your luggag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f you’re boarding another connected flight, then you don’t have to through the custom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	</a:t>
            </a:r>
            <a:r>
              <a:rPr b="0" lang="en-US" sz="3200" spc="-1" strike="noStrike">
                <a:solidFill>
                  <a:srgbClr val="000000"/>
                </a:solidFill>
                <a:latin typeface="Calibri"/>
              </a:rPr>
              <a:t>If you’re waiting for your cab or someone else to pick you up, then you can rest at the airport lou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17720" y="1292400"/>
            <a:ext cx="16252560" cy="1953000"/>
          </a:xfrm>
          <a:prstGeom prst="rect">
            <a:avLst/>
          </a:prstGeom>
          <a:noFill/>
          <a:ln w="0">
            <a:noFill/>
          </a:ln>
        </p:spPr>
        <p:txBody>
          <a:bodyPr lIns="0" rIns="0" tIns="0" bIns="0" anchor="t">
            <a:noAutofit/>
          </a:bodyPr>
          <a:p>
            <a:pPr marL="9255240" indent="0" algn="ctr">
              <a:lnSpc>
                <a:spcPts val="7688"/>
              </a:lnSpc>
              <a:buNone/>
              <a:tabLst>
                <a:tab algn="l" pos="0"/>
                <a:tab algn="l" pos="11122200"/>
                <a:tab algn="l" pos="12522240"/>
                <a:tab algn="l" pos="15322680"/>
              </a:tabLst>
            </a:pPr>
            <a:r>
              <a:rPr b="1" lang="en-IN" sz="6500" spc="-1" strike="noStrike">
                <a:solidFill>
                  <a:srgbClr val="050606"/>
                </a:solidFill>
                <a:latin typeface="Calibri"/>
                <a:ea typeface="Arial"/>
              </a:rPr>
              <a:t>H O W   T O   R E A C H  U S</a:t>
            </a:r>
            <a:endParaRPr b="0" lang="en-US" sz="6500" spc="-1" strike="noStrike">
              <a:solidFill>
                <a:srgbClr val="1f497d"/>
              </a:solidFill>
              <a:latin typeface="Calibri"/>
            </a:endParaRPr>
          </a:p>
        </p:txBody>
      </p:sp>
      <p:sp>
        <p:nvSpPr>
          <p:cNvPr id="284" name="object 3"/>
          <p:cNvSpPr/>
          <p:nvPr/>
        </p:nvSpPr>
        <p:spPr>
          <a:xfrm>
            <a:off x="13461840" y="2573280"/>
            <a:ext cx="3810240" cy="2636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9350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50606"/>
                </a:solidFill>
                <a:latin typeface="Arial"/>
              </a:rPr>
              <a:t>CO</a:t>
            </a:r>
            <a:r>
              <a:rPr b="1" lang="en-IN" sz="3200" spc="-1" strike="noStrike">
                <a:solidFill>
                  <a:srgbClr val="050606"/>
                </a:solidFill>
                <a:latin typeface="Arial"/>
              </a:rPr>
              <a:t> </a:t>
            </a:r>
            <a:r>
              <a:rPr b="1" lang="de-DE" sz="3200" spc="-1" strike="noStrike">
                <a:solidFill>
                  <a:srgbClr val="050606"/>
                </a:solidFill>
                <a:latin typeface="Arial"/>
              </a:rPr>
              <a:t>NTACT</a:t>
            </a:r>
            <a:r>
              <a:rPr b="1" lang="de-DE" sz="3200" spc="-1" strike="noStrike">
                <a:solidFill>
                  <a:srgbClr val="050606"/>
                </a:solidFill>
                <a:latin typeface="Arial"/>
              </a:rPr>
              <a:t>	</a:t>
            </a:r>
            <a:r>
              <a:rPr b="1" lang="en-IN" sz="3200" spc="-1" strike="noStrike">
                <a:solidFill>
                  <a:srgbClr val="050606"/>
                </a:solidFill>
                <a:latin typeface="Arial"/>
              </a:rPr>
              <a:t>D E T A  I L S</a:t>
            </a:r>
            <a:endParaRPr b="0" lang="en-US" sz="3200" spc="-1" strike="noStrike">
              <a:solidFill>
                <a:srgbClr val="000000"/>
              </a:solidFill>
              <a:latin typeface="Calibri"/>
            </a:endParaRPr>
          </a:p>
          <a:p>
            <a:pPr>
              <a:lnSpc>
                <a:spcPct val="100000"/>
              </a:lnSpc>
              <a:tabLst>
                <a:tab algn="l" pos="0"/>
                <a:tab algn="l" pos="19350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2049"/>
              </a:spcBef>
              <a:tabLst>
                <a:tab algn="l" pos="0"/>
                <a:tab algn="l" pos="19350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d9b83d"/>
                </a:solidFill>
                <a:latin typeface="Arial"/>
              </a:rPr>
              <a:t>OUR</a:t>
            </a:r>
            <a:r>
              <a:rPr b="0" lang="de-DE" sz="3000" spc="-1" strike="noStrike">
                <a:solidFill>
                  <a:srgbClr val="d9b83d"/>
                </a:solidFill>
                <a:latin typeface="Arial"/>
              </a:rPr>
              <a:t>	</a:t>
            </a:r>
            <a:r>
              <a:rPr b="0" lang="de-DE" sz="3000" spc="-1" strike="noStrike">
                <a:solidFill>
                  <a:srgbClr val="d9b83d"/>
                </a:solidFill>
                <a:latin typeface="Arial"/>
              </a:rPr>
              <a:t>HEADQUARTERS</a:t>
            </a:r>
            <a:endParaRPr b="0" lang="en-US" sz="3000" spc="-1" strike="noStrike">
              <a:solidFill>
                <a:srgbClr val="000000"/>
              </a:solidFill>
              <a:latin typeface="Calibri"/>
            </a:endParaRPr>
          </a:p>
        </p:txBody>
      </p:sp>
      <p:sp>
        <p:nvSpPr>
          <p:cNvPr id="285" name="object 4"/>
          <p:cNvSpPr/>
          <p:nvPr/>
        </p:nvSpPr>
        <p:spPr>
          <a:xfrm>
            <a:off x="8512200" y="4357800"/>
            <a:ext cx="20937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445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42-</a:t>
            </a:r>
            <a:r>
              <a:rPr b="0" lang="de-DE" sz="2800" spc="-1" strike="noStrike">
                <a:solidFill>
                  <a:srgbClr val="050606"/>
                </a:solidFill>
                <a:latin typeface="Arial"/>
              </a:rPr>
              <a:t>	</a:t>
            </a:r>
            <a:r>
              <a:rPr b="0" lang="de-DE" sz="2800" spc="-1" strike="noStrike">
                <a:solidFill>
                  <a:srgbClr val="050606"/>
                </a:solidFill>
                <a:latin typeface="Arial"/>
              </a:rPr>
              <a:t>Seaton</a:t>
            </a:r>
            <a:endParaRPr b="0" lang="en-US" sz="2800" spc="-1" strike="noStrike">
              <a:solidFill>
                <a:srgbClr val="000000"/>
              </a:solidFill>
              <a:latin typeface="Calibri"/>
            </a:endParaRPr>
          </a:p>
        </p:txBody>
      </p:sp>
      <p:sp>
        <p:nvSpPr>
          <p:cNvPr id="286" name="object 5"/>
          <p:cNvSpPr/>
          <p:nvPr/>
        </p:nvSpPr>
        <p:spPr>
          <a:xfrm>
            <a:off x="10802880" y="4357800"/>
            <a:ext cx="10526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Road,</a:t>
            </a:r>
            <a:endParaRPr b="0" lang="en-US" sz="2800" spc="-1" strike="noStrike">
              <a:solidFill>
                <a:srgbClr val="000000"/>
              </a:solidFill>
              <a:latin typeface="Calibri"/>
            </a:endParaRPr>
          </a:p>
        </p:txBody>
      </p:sp>
      <p:sp>
        <p:nvSpPr>
          <p:cNvPr id="287" name="object 6"/>
          <p:cNvSpPr/>
          <p:nvPr/>
        </p:nvSpPr>
        <p:spPr>
          <a:xfrm>
            <a:off x="12052440" y="4357800"/>
            <a:ext cx="12603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Hayes,</a:t>
            </a:r>
            <a:endParaRPr b="0" lang="en-US" sz="2800" spc="-1" strike="noStrike">
              <a:solidFill>
                <a:srgbClr val="000000"/>
              </a:solidFill>
              <a:latin typeface="Calibri"/>
            </a:endParaRPr>
          </a:p>
        </p:txBody>
      </p:sp>
      <p:sp>
        <p:nvSpPr>
          <p:cNvPr id="288" name="object 7"/>
          <p:cNvSpPr/>
          <p:nvPr/>
        </p:nvSpPr>
        <p:spPr>
          <a:xfrm>
            <a:off x="13509720" y="4357800"/>
            <a:ext cx="3760560" cy="8535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301840"/>
                <a:tab algn="l" pos="3135240"/>
                <a:tab algn="l" pos="3657600"/>
                <a:tab algn="l" pos="4572000"/>
                <a:tab algn="l" pos="5486400"/>
                <a:tab algn="l" pos="6400800"/>
                <a:tab algn="l" pos="7315200"/>
                <a:tab algn="l" pos="8229600"/>
                <a:tab algn="l" pos="9144000"/>
                <a:tab algn="l" pos="10058400"/>
              </a:tabLst>
            </a:pPr>
            <a:r>
              <a:rPr b="0" lang="de-DE" sz="2800" spc="-1" strike="noStrike">
                <a:solidFill>
                  <a:srgbClr val="050606"/>
                </a:solidFill>
                <a:latin typeface="Arial"/>
              </a:rPr>
              <a:t>Middlesex.</a:t>
            </a:r>
            <a:r>
              <a:rPr b="0" lang="de-DE" sz="2800" spc="-1" strike="noStrike">
                <a:solidFill>
                  <a:srgbClr val="050606"/>
                </a:solidFill>
                <a:latin typeface="Arial"/>
              </a:rPr>
              <a:t>	</a:t>
            </a:r>
            <a:r>
              <a:rPr b="0" lang="de-DE" sz="2800" spc="-1" strike="noStrike">
                <a:solidFill>
                  <a:srgbClr val="050606"/>
                </a:solidFill>
                <a:latin typeface="Arial"/>
              </a:rPr>
              <a:t>UB3</a:t>
            </a:r>
            <a:r>
              <a:rPr b="0" lang="de-DE" sz="2800" spc="-1" strike="noStrike">
                <a:solidFill>
                  <a:srgbClr val="050606"/>
                </a:solidFill>
                <a:latin typeface="Arial"/>
              </a:rPr>
              <a:t>	</a:t>
            </a:r>
            <a:r>
              <a:rPr b="0" lang="de-DE" sz="2800" spc="-1" strike="noStrike">
                <a:solidFill>
                  <a:srgbClr val="050606"/>
                </a:solidFill>
                <a:latin typeface="Arial"/>
              </a:rPr>
              <a:t>1NT</a:t>
            </a:r>
            <a:endParaRPr b="0" lang="en-US" sz="2800" spc="-1" strike="noStrike">
              <a:solidFill>
                <a:srgbClr val="000000"/>
              </a:solidFill>
              <a:latin typeface="Calibri"/>
            </a:endParaRPr>
          </a:p>
        </p:txBody>
      </p:sp>
      <p:sp>
        <p:nvSpPr>
          <p:cNvPr id="289" name="object 8"/>
          <p:cNvSpPr/>
          <p:nvPr/>
        </p:nvSpPr>
        <p:spPr>
          <a:xfrm>
            <a:off x="0" y="0"/>
            <a:ext cx="3765600" cy="8745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object 9"/>
          <p:cNvSpPr/>
          <p:nvPr/>
        </p:nvSpPr>
        <p:spPr>
          <a:xfrm>
            <a:off x="1028880" y="1835280"/>
            <a:ext cx="5476680" cy="84517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object 10"/>
          <p:cNvSpPr/>
          <p:nvPr/>
        </p:nvSpPr>
        <p:spPr>
          <a:xfrm>
            <a:off x="311040" y="9147240"/>
            <a:ext cx="1676520" cy="11397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object 11"/>
          <p:cNvSpPr/>
          <p:nvPr/>
        </p:nvSpPr>
        <p:spPr>
          <a:xfrm>
            <a:off x="4240080" y="1428840"/>
            <a:ext cx="2248200" cy="811080"/>
          </a:xfrm>
          <a:custGeom>
            <a:avLst/>
            <a:gdLst/>
            <a:ahLst/>
            <a:rect l="l" t="t" r="r" b="b"/>
            <a:pathLst>
              <a:path w="2247900" h="810894">
                <a:moveTo>
                  <a:pt x="326658" y="121919"/>
                </a:moveTo>
                <a:lnTo>
                  <a:pt x="292588" y="121919"/>
                </a:lnTo>
                <a:lnTo>
                  <a:pt x="280834" y="128015"/>
                </a:lnTo>
                <a:lnTo>
                  <a:pt x="268669" y="134111"/>
                </a:lnTo>
                <a:lnTo>
                  <a:pt x="255963" y="143255"/>
                </a:lnTo>
                <a:lnTo>
                  <a:pt x="245728" y="149351"/>
                </a:lnTo>
                <a:lnTo>
                  <a:pt x="235919" y="158495"/>
                </a:lnTo>
                <a:lnTo>
                  <a:pt x="208828" y="185927"/>
                </a:lnTo>
                <a:lnTo>
                  <a:pt x="192494" y="207263"/>
                </a:lnTo>
                <a:lnTo>
                  <a:pt x="184778" y="216407"/>
                </a:lnTo>
                <a:lnTo>
                  <a:pt x="177335" y="225551"/>
                </a:lnTo>
                <a:lnTo>
                  <a:pt x="170141" y="237743"/>
                </a:lnTo>
                <a:lnTo>
                  <a:pt x="163175" y="246887"/>
                </a:lnTo>
                <a:lnTo>
                  <a:pt x="156414" y="259079"/>
                </a:lnTo>
                <a:lnTo>
                  <a:pt x="149837" y="268223"/>
                </a:lnTo>
                <a:lnTo>
                  <a:pt x="143422" y="280415"/>
                </a:lnTo>
                <a:lnTo>
                  <a:pt x="137146" y="292607"/>
                </a:lnTo>
                <a:lnTo>
                  <a:pt x="130987" y="301751"/>
                </a:lnTo>
                <a:lnTo>
                  <a:pt x="124924" y="313943"/>
                </a:lnTo>
                <a:lnTo>
                  <a:pt x="118934" y="326135"/>
                </a:lnTo>
                <a:lnTo>
                  <a:pt x="108390" y="344423"/>
                </a:lnTo>
                <a:lnTo>
                  <a:pt x="98486" y="365759"/>
                </a:lnTo>
                <a:lnTo>
                  <a:pt x="80493" y="408431"/>
                </a:lnTo>
                <a:lnTo>
                  <a:pt x="64748" y="451103"/>
                </a:lnTo>
                <a:lnTo>
                  <a:pt x="51042" y="496823"/>
                </a:lnTo>
                <a:lnTo>
                  <a:pt x="44889" y="518159"/>
                </a:lnTo>
                <a:lnTo>
                  <a:pt x="39168" y="539495"/>
                </a:lnTo>
                <a:lnTo>
                  <a:pt x="33852" y="563879"/>
                </a:lnTo>
                <a:lnTo>
                  <a:pt x="28917" y="585215"/>
                </a:lnTo>
                <a:lnTo>
                  <a:pt x="24336" y="609599"/>
                </a:lnTo>
                <a:lnTo>
                  <a:pt x="20083" y="630935"/>
                </a:lnTo>
                <a:lnTo>
                  <a:pt x="16132" y="655319"/>
                </a:lnTo>
                <a:lnTo>
                  <a:pt x="12457" y="676655"/>
                </a:lnTo>
                <a:lnTo>
                  <a:pt x="9032" y="701039"/>
                </a:lnTo>
                <a:lnTo>
                  <a:pt x="5832" y="725423"/>
                </a:lnTo>
                <a:lnTo>
                  <a:pt x="2830" y="746759"/>
                </a:lnTo>
                <a:lnTo>
                  <a:pt x="0" y="771143"/>
                </a:lnTo>
                <a:lnTo>
                  <a:pt x="536" y="786383"/>
                </a:lnTo>
                <a:lnTo>
                  <a:pt x="4124" y="795527"/>
                </a:lnTo>
                <a:lnTo>
                  <a:pt x="10933" y="804671"/>
                </a:lnTo>
                <a:lnTo>
                  <a:pt x="21133" y="810767"/>
                </a:lnTo>
                <a:lnTo>
                  <a:pt x="52384" y="810767"/>
                </a:lnTo>
                <a:lnTo>
                  <a:pt x="55719" y="798575"/>
                </a:lnTo>
                <a:lnTo>
                  <a:pt x="59008" y="786383"/>
                </a:lnTo>
                <a:lnTo>
                  <a:pt x="65543" y="761999"/>
                </a:lnTo>
                <a:lnTo>
                  <a:pt x="68838" y="749807"/>
                </a:lnTo>
                <a:lnTo>
                  <a:pt x="82754" y="701039"/>
                </a:lnTo>
                <a:lnTo>
                  <a:pt x="86538" y="688847"/>
                </a:lnTo>
                <a:lnTo>
                  <a:pt x="90063" y="676655"/>
                </a:lnTo>
                <a:lnTo>
                  <a:pt x="93566" y="664463"/>
                </a:lnTo>
                <a:lnTo>
                  <a:pt x="100579" y="643127"/>
                </a:lnTo>
                <a:lnTo>
                  <a:pt x="104125" y="630935"/>
                </a:lnTo>
                <a:lnTo>
                  <a:pt x="115136" y="594359"/>
                </a:lnTo>
                <a:lnTo>
                  <a:pt x="127082" y="557783"/>
                </a:lnTo>
                <a:lnTo>
                  <a:pt x="140448" y="521207"/>
                </a:lnTo>
                <a:lnTo>
                  <a:pt x="145302" y="509015"/>
                </a:lnTo>
                <a:lnTo>
                  <a:pt x="150133" y="496823"/>
                </a:lnTo>
                <a:lnTo>
                  <a:pt x="155171" y="487679"/>
                </a:lnTo>
                <a:lnTo>
                  <a:pt x="160407" y="475487"/>
                </a:lnTo>
                <a:lnTo>
                  <a:pt x="165832" y="466343"/>
                </a:lnTo>
                <a:lnTo>
                  <a:pt x="171439" y="454151"/>
                </a:lnTo>
                <a:lnTo>
                  <a:pt x="177219" y="445007"/>
                </a:lnTo>
                <a:lnTo>
                  <a:pt x="183163" y="432815"/>
                </a:lnTo>
                <a:lnTo>
                  <a:pt x="189262" y="420623"/>
                </a:lnTo>
                <a:lnTo>
                  <a:pt x="195509" y="411479"/>
                </a:lnTo>
                <a:lnTo>
                  <a:pt x="201894" y="399287"/>
                </a:lnTo>
                <a:lnTo>
                  <a:pt x="221795" y="362711"/>
                </a:lnTo>
                <a:lnTo>
                  <a:pt x="235299" y="341375"/>
                </a:lnTo>
                <a:lnTo>
                  <a:pt x="242256" y="329183"/>
                </a:lnTo>
                <a:lnTo>
                  <a:pt x="249538" y="320039"/>
                </a:lnTo>
                <a:lnTo>
                  <a:pt x="257159" y="307847"/>
                </a:lnTo>
                <a:lnTo>
                  <a:pt x="265135" y="298703"/>
                </a:lnTo>
                <a:lnTo>
                  <a:pt x="273482" y="289559"/>
                </a:lnTo>
                <a:lnTo>
                  <a:pt x="282215" y="280415"/>
                </a:lnTo>
                <a:lnTo>
                  <a:pt x="291350" y="271271"/>
                </a:lnTo>
                <a:lnTo>
                  <a:pt x="300902" y="265175"/>
                </a:lnTo>
                <a:lnTo>
                  <a:pt x="310888" y="256031"/>
                </a:lnTo>
                <a:lnTo>
                  <a:pt x="321322" y="246887"/>
                </a:lnTo>
                <a:lnTo>
                  <a:pt x="332220" y="240791"/>
                </a:lnTo>
                <a:lnTo>
                  <a:pt x="343599" y="231647"/>
                </a:lnTo>
                <a:lnTo>
                  <a:pt x="355473" y="225551"/>
                </a:lnTo>
                <a:lnTo>
                  <a:pt x="451704" y="225551"/>
                </a:lnTo>
                <a:lnTo>
                  <a:pt x="447467" y="219455"/>
                </a:lnTo>
                <a:lnTo>
                  <a:pt x="440641" y="207263"/>
                </a:lnTo>
                <a:lnTo>
                  <a:pt x="433306" y="198119"/>
                </a:lnTo>
                <a:lnTo>
                  <a:pt x="425425" y="188975"/>
                </a:lnTo>
                <a:lnTo>
                  <a:pt x="416958" y="176783"/>
                </a:lnTo>
                <a:lnTo>
                  <a:pt x="407867" y="170687"/>
                </a:lnTo>
                <a:lnTo>
                  <a:pt x="398113" y="161543"/>
                </a:lnTo>
                <a:lnTo>
                  <a:pt x="387657" y="152399"/>
                </a:lnTo>
                <a:lnTo>
                  <a:pt x="376461" y="146303"/>
                </a:lnTo>
                <a:lnTo>
                  <a:pt x="364486" y="137159"/>
                </a:lnTo>
                <a:lnTo>
                  <a:pt x="351694" y="131063"/>
                </a:lnTo>
                <a:lnTo>
                  <a:pt x="338045" y="124967"/>
                </a:lnTo>
                <a:lnTo>
                  <a:pt x="326658" y="121919"/>
                </a:lnTo>
                <a:close/>
              </a:path>
              <a:path w="2247900" h="810894">
                <a:moveTo>
                  <a:pt x="2162600" y="112775"/>
                </a:moveTo>
                <a:lnTo>
                  <a:pt x="2077545" y="112775"/>
                </a:lnTo>
                <a:lnTo>
                  <a:pt x="2084904" y="115823"/>
                </a:lnTo>
                <a:lnTo>
                  <a:pt x="2090724" y="124967"/>
                </a:lnTo>
                <a:lnTo>
                  <a:pt x="2095212" y="134111"/>
                </a:lnTo>
                <a:lnTo>
                  <a:pt x="2098574" y="146303"/>
                </a:lnTo>
                <a:lnTo>
                  <a:pt x="2101018" y="164591"/>
                </a:lnTo>
                <a:lnTo>
                  <a:pt x="2101018" y="173735"/>
                </a:lnTo>
                <a:lnTo>
                  <a:pt x="2102934" y="192023"/>
                </a:lnTo>
                <a:lnTo>
                  <a:pt x="2104715" y="213359"/>
                </a:lnTo>
                <a:lnTo>
                  <a:pt x="2106403" y="231647"/>
                </a:lnTo>
                <a:lnTo>
                  <a:pt x="2108040" y="252983"/>
                </a:lnTo>
                <a:lnTo>
                  <a:pt x="2109670" y="271271"/>
                </a:lnTo>
                <a:lnTo>
                  <a:pt x="2111334" y="292607"/>
                </a:lnTo>
                <a:lnTo>
                  <a:pt x="2113075" y="310895"/>
                </a:lnTo>
                <a:lnTo>
                  <a:pt x="2114936" y="329183"/>
                </a:lnTo>
                <a:lnTo>
                  <a:pt x="2116959" y="350519"/>
                </a:lnTo>
                <a:lnTo>
                  <a:pt x="2119186" y="368807"/>
                </a:lnTo>
                <a:lnTo>
                  <a:pt x="2121661" y="390143"/>
                </a:lnTo>
                <a:lnTo>
                  <a:pt x="2124425" y="408431"/>
                </a:lnTo>
                <a:lnTo>
                  <a:pt x="2127521" y="429767"/>
                </a:lnTo>
                <a:lnTo>
                  <a:pt x="2130992" y="448055"/>
                </a:lnTo>
                <a:lnTo>
                  <a:pt x="2134879" y="466343"/>
                </a:lnTo>
                <a:lnTo>
                  <a:pt x="2139226" y="487679"/>
                </a:lnTo>
                <a:lnTo>
                  <a:pt x="2144075" y="505967"/>
                </a:lnTo>
                <a:lnTo>
                  <a:pt x="2149469" y="527303"/>
                </a:lnTo>
                <a:lnTo>
                  <a:pt x="2155449" y="545591"/>
                </a:lnTo>
                <a:lnTo>
                  <a:pt x="2162059" y="566927"/>
                </a:lnTo>
                <a:lnTo>
                  <a:pt x="2165979" y="576071"/>
                </a:lnTo>
                <a:lnTo>
                  <a:pt x="2169919" y="588263"/>
                </a:lnTo>
                <a:lnTo>
                  <a:pt x="2173894" y="600455"/>
                </a:lnTo>
                <a:lnTo>
                  <a:pt x="2177917" y="612647"/>
                </a:lnTo>
                <a:lnTo>
                  <a:pt x="2182002" y="621791"/>
                </a:lnTo>
                <a:lnTo>
                  <a:pt x="2186163" y="633983"/>
                </a:lnTo>
                <a:lnTo>
                  <a:pt x="2199242" y="670559"/>
                </a:lnTo>
                <a:lnTo>
                  <a:pt x="2208597" y="694943"/>
                </a:lnTo>
                <a:lnTo>
                  <a:pt x="2213506" y="710183"/>
                </a:lnTo>
                <a:lnTo>
                  <a:pt x="2224170" y="697991"/>
                </a:lnTo>
                <a:lnTo>
                  <a:pt x="2232762" y="685799"/>
                </a:lnTo>
                <a:lnTo>
                  <a:pt x="2239347" y="676655"/>
                </a:lnTo>
                <a:lnTo>
                  <a:pt x="2243992" y="664463"/>
                </a:lnTo>
                <a:lnTo>
                  <a:pt x="2246762" y="655319"/>
                </a:lnTo>
                <a:lnTo>
                  <a:pt x="2247724" y="643127"/>
                </a:lnTo>
                <a:lnTo>
                  <a:pt x="2246944" y="630935"/>
                </a:lnTo>
                <a:lnTo>
                  <a:pt x="2239581" y="603503"/>
                </a:lnTo>
                <a:lnTo>
                  <a:pt x="2235053" y="588263"/>
                </a:lnTo>
                <a:lnTo>
                  <a:pt x="2230880" y="569975"/>
                </a:lnTo>
                <a:lnTo>
                  <a:pt x="2227042" y="554735"/>
                </a:lnTo>
                <a:lnTo>
                  <a:pt x="2223516" y="536447"/>
                </a:lnTo>
                <a:lnTo>
                  <a:pt x="2220281" y="518159"/>
                </a:lnTo>
                <a:lnTo>
                  <a:pt x="2217314" y="502919"/>
                </a:lnTo>
                <a:lnTo>
                  <a:pt x="2214595" y="484631"/>
                </a:lnTo>
                <a:lnTo>
                  <a:pt x="2212101" y="466343"/>
                </a:lnTo>
                <a:lnTo>
                  <a:pt x="2209810" y="451103"/>
                </a:lnTo>
                <a:lnTo>
                  <a:pt x="2203940" y="396239"/>
                </a:lnTo>
                <a:lnTo>
                  <a:pt x="2199115" y="341375"/>
                </a:lnTo>
                <a:lnTo>
                  <a:pt x="2193292" y="268223"/>
                </a:lnTo>
                <a:lnTo>
                  <a:pt x="2192065" y="256031"/>
                </a:lnTo>
                <a:lnTo>
                  <a:pt x="2190654" y="243839"/>
                </a:lnTo>
                <a:lnTo>
                  <a:pt x="2189053" y="231647"/>
                </a:lnTo>
                <a:lnTo>
                  <a:pt x="2187251" y="219455"/>
                </a:lnTo>
                <a:lnTo>
                  <a:pt x="2185240" y="207263"/>
                </a:lnTo>
                <a:lnTo>
                  <a:pt x="2183012" y="192023"/>
                </a:lnTo>
                <a:lnTo>
                  <a:pt x="2171753" y="143255"/>
                </a:lnTo>
                <a:lnTo>
                  <a:pt x="2164595" y="118871"/>
                </a:lnTo>
                <a:lnTo>
                  <a:pt x="2162600" y="112775"/>
                </a:lnTo>
                <a:close/>
              </a:path>
              <a:path w="2247900" h="810894">
                <a:moveTo>
                  <a:pt x="451704" y="225551"/>
                </a:moveTo>
                <a:lnTo>
                  <a:pt x="355473" y="225551"/>
                </a:lnTo>
                <a:lnTo>
                  <a:pt x="365672" y="249935"/>
                </a:lnTo>
                <a:lnTo>
                  <a:pt x="370700" y="262127"/>
                </a:lnTo>
                <a:lnTo>
                  <a:pt x="388829" y="307847"/>
                </a:lnTo>
                <a:lnTo>
                  <a:pt x="401794" y="356615"/>
                </a:lnTo>
                <a:lnTo>
                  <a:pt x="404848" y="365759"/>
                </a:lnTo>
                <a:lnTo>
                  <a:pt x="417026" y="414527"/>
                </a:lnTo>
                <a:lnTo>
                  <a:pt x="432462" y="475487"/>
                </a:lnTo>
                <a:lnTo>
                  <a:pt x="448603" y="542543"/>
                </a:lnTo>
                <a:lnTo>
                  <a:pt x="463320" y="579119"/>
                </a:lnTo>
                <a:lnTo>
                  <a:pt x="483975" y="612647"/>
                </a:lnTo>
                <a:lnTo>
                  <a:pt x="511708" y="640079"/>
                </a:lnTo>
                <a:lnTo>
                  <a:pt x="547662" y="658367"/>
                </a:lnTo>
                <a:lnTo>
                  <a:pt x="592978" y="667511"/>
                </a:lnTo>
                <a:lnTo>
                  <a:pt x="603555" y="664463"/>
                </a:lnTo>
                <a:lnTo>
                  <a:pt x="615254" y="664463"/>
                </a:lnTo>
                <a:lnTo>
                  <a:pt x="628257" y="658367"/>
                </a:lnTo>
                <a:lnTo>
                  <a:pt x="642745" y="649223"/>
                </a:lnTo>
                <a:lnTo>
                  <a:pt x="652637" y="643127"/>
                </a:lnTo>
                <a:lnTo>
                  <a:pt x="685425" y="606551"/>
                </a:lnTo>
                <a:lnTo>
                  <a:pt x="692238" y="594359"/>
                </a:lnTo>
                <a:lnTo>
                  <a:pt x="698622" y="585215"/>
                </a:lnTo>
                <a:lnTo>
                  <a:pt x="704639" y="573023"/>
                </a:lnTo>
                <a:lnTo>
                  <a:pt x="707495" y="566927"/>
                </a:lnTo>
                <a:lnTo>
                  <a:pt x="563006" y="566927"/>
                </a:lnTo>
                <a:lnTo>
                  <a:pt x="555798" y="554735"/>
                </a:lnTo>
                <a:lnTo>
                  <a:pt x="541348" y="509015"/>
                </a:lnTo>
                <a:lnTo>
                  <a:pt x="538248" y="496823"/>
                </a:lnTo>
                <a:lnTo>
                  <a:pt x="535122" y="487679"/>
                </a:lnTo>
                <a:lnTo>
                  <a:pt x="531927" y="472439"/>
                </a:lnTo>
                <a:lnTo>
                  <a:pt x="528621" y="460247"/>
                </a:lnTo>
                <a:lnTo>
                  <a:pt x="525161" y="448055"/>
                </a:lnTo>
                <a:lnTo>
                  <a:pt x="521504" y="435863"/>
                </a:lnTo>
                <a:lnTo>
                  <a:pt x="517608" y="420623"/>
                </a:lnTo>
                <a:lnTo>
                  <a:pt x="514503" y="411479"/>
                </a:lnTo>
                <a:lnTo>
                  <a:pt x="511467" y="399287"/>
                </a:lnTo>
                <a:lnTo>
                  <a:pt x="505437" y="374903"/>
                </a:lnTo>
                <a:lnTo>
                  <a:pt x="502357" y="362711"/>
                </a:lnTo>
                <a:lnTo>
                  <a:pt x="488593" y="313943"/>
                </a:lnTo>
                <a:lnTo>
                  <a:pt x="475554" y="277367"/>
                </a:lnTo>
                <a:lnTo>
                  <a:pt x="470462" y="262127"/>
                </a:lnTo>
                <a:lnTo>
                  <a:pt x="465282" y="252983"/>
                </a:lnTo>
                <a:lnTo>
                  <a:pt x="459749" y="240791"/>
                </a:lnTo>
                <a:lnTo>
                  <a:pt x="453823" y="228599"/>
                </a:lnTo>
                <a:lnTo>
                  <a:pt x="451704" y="225551"/>
                </a:lnTo>
                <a:close/>
              </a:path>
              <a:path w="2247900" h="810894">
                <a:moveTo>
                  <a:pt x="1022762" y="228599"/>
                </a:moveTo>
                <a:lnTo>
                  <a:pt x="935432" y="228599"/>
                </a:lnTo>
                <a:lnTo>
                  <a:pt x="938412" y="237743"/>
                </a:lnTo>
                <a:lnTo>
                  <a:pt x="944377" y="262127"/>
                </a:lnTo>
                <a:lnTo>
                  <a:pt x="947412" y="274319"/>
                </a:lnTo>
                <a:lnTo>
                  <a:pt x="950499" y="283463"/>
                </a:lnTo>
                <a:lnTo>
                  <a:pt x="953651" y="298703"/>
                </a:lnTo>
                <a:lnTo>
                  <a:pt x="956882" y="310895"/>
                </a:lnTo>
                <a:lnTo>
                  <a:pt x="960204" y="323087"/>
                </a:lnTo>
                <a:lnTo>
                  <a:pt x="963631" y="338327"/>
                </a:lnTo>
                <a:lnTo>
                  <a:pt x="966715" y="350519"/>
                </a:lnTo>
                <a:lnTo>
                  <a:pt x="982054" y="411479"/>
                </a:lnTo>
                <a:lnTo>
                  <a:pt x="985144" y="423671"/>
                </a:lnTo>
                <a:lnTo>
                  <a:pt x="997753" y="472439"/>
                </a:lnTo>
                <a:lnTo>
                  <a:pt x="1011018" y="521207"/>
                </a:lnTo>
                <a:lnTo>
                  <a:pt x="1021603" y="557783"/>
                </a:lnTo>
                <a:lnTo>
                  <a:pt x="1025281" y="573023"/>
                </a:lnTo>
                <a:lnTo>
                  <a:pt x="1029961" y="579119"/>
                </a:lnTo>
                <a:lnTo>
                  <a:pt x="1036853" y="588263"/>
                </a:lnTo>
                <a:lnTo>
                  <a:pt x="1045623" y="597407"/>
                </a:lnTo>
                <a:lnTo>
                  <a:pt x="1055935" y="606551"/>
                </a:lnTo>
                <a:lnTo>
                  <a:pt x="1067453" y="612647"/>
                </a:lnTo>
                <a:lnTo>
                  <a:pt x="1079840" y="621791"/>
                </a:lnTo>
                <a:lnTo>
                  <a:pt x="1105880" y="633983"/>
                </a:lnTo>
                <a:lnTo>
                  <a:pt x="1131369" y="640079"/>
                </a:lnTo>
                <a:lnTo>
                  <a:pt x="1153618" y="640079"/>
                </a:lnTo>
                <a:lnTo>
                  <a:pt x="1175316" y="627887"/>
                </a:lnTo>
                <a:lnTo>
                  <a:pt x="1185904" y="618743"/>
                </a:lnTo>
                <a:lnTo>
                  <a:pt x="1195978" y="609599"/>
                </a:lnTo>
                <a:lnTo>
                  <a:pt x="1203534" y="597407"/>
                </a:lnTo>
                <a:lnTo>
                  <a:pt x="1210645" y="588263"/>
                </a:lnTo>
                <a:lnTo>
                  <a:pt x="1217211" y="576071"/>
                </a:lnTo>
                <a:lnTo>
                  <a:pt x="1223134" y="566927"/>
                </a:lnTo>
                <a:lnTo>
                  <a:pt x="1228314" y="554735"/>
                </a:lnTo>
                <a:lnTo>
                  <a:pt x="1233939" y="539495"/>
                </a:lnTo>
                <a:lnTo>
                  <a:pt x="1239724" y="527303"/>
                </a:lnTo>
                <a:lnTo>
                  <a:pt x="1110629" y="527303"/>
                </a:lnTo>
                <a:lnTo>
                  <a:pt x="1092980" y="481583"/>
                </a:lnTo>
                <a:lnTo>
                  <a:pt x="1085579" y="445007"/>
                </a:lnTo>
                <a:lnTo>
                  <a:pt x="1083103" y="432815"/>
                </a:lnTo>
                <a:lnTo>
                  <a:pt x="1080578" y="420623"/>
                </a:lnTo>
                <a:lnTo>
                  <a:pt x="1077977" y="408431"/>
                </a:lnTo>
                <a:lnTo>
                  <a:pt x="1075273" y="396239"/>
                </a:lnTo>
                <a:lnTo>
                  <a:pt x="1072439" y="380999"/>
                </a:lnTo>
                <a:lnTo>
                  <a:pt x="1059270" y="332231"/>
                </a:lnTo>
                <a:lnTo>
                  <a:pt x="1048032" y="295655"/>
                </a:lnTo>
                <a:lnTo>
                  <a:pt x="1035393" y="259079"/>
                </a:lnTo>
                <a:lnTo>
                  <a:pt x="1025522" y="234695"/>
                </a:lnTo>
                <a:lnTo>
                  <a:pt x="1022762" y="228599"/>
                </a:lnTo>
                <a:close/>
              </a:path>
              <a:path w="2247900" h="810894">
                <a:moveTo>
                  <a:pt x="1561651" y="198119"/>
                </a:moveTo>
                <a:lnTo>
                  <a:pt x="1470874" y="198119"/>
                </a:lnTo>
                <a:lnTo>
                  <a:pt x="1473861" y="201167"/>
                </a:lnTo>
                <a:lnTo>
                  <a:pt x="1480020" y="210311"/>
                </a:lnTo>
                <a:lnTo>
                  <a:pt x="1482841" y="219455"/>
                </a:lnTo>
                <a:lnTo>
                  <a:pt x="1485479" y="231647"/>
                </a:lnTo>
                <a:lnTo>
                  <a:pt x="1487824" y="243839"/>
                </a:lnTo>
                <a:lnTo>
                  <a:pt x="1489767" y="262127"/>
                </a:lnTo>
                <a:lnTo>
                  <a:pt x="1491127" y="274319"/>
                </a:lnTo>
                <a:lnTo>
                  <a:pt x="1492462" y="286511"/>
                </a:lnTo>
                <a:lnTo>
                  <a:pt x="1493779" y="298703"/>
                </a:lnTo>
                <a:lnTo>
                  <a:pt x="1495082" y="310895"/>
                </a:lnTo>
                <a:lnTo>
                  <a:pt x="1498969" y="347471"/>
                </a:lnTo>
                <a:lnTo>
                  <a:pt x="1501596" y="371855"/>
                </a:lnTo>
                <a:lnTo>
                  <a:pt x="1502937" y="384047"/>
                </a:lnTo>
                <a:lnTo>
                  <a:pt x="1504304" y="399287"/>
                </a:lnTo>
                <a:lnTo>
                  <a:pt x="1505702" y="411479"/>
                </a:lnTo>
                <a:lnTo>
                  <a:pt x="1507137" y="423671"/>
                </a:lnTo>
                <a:lnTo>
                  <a:pt x="1508615" y="435863"/>
                </a:lnTo>
                <a:lnTo>
                  <a:pt x="1510140" y="451103"/>
                </a:lnTo>
                <a:lnTo>
                  <a:pt x="1512349" y="463295"/>
                </a:lnTo>
                <a:lnTo>
                  <a:pt x="1515055" y="478535"/>
                </a:lnTo>
                <a:lnTo>
                  <a:pt x="1518297" y="490727"/>
                </a:lnTo>
                <a:lnTo>
                  <a:pt x="1531647" y="527303"/>
                </a:lnTo>
                <a:lnTo>
                  <a:pt x="1543974" y="548639"/>
                </a:lnTo>
                <a:lnTo>
                  <a:pt x="1551286" y="560831"/>
                </a:lnTo>
                <a:lnTo>
                  <a:pt x="1559419" y="569975"/>
                </a:lnTo>
                <a:lnTo>
                  <a:pt x="1568412" y="579119"/>
                </a:lnTo>
                <a:lnTo>
                  <a:pt x="1578306" y="588263"/>
                </a:lnTo>
                <a:lnTo>
                  <a:pt x="1589142" y="594359"/>
                </a:lnTo>
                <a:lnTo>
                  <a:pt x="1600960" y="603503"/>
                </a:lnTo>
                <a:lnTo>
                  <a:pt x="1613801" y="609599"/>
                </a:lnTo>
                <a:lnTo>
                  <a:pt x="1627705" y="615695"/>
                </a:lnTo>
                <a:lnTo>
                  <a:pt x="1642712" y="621791"/>
                </a:lnTo>
                <a:lnTo>
                  <a:pt x="1656307" y="624839"/>
                </a:lnTo>
                <a:lnTo>
                  <a:pt x="1669220" y="621791"/>
                </a:lnTo>
                <a:lnTo>
                  <a:pt x="1704477" y="591311"/>
                </a:lnTo>
                <a:lnTo>
                  <a:pt x="1736705" y="551687"/>
                </a:lnTo>
                <a:lnTo>
                  <a:pt x="1744190" y="542543"/>
                </a:lnTo>
                <a:lnTo>
                  <a:pt x="1751399" y="530351"/>
                </a:lnTo>
                <a:lnTo>
                  <a:pt x="1754854" y="524255"/>
                </a:lnTo>
                <a:lnTo>
                  <a:pt x="1621750" y="524255"/>
                </a:lnTo>
                <a:lnTo>
                  <a:pt x="1617331" y="509015"/>
                </a:lnTo>
                <a:lnTo>
                  <a:pt x="1614374" y="505967"/>
                </a:lnTo>
                <a:lnTo>
                  <a:pt x="1614374" y="499871"/>
                </a:lnTo>
                <a:lnTo>
                  <a:pt x="1612387" y="487679"/>
                </a:lnTo>
                <a:lnTo>
                  <a:pt x="1604626" y="438911"/>
                </a:lnTo>
                <a:lnTo>
                  <a:pt x="1598952" y="399287"/>
                </a:lnTo>
                <a:lnTo>
                  <a:pt x="1595212" y="374903"/>
                </a:lnTo>
                <a:lnTo>
                  <a:pt x="1591488" y="350519"/>
                </a:lnTo>
                <a:lnTo>
                  <a:pt x="1589628" y="335279"/>
                </a:lnTo>
                <a:lnTo>
                  <a:pt x="1585902" y="310895"/>
                </a:lnTo>
                <a:lnTo>
                  <a:pt x="1576471" y="243839"/>
                </a:lnTo>
                <a:lnTo>
                  <a:pt x="1573920" y="231647"/>
                </a:lnTo>
                <a:lnTo>
                  <a:pt x="1570591" y="219455"/>
                </a:lnTo>
                <a:lnTo>
                  <a:pt x="1566497" y="207263"/>
                </a:lnTo>
                <a:lnTo>
                  <a:pt x="1561651" y="198119"/>
                </a:lnTo>
                <a:close/>
              </a:path>
              <a:path w="2247900" h="810894">
                <a:moveTo>
                  <a:pt x="904960" y="124967"/>
                </a:moveTo>
                <a:lnTo>
                  <a:pt x="894994" y="124967"/>
                </a:lnTo>
                <a:lnTo>
                  <a:pt x="884922" y="128015"/>
                </a:lnTo>
                <a:lnTo>
                  <a:pt x="874738" y="128015"/>
                </a:lnTo>
                <a:lnTo>
                  <a:pt x="864435" y="131063"/>
                </a:lnTo>
                <a:lnTo>
                  <a:pt x="854004" y="137159"/>
                </a:lnTo>
                <a:lnTo>
                  <a:pt x="832730" y="149351"/>
                </a:lnTo>
                <a:lnTo>
                  <a:pt x="821872" y="158495"/>
                </a:lnTo>
                <a:lnTo>
                  <a:pt x="810857" y="167639"/>
                </a:lnTo>
                <a:lnTo>
                  <a:pt x="799677" y="176783"/>
                </a:lnTo>
                <a:lnTo>
                  <a:pt x="790344" y="185927"/>
                </a:lnTo>
                <a:lnTo>
                  <a:pt x="781478" y="195071"/>
                </a:lnTo>
                <a:lnTo>
                  <a:pt x="774193" y="207263"/>
                </a:lnTo>
                <a:lnTo>
                  <a:pt x="758664" y="234695"/>
                </a:lnTo>
                <a:lnTo>
                  <a:pt x="743123" y="259079"/>
                </a:lnTo>
                <a:lnTo>
                  <a:pt x="735346" y="274319"/>
                </a:lnTo>
                <a:lnTo>
                  <a:pt x="719770" y="298703"/>
                </a:lnTo>
                <a:lnTo>
                  <a:pt x="711970" y="313943"/>
                </a:lnTo>
                <a:lnTo>
                  <a:pt x="704160" y="326135"/>
                </a:lnTo>
                <a:lnTo>
                  <a:pt x="696338" y="341375"/>
                </a:lnTo>
                <a:lnTo>
                  <a:pt x="688504" y="353567"/>
                </a:lnTo>
                <a:lnTo>
                  <a:pt x="680656" y="368807"/>
                </a:lnTo>
                <a:lnTo>
                  <a:pt x="672793" y="380999"/>
                </a:lnTo>
                <a:lnTo>
                  <a:pt x="664915" y="396239"/>
                </a:lnTo>
                <a:lnTo>
                  <a:pt x="657019" y="408431"/>
                </a:lnTo>
                <a:lnTo>
                  <a:pt x="649105" y="423671"/>
                </a:lnTo>
                <a:lnTo>
                  <a:pt x="641171" y="435863"/>
                </a:lnTo>
                <a:lnTo>
                  <a:pt x="625240" y="466343"/>
                </a:lnTo>
                <a:lnTo>
                  <a:pt x="617240" y="478535"/>
                </a:lnTo>
                <a:lnTo>
                  <a:pt x="604868" y="502919"/>
                </a:lnTo>
                <a:lnTo>
                  <a:pt x="598594" y="512063"/>
                </a:lnTo>
                <a:lnTo>
                  <a:pt x="592149" y="524255"/>
                </a:lnTo>
                <a:lnTo>
                  <a:pt x="585452" y="533399"/>
                </a:lnTo>
                <a:lnTo>
                  <a:pt x="578417" y="545591"/>
                </a:lnTo>
                <a:lnTo>
                  <a:pt x="570963" y="554735"/>
                </a:lnTo>
                <a:lnTo>
                  <a:pt x="563006" y="566927"/>
                </a:lnTo>
                <a:lnTo>
                  <a:pt x="707495" y="566927"/>
                </a:lnTo>
                <a:lnTo>
                  <a:pt x="710352" y="560831"/>
                </a:lnTo>
                <a:lnTo>
                  <a:pt x="715822" y="548639"/>
                </a:lnTo>
                <a:lnTo>
                  <a:pt x="721113" y="533399"/>
                </a:lnTo>
                <a:lnTo>
                  <a:pt x="725367" y="521207"/>
                </a:lnTo>
                <a:lnTo>
                  <a:pt x="729451" y="509015"/>
                </a:lnTo>
                <a:lnTo>
                  <a:pt x="733475" y="496823"/>
                </a:lnTo>
                <a:lnTo>
                  <a:pt x="737546" y="484631"/>
                </a:lnTo>
                <a:lnTo>
                  <a:pt x="741773" y="472439"/>
                </a:lnTo>
                <a:lnTo>
                  <a:pt x="746263" y="460247"/>
                </a:lnTo>
                <a:lnTo>
                  <a:pt x="751126" y="451103"/>
                </a:lnTo>
                <a:lnTo>
                  <a:pt x="756469" y="438911"/>
                </a:lnTo>
                <a:lnTo>
                  <a:pt x="762189" y="429767"/>
                </a:lnTo>
                <a:lnTo>
                  <a:pt x="768072" y="417575"/>
                </a:lnTo>
                <a:lnTo>
                  <a:pt x="774132" y="408431"/>
                </a:lnTo>
                <a:lnTo>
                  <a:pt x="780386" y="396239"/>
                </a:lnTo>
                <a:lnTo>
                  <a:pt x="786846" y="387095"/>
                </a:lnTo>
                <a:lnTo>
                  <a:pt x="793529" y="377951"/>
                </a:lnTo>
                <a:lnTo>
                  <a:pt x="800449" y="365759"/>
                </a:lnTo>
                <a:lnTo>
                  <a:pt x="807621" y="353567"/>
                </a:lnTo>
                <a:lnTo>
                  <a:pt x="815060" y="344423"/>
                </a:lnTo>
                <a:lnTo>
                  <a:pt x="822780" y="332231"/>
                </a:lnTo>
                <a:lnTo>
                  <a:pt x="830797" y="320039"/>
                </a:lnTo>
                <a:lnTo>
                  <a:pt x="837770" y="310895"/>
                </a:lnTo>
                <a:lnTo>
                  <a:pt x="844970" y="298703"/>
                </a:lnTo>
                <a:lnTo>
                  <a:pt x="877908" y="262127"/>
                </a:lnTo>
                <a:lnTo>
                  <a:pt x="909586" y="240791"/>
                </a:lnTo>
                <a:lnTo>
                  <a:pt x="921974" y="231647"/>
                </a:lnTo>
                <a:lnTo>
                  <a:pt x="935432" y="228599"/>
                </a:lnTo>
                <a:lnTo>
                  <a:pt x="1022762" y="228599"/>
                </a:lnTo>
                <a:lnTo>
                  <a:pt x="1020002" y="222503"/>
                </a:lnTo>
                <a:lnTo>
                  <a:pt x="1014026" y="213359"/>
                </a:lnTo>
                <a:lnTo>
                  <a:pt x="1007545" y="201167"/>
                </a:lnTo>
                <a:lnTo>
                  <a:pt x="991177" y="179831"/>
                </a:lnTo>
                <a:lnTo>
                  <a:pt x="962977" y="152399"/>
                </a:lnTo>
                <a:lnTo>
                  <a:pt x="934305" y="134111"/>
                </a:lnTo>
                <a:lnTo>
                  <a:pt x="904960" y="124967"/>
                </a:lnTo>
                <a:close/>
              </a:path>
              <a:path w="2247900" h="810894">
                <a:moveTo>
                  <a:pt x="1457103" y="94487"/>
                </a:moveTo>
                <a:lnTo>
                  <a:pt x="1435618" y="94487"/>
                </a:lnTo>
                <a:lnTo>
                  <a:pt x="1424492" y="97535"/>
                </a:lnTo>
                <a:lnTo>
                  <a:pt x="1413089" y="103631"/>
                </a:lnTo>
                <a:lnTo>
                  <a:pt x="1401395" y="109727"/>
                </a:lnTo>
                <a:lnTo>
                  <a:pt x="1389393" y="118871"/>
                </a:lnTo>
                <a:lnTo>
                  <a:pt x="1371821" y="137159"/>
                </a:lnTo>
                <a:lnTo>
                  <a:pt x="1362941" y="143255"/>
                </a:lnTo>
                <a:lnTo>
                  <a:pt x="1309479" y="198119"/>
                </a:lnTo>
                <a:lnTo>
                  <a:pt x="1300706" y="210311"/>
                </a:lnTo>
                <a:lnTo>
                  <a:pt x="1292021" y="219455"/>
                </a:lnTo>
                <a:lnTo>
                  <a:pt x="1283441" y="231647"/>
                </a:lnTo>
                <a:lnTo>
                  <a:pt x="1276214" y="240791"/>
                </a:lnTo>
                <a:lnTo>
                  <a:pt x="1269107" y="252983"/>
                </a:lnTo>
                <a:lnTo>
                  <a:pt x="1262110" y="262127"/>
                </a:lnTo>
                <a:lnTo>
                  <a:pt x="1255214" y="274319"/>
                </a:lnTo>
                <a:lnTo>
                  <a:pt x="1248410" y="283463"/>
                </a:lnTo>
                <a:lnTo>
                  <a:pt x="1241688" y="295655"/>
                </a:lnTo>
                <a:lnTo>
                  <a:pt x="1235039" y="304799"/>
                </a:lnTo>
                <a:lnTo>
                  <a:pt x="1228454" y="316991"/>
                </a:lnTo>
                <a:lnTo>
                  <a:pt x="1221923" y="326135"/>
                </a:lnTo>
                <a:lnTo>
                  <a:pt x="1215437" y="338327"/>
                </a:lnTo>
                <a:lnTo>
                  <a:pt x="1208987" y="350519"/>
                </a:lnTo>
                <a:lnTo>
                  <a:pt x="1202562" y="359663"/>
                </a:lnTo>
                <a:lnTo>
                  <a:pt x="1189755" y="380999"/>
                </a:lnTo>
                <a:lnTo>
                  <a:pt x="1176941" y="405383"/>
                </a:lnTo>
                <a:lnTo>
                  <a:pt x="1170508" y="414527"/>
                </a:lnTo>
                <a:lnTo>
                  <a:pt x="1164435" y="426719"/>
                </a:lnTo>
                <a:lnTo>
                  <a:pt x="1158558" y="435863"/>
                </a:lnTo>
                <a:lnTo>
                  <a:pt x="1152812" y="448055"/>
                </a:lnTo>
                <a:lnTo>
                  <a:pt x="1147129" y="457199"/>
                </a:lnTo>
                <a:lnTo>
                  <a:pt x="1135686" y="481583"/>
                </a:lnTo>
                <a:lnTo>
                  <a:pt x="1129793" y="490727"/>
                </a:lnTo>
                <a:lnTo>
                  <a:pt x="1123697" y="502919"/>
                </a:lnTo>
                <a:lnTo>
                  <a:pt x="1117331" y="515111"/>
                </a:lnTo>
                <a:lnTo>
                  <a:pt x="1110629" y="527303"/>
                </a:lnTo>
                <a:lnTo>
                  <a:pt x="1239724" y="527303"/>
                </a:lnTo>
                <a:lnTo>
                  <a:pt x="1245675" y="512063"/>
                </a:lnTo>
                <a:lnTo>
                  <a:pt x="1251796" y="499871"/>
                </a:lnTo>
                <a:lnTo>
                  <a:pt x="1258094" y="487679"/>
                </a:lnTo>
                <a:lnTo>
                  <a:pt x="1264573" y="472439"/>
                </a:lnTo>
                <a:lnTo>
                  <a:pt x="1271239" y="460247"/>
                </a:lnTo>
                <a:lnTo>
                  <a:pt x="1278096" y="445007"/>
                </a:lnTo>
                <a:lnTo>
                  <a:pt x="1285149" y="432815"/>
                </a:lnTo>
                <a:lnTo>
                  <a:pt x="1292405" y="420623"/>
                </a:lnTo>
                <a:lnTo>
                  <a:pt x="1299868" y="405383"/>
                </a:lnTo>
                <a:lnTo>
                  <a:pt x="1307543" y="393191"/>
                </a:lnTo>
                <a:lnTo>
                  <a:pt x="1315435" y="380999"/>
                </a:lnTo>
                <a:lnTo>
                  <a:pt x="1323550" y="365759"/>
                </a:lnTo>
                <a:lnTo>
                  <a:pt x="1331892" y="353567"/>
                </a:lnTo>
                <a:lnTo>
                  <a:pt x="1340467" y="341375"/>
                </a:lnTo>
                <a:lnTo>
                  <a:pt x="1349281" y="329183"/>
                </a:lnTo>
                <a:lnTo>
                  <a:pt x="1358337" y="313943"/>
                </a:lnTo>
                <a:lnTo>
                  <a:pt x="1367642" y="301751"/>
                </a:lnTo>
                <a:lnTo>
                  <a:pt x="1377200" y="286511"/>
                </a:lnTo>
                <a:lnTo>
                  <a:pt x="1385427" y="277367"/>
                </a:lnTo>
                <a:lnTo>
                  <a:pt x="1420687" y="240791"/>
                </a:lnTo>
                <a:lnTo>
                  <a:pt x="1439056" y="225551"/>
                </a:lnTo>
                <a:lnTo>
                  <a:pt x="1457406" y="207263"/>
                </a:lnTo>
                <a:lnTo>
                  <a:pt x="1466455" y="198119"/>
                </a:lnTo>
                <a:lnTo>
                  <a:pt x="1561651" y="198119"/>
                </a:lnTo>
                <a:lnTo>
                  <a:pt x="1556067" y="185927"/>
                </a:lnTo>
                <a:lnTo>
                  <a:pt x="1549759" y="176783"/>
                </a:lnTo>
                <a:lnTo>
                  <a:pt x="1542739" y="164591"/>
                </a:lnTo>
                <a:lnTo>
                  <a:pt x="1535022" y="155447"/>
                </a:lnTo>
                <a:lnTo>
                  <a:pt x="1526621" y="143255"/>
                </a:lnTo>
                <a:lnTo>
                  <a:pt x="1517549" y="134111"/>
                </a:lnTo>
                <a:lnTo>
                  <a:pt x="1507820" y="124967"/>
                </a:lnTo>
                <a:lnTo>
                  <a:pt x="1497446" y="112775"/>
                </a:lnTo>
                <a:lnTo>
                  <a:pt x="1487650" y="106679"/>
                </a:lnTo>
                <a:lnTo>
                  <a:pt x="1477671" y="100583"/>
                </a:lnTo>
                <a:lnTo>
                  <a:pt x="1457103" y="94487"/>
                </a:lnTo>
                <a:close/>
              </a:path>
              <a:path w="2247900" h="810894">
                <a:moveTo>
                  <a:pt x="2074673" y="0"/>
                </a:moveTo>
                <a:lnTo>
                  <a:pt x="2051932" y="0"/>
                </a:lnTo>
                <a:lnTo>
                  <a:pt x="2039518" y="3047"/>
                </a:lnTo>
                <a:lnTo>
                  <a:pt x="2026374" y="6095"/>
                </a:lnTo>
                <a:lnTo>
                  <a:pt x="1986006" y="21335"/>
                </a:lnTo>
                <a:lnTo>
                  <a:pt x="1953059" y="42671"/>
                </a:lnTo>
                <a:lnTo>
                  <a:pt x="1942822" y="48767"/>
                </a:lnTo>
                <a:lnTo>
                  <a:pt x="1914116" y="76199"/>
                </a:lnTo>
                <a:lnTo>
                  <a:pt x="1879899" y="112775"/>
                </a:lnTo>
                <a:lnTo>
                  <a:pt x="1864230" y="134111"/>
                </a:lnTo>
                <a:lnTo>
                  <a:pt x="1856697" y="143255"/>
                </a:lnTo>
                <a:lnTo>
                  <a:pt x="1849343" y="155447"/>
                </a:lnTo>
                <a:lnTo>
                  <a:pt x="1842151" y="164591"/>
                </a:lnTo>
                <a:lnTo>
                  <a:pt x="1833100" y="179831"/>
                </a:lnTo>
                <a:lnTo>
                  <a:pt x="1824127" y="192023"/>
                </a:lnTo>
                <a:lnTo>
                  <a:pt x="1815223" y="207263"/>
                </a:lnTo>
                <a:lnTo>
                  <a:pt x="1806377" y="222503"/>
                </a:lnTo>
                <a:lnTo>
                  <a:pt x="1797580" y="234695"/>
                </a:lnTo>
                <a:lnTo>
                  <a:pt x="1771385" y="280415"/>
                </a:lnTo>
                <a:lnTo>
                  <a:pt x="1762685" y="292607"/>
                </a:lnTo>
                <a:lnTo>
                  <a:pt x="1736543" y="338327"/>
                </a:lnTo>
                <a:lnTo>
                  <a:pt x="1710132" y="384047"/>
                </a:lnTo>
                <a:lnTo>
                  <a:pt x="1683186" y="429767"/>
                </a:lnTo>
                <a:lnTo>
                  <a:pt x="1658557" y="469391"/>
                </a:lnTo>
                <a:lnTo>
                  <a:pt x="1645134" y="487679"/>
                </a:lnTo>
                <a:lnTo>
                  <a:pt x="1637830" y="499871"/>
                </a:lnTo>
                <a:lnTo>
                  <a:pt x="1630055" y="512063"/>
                </a:lnTo>
                <a:lnTo>
                  <a:pt x="1621750" y="524255"/>
                </a:lnTo>
                <a:lnTo>
                  <a:pt x="1754854" y="524255"/>
                </a:lnTo>
                <a:lnTo>
                  <a:pt x="1758309" y="518159"/>
                </a:lnTo>
                <a:lnTo>
                  <a:pt x="1764151" y="509015"/>
                </a:lnTo>
                <a:lnTo>
                  <a:pt x="1769635" y="496823"/>
                </a:lnTo>
                <a:lnTo>
                  <a:pt x="1774850" y="487679"/>
                </a:lnTo>
                <a:lnTo>
                  <a:pt x="1779885" y="475487"/>
                </a:lnTo>
                <a:lnTo>
                  <a:pt x="1789775" y="451103"/>
                </a:lnTo>
                <a:lnTo>
                  <a:pt x="1794809" y="438911"/>
                </a:lnTo>
                <a:lnTo>
                  <a:pt x="1800020" y="429767"/>
                </a:lnTo>
                <a:lnTo>
                  <a:pt x="1805500" y="417575"/>
                </a:lnTo>
                <a:lnTo>
                  <a:pt x="1811336" y="405383"/>
                </a:lnTo>
                <a:lnTo>
                  <a:pt x="1817618" y="393191"/>
                </a:lnTo>
                <a:lnTo>
                  <a:pt x="1824436" y="384047"/>
                </a:lnTo>
                <a:lnTo>
                  <a:pt x="1831878" y="371855"/>
                </a:lnTo>
                <a:lnTo>
                  <a:pt x="1840035" y="362711"/>
                </a:lnTo>
                <a:lnTo>
                  <a:pt x="1847735" y="350519"/>
                </a:lnTo>
                <a:lnTo>
                  <a:pt x="1855020" y="341375"/>
                </a:lnTo>
                <a:lnTo>
                  <a:pt x="1861961" y="329183"/>
                </a:lnTo>
                <a:lnTo>
                  <a:pt x="1868631" y="320039"/>
                </a:lnTo>
                <a:lnTo>
                  <a:pt x="1875101" y="307847"/>
                </a:lnTo>
                <a:lnTo>
                  <a:pt x="1881443" y="298703"/>
                </a:lnTo>
                <a:lnTo>
                  <a:pt x="1894026" y="274319"/>
                </a:lnTo>
                <a:lnTo>
                  <a:pt x="1900411" y="265175"/>
                </a:lnTo>
                <a:lnTo>
                  <a:pt x="1906953" y="252983"/>
                </a:lnTo>
                <a:lnTo>
                  <a:pt x="1913724" y="243839"/>
                </a:lnTo>
                <a:lnTo>
                  <a:pt x="1920796" y="231647"/>
                </a:lnTo>
                <a:lnTo>
                  <a:pt x="1928240" y="222503"/>
                </a:lnTo>
                <a:lnTo>
                  <a:pt x="1936128" y="213359"/>
                </a:lnTo>
                <a:lnTo>
                  <a:pt x="1944530" y="201167"/>
                </a:lnTo>
                <a:lnTo>
                  <a:pt x="1953520" y="192023"/>
                </a:lnTo>
                <a:lnTo>
                  <a:pt x="1963167" y="182879"/>
                </a:lnTo>
                <a:lnTo>
                  <a:pt x="1973544" y="176783"/>
                </a:lnTo>
                <a:lnTo>
                  <a:pt x="1982095" y="167639"/>
                </a:lnTo>
                <a:lnTo>
                  <a:pt x="1990650" y="161543"/>
                </a:lnTo>
                <a:lnTo>
                  <a:pt x="1999514" y="152399"/>
                </a:lnTo>
                <a:lnTo>
                  <a:pt x="2008992" y="146303"/>
                </a:lnTo>
                <a:lnTo>
                  <a:pt x="2019391" y="137159"/>
                </a:lnTo>
                <a:lnTo>
                  <a:pt x="2031015" y="128015"/>
                </a:lnTo>
                <a:lnTo>
                  <a:pt x="2057384" y="115823"/>
                </a:lnTo>
                <a:lnTo>
                  <a:pt x="2068440" y="112775"/>
                </a:lnTo>
                <a:lnTo>
                  <a:pt x="2162600" y="112775"/>
                </a:lnTo>
                <a:lnTo>
                  <a:pt x="2160604" y="106679"/>
                </a:lnTo>
                <a:lnTo>
                  <a:pt x="2146879" y="70103"/>
                </a:lnTo>
                <a:lnTo>
                  <a:pt x="2128108" y="36575"/>
                </a:lnTo>
                <a:lnTo>
                  <a:pt x="2094809" y="6095"/>
                </a:lnTo>
                <a:lnTo>
                  <a:pt x="2085054" y="3047"/>
                </a:lnTo>
                <a:lnTo>
                  <a:pt x="2074673"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3" name="object 12"/>
          <p:cNvSpPr/>
          <p:nvPr/>
        </p:nvSpPr>
        <p:spPr>
          <a:xfrm>
            <a:off x="8699400" y="5510160"/>
            <a:ext cx="9525240" cy="8071920"/>
          </a:xfrm>
          <a:prstGeom prst="rect">
            <a:avLst/>
          </a:prstGeom>
          <a:noFill/>
          <a:ln w="0">
            <a:noFill/>
          </a:ln>
        </p:spPr>
        <p:style>
          <a:lnRef idx="0"/>
          <a:fillRef idx="0"/>
          <a:effectRef idx="0"/>
          <a:fontRef idx="minor"/>
        </p:style>
        <p:txBody>
          <a:bodyPr lIns="0" rIns="0" tIns="0" bIns="0" anchor="t">
            <a:spAutoFit/>
          </a:bodyPr>
          <a:p>
            <a:pPr marL="4665600">
              <a:lnSpc>
                <a:spcPct val="100000"/>
              </a:lnSpc>
              <a:spcBef>
                <a:spcPts val="1125"/>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Local : 020 33 22 77 23</a:t>
            </a:r>
            <a:endParaRPr b="0" lang="en-US" sz="2800" spc="-1" strike="noStrike">
              <a:solidFill>
                <a:srgbClr val="000000"/>
              </a:solidFill>
              <a:latin typeface="Calibri"/>
            </a:endParaRPr>
          </a:p>
          <a:p>
            <a:pPr marL="4665600">
              <a:lnSpc>
                <a:spcPct val="100000"/>
              </a:lnSpc>
              <a:spcBef>
                <a:spcPts val="462"/>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Global</a:t>
            </a:r>
            <a:r>
              <a:rPr b="0" lang="en-US" sz="2800" spc="-1" strike="noStrike">
                <a:solidFill>
                  <a:srgbClr val="050606"/>
                </a:solidFill>
                <a:latin typeface="Arial"/>
              </a:rPr>
              <a:t>	</a:t>
            </a:r>
            <a:r>
              <a:rPr b="0" lang="en-US" sz="2800" spc="-1" strike="noStrike">
                <a:solidFill>
                  <a:srgbClr val="050606"/>
                </a:solidFill>
                <a:latin typeface="Arial"/>
              </a:rPr>
              <a:t>:</a:t>
            </a:r>
            <a:r>
              <a:rPr b="0" lang="en-US" sz="2800" spc="-1" strike="noStrike">
                <a:solidFill>
                  <a:srgbClr val="050606"/>
                </a:solidFill>
                <a:latin typeface="Arial"/>
              </a:rPr>
              <a:t>	</a:t>
            </a:r>
            <a:r>
              <a:rPr b="0" lang="en-US" sz="2800" spc="-1" strike="noStrike">
                <a:solidFill>
                  <a:srgbClr val="050606"/>
                </a:solidFill>
                <a:latin typeface="Arial"/>
              </a:rPr>
              <a:t>0044</a:t>
            </a:r>
            <a:r>
              <a:rPr b="0" lang="en-US" sz="2800" spc="-1" strike="noStrike">
                <a:solidFill>
                  <a:srgbClr val="050606"/>
                </a:solidFill>
                <a:latin typeface="Arial"/>
              </a:rPr>
              <a:t>	</a:t>
            </a:r>
            <a:r>
              <a:rPr b="0" lang="en-US" sz="2800" spc="-1" strike="noStrike">
                <a:solidFill>
                  <a:srgbClr val="050606"/>
                </a:solidFill>
                <a:latin typeface="Arial"/>
              </a:rPr>
              <a:t>2033227723</a:t>
            </a:r>
            <a:endParaRPr b="0" lang="en-US" sz="2800" spc="-1" strike="noStrike">
              <a:solidFill>
                <a:srgbClr val="000000"/>
              </a:solidFill>
              <a:latin typeface="Calibri"/>
            </a:endParaRPr>
          </a:p>
          <a:p>
            <a:pPr marL="4665600">
              <a:lnSpc>
                <a:spcPct val="100000"/>
              </a:lnSpc>
              <a:tabLst>
                <a:tab algn="l" pos="0"/>
                <a:tab algn="l" pos="6095880"/>
                <a:tab algn="l" pos="6400800"/>
                <a:tab algn="l" pos="7315200"/>
                <a:tab algn="l" pos="8229600"/>
                <a:tab algn="l" pos="9144000"/>
                <a:tab algn="l" pos="10058400"/>
              </a:tabLst>
            </a:pPr>
            <a:endParaRPr b="0" lang="en-US" sz="2800" spc="-1" strike="noStrike">
              <a:solidFill>
                <a:srgbClr val="000000"/>
              </a:solidFill>
              <a:latin typeface="Calibri"/>
            </a:endParaRPr>
          </a:p>
          <a:p>
            <a:pPr marL="4665600">
              <a:lnSpc>
                <a:spcPct val="100000"/>
              </a:lnSpc>
              <a:spcBef>
                <a:spcPts val="26"/>
              </a:spcBef>
              <a:tabLst>
                <a:tab algn="l" pos="0"/>
                <a:tab algn="l" pos="6095880"/>
                <a:tab algn="l" pos="6400800"/>
                <a:tab algn="l" pos="7315200"/>
                <a:tab algn="l" pos="8229600"/>
                <a:tab algn="l" pos="9144000"/>
                <a:tab algn="l" pos="10058400"/>
              </a:tabLst>
            </a:pPr>
            <a:endParaRPr b="0" lang="en-US" sz="3300" spc="-1" strike="noStrike">
              <a:solidFill>
                <a:srgbClr val="000000"/>
              </a:solidFill>
              <a:latin typeface="Calibri"/>
            </a:endParaRPr>
          </a:p>
          <a:p>
            <a:pPr marL="4665600">
              <a:lnSpc>
                <a:spcPct val="100000"/>
              </a:lnSpc>
              <a:tabLst>
                <a:tab algn="l" pos="0"/>
                <a:tab algn="l" pos="6095880"/>
                <a:tab algn="l" pos="6400800"/>
                <a:tab algn="l" pos="7315200"/>
                <a:tab algn="l" pos="8229600"/>
                <a:tab algn="l" pos="9144000"/>
                <a:tab algn="l" pos="10058400"/>
              </a:tabLst>
            </a:pPr>
            <a:r>
              <a:rPr b="0" lang="en-US" sz="3000" spc="-1" strike="noStrike">
                <a:solidFill>
                  <a:srgbClr val="d9b83d"/>
                </a:solidFill>
                <a:latin typeface="Arial"/>
              </a:rPr>
              <a:t>EMAIL</a:t>
            </a:r>
            <a:r>
              <a:rPr b="0" lang="en-US" sz="3000" spc="-1" strike="noStrike">
                <a:solidFill>
                  <a:srgbClr val="d9b83d"/>
                </a:solidFill>
                <a:latin typeface="Arial"/>
              </a:rPr>
              <a:t>	</a:t>
            </a:r>
            <a:r>
              <a:rPr b="0" lang="en-US" sz="3000" spc="-1" strike="noStrike">
                <a:solidFill>
                  <a:srgbClr val="d9b83d"/>
                </a:solidFill>
                <a:latin typeface="Arial"/>
              </a:rPr>
              <a:t>ADDRESS</a:t>
            </a:r>
            <a:endParaRPr b="0" lang="en-US" sz="3000" spc="-1" strike="noStrike">
              <a:solidFill>
                <a:srgbClr val="000000"/>
              </a:solidFill>
              <a:latin typeface="Calibri"/>
            </a:endParaRPr>
          </a:p>
          <a:p>
            <a:pPr marL="4665600">
              <a:lnSpc>
                <a:spcPct val="100000"/>
              </a:lnSpc>
              <a:spcBef>
                <a:spcPts val="1049"/>
              </a:spcBef>
              <a:tabLst>
                <a:tab algn="l" pos="0"/>
                <a:tab algn="l" pos="6095880"/>
                <a:tab algn="l" pos="6400800"/>
                <a:tab algn="l" pos="7315200"/>
                <a:tab algn="l" pos="8229600"/>
                <a:tab algn="l" pos="9144000"/>
                <a:tab algn="l" pos="10058400"/>
              </a:tabLst>
            </a:pPr>
            <a:r>
              <a:rPr b="0" lang="en-US" sz="2800" spc="-1" strike="noStrike">
                <a:solidFill>
                  <a:srgbClr val="050606"/>
                </a:solidFill>
                <a:latin typeface="Arial"/>
              </a:rPr>
              <a:t>sales@jewels-airport-transfers.co.uk</a:t>
            </a:r>
            <a:endParaRPr b="0" lang="en-US" sz="2800" spc="-1" strike="noStrike">
              <a:solidFill>
                <a:srgbClr val="000000"/>
              </a:solidFill>
              <a:latin typeface="Calibri"/>
            </a:endParaRPr>
          </a:p>
          <a:p>
            <a:pPr marL="4665600">
              <a:lnSpc>
                <a:spcPct val="100000"/>
              </a:lnSpc>
              <a:spcBef>
                <a:spcPts val="37"/>
              </a:spcBef>
              <a:tabLst>
                <a:tab algn="l" pos="0"/>
                <a:tab algn="l" pos="6095880"/>
                <a:tab algn="l" pos="6400800"/>
                <a:tab algn="l" pos="7315200"/>
                <a:tab algn="l" pos="8229600"/>
                <a:tab algn="l" pos="9144000"/>
                <a:tab algn="l" pos="10058400"/>
              </a:tabLst>
            </a:pPr>
            <a:endParaRPr b="0" lang="en-US" sz="3700" spc="-1" strike="noStrike">
              <a:solidFill>
                <a:srgbClr val="000000"/>
              </a:solidFill>
              <a:latin typeface="Calibri"/>
            </a:endParaRPr>
          </a:p>
          <a:p>
            <a:pPr marL="4665600">
              <a:lnSpc>
                <a:spcPct val="116000"/>
              </a:lnSpc>
              <a:tabLst>
                <a:tab algn="l" pos="0"/>
                <a:tab algn="l" pos="6095880"/>
                <a:tab algn="l" pos="6400800"/>
                <a:tab algn="l" pos="7315200"/>
                <a:tab algn="l" pos="8229600"/>
                <a:tab algn="l" pos="9144000"/>
                <a:tab algn="l" pos="10058400"/>
              </a:tabLst>
            </a:pPr>
            <a:r>
              <a:rPr b="0" lang="en-US" sz="2100" spc="-1" strike="noStrike">
                <a:solidFill>
                  <a:srgbClr val="000000"/>
                </a:solidFill>
                <a:latin typeface="Arial"/>
              </a:rPr>
              <a:t>https://www.jewels-airport- transfers.co.u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46160" y="921960"/>
            <a:ext cx="16916400" cy="492120"/>
          </a:xfrm>
          <a:prstGeom prst="rect">
            <a:avLst/>
          </a:prstGeom>
          <a:noFill/>
          <a:ln w="0">
            <a:noFill/>
          </a:ln>
        </p:spPr>
        <p:txBody>
          <a:bodyPr lIns="0" rIns="0" tIns="0" bIns="0" anchor="t">
            <a:noAutofit/>
          </a:bodyPr>
          <a:p>
            <a:pPr marL="10450440" indent="0" algn="ctr">
              <a:lnSpc>
                <a:spcPct val="100000"/>
              </a:lnSpc>
              <a:buNone/>
              <a:tabLst>
                <a:tab algn="l" pos="0"/>
              </a:tabLst>
            </a:pPr>
            <a:r>
              <a:rPr b="1" lang="en-US" sz="3200" spc="-1" strike="noStrike">
                <a:solidFill>
                  <a:srgbClr val="ffc000"/>
                </a:solidFill>
                <a:latin typeface="Arial"/>
                <a:ea typeface="Arial"/>
              </a:rPr>
              <a:t>JEWELS AIRPORT TRANSFERS</a:t>
            </a:r>
            <a:endParaRPr b="0" lang="en-US" sz="3200" spc="-1" strike="noStrike">
              <a:solidFill>
                <a:srgbClr val="1f497d"/>
              </a:solidFill>
              <a:latin typeface="Calibri"/>
            </a:endParaRPr>
          </a:p>
        </p:txBody>
      </p:sp>
      <p:sp>
        <p:nvSpPr>
          <p:cNvPr id="96" name="object 35"/>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bject 36"/>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bject 37"/>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9" name="object 38"/>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0" name="object 39"/>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1" name="object 40"/>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bject 41"/>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03" name="object 42"/>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35"/>
          <p:cNvSpPr/>
          <p:nvPr/>
        </p:nvSpPr>
        <p:spPr>
          <a:xfrm>
            <a:off x="6705720" y="404352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accept it that we all forget something when it comes to backpacking, especially when we are travelling by air. With this in mind, we have created a traveller checklist for the people who are flying to and from Heathrow. Though this list doesn’t include everything related to your trip, it covers the basic amenities and security precautions at the airpor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object 2"/>
          <p:cNvSpPr/>
          <p:nvPr/>
        </p:nvSpPr>
        <p:spPr>
          <a:xfrm>
            <a:off x="1814400" y="838080"/>
            <a:ext cx="5880240" cy="85284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1. </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PRE-</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PLANNING BEFORE REACHING AIRPORT</a:t>
            </a:r>
            <a:endParaRPr b="0" lang="en-US" sz="7000" spc="-1" strike="noStrike">
              <a:solidFill>
                <a:srgbClr val="000000"/>
              </a:solidFill>
              <a:latin typeface="Calibri"/>
            </a:endParaRPr>
          </a:p>
          <a:p>
            <a:pPr marL="12600">
              <a:lnSpc>
                <a:spcPct val="100000"/>
              </a:lnSpc>
              <a:spcBef>
                <a:spcPts val="4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06" name="object 13"/>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object 14"/>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bject 15"/>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bject 16"/>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object 17"/>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1" name="object 18"/>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2" name="object 19"/>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3" name="object 20"/>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object 26"/>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2"/>
          <p:cNvSpPr/>
          <p:nvPr/>
        </p:nvSpPr>
        <p:spPr>
          <a:xfrm>
            <a:off x="9129600" y="3619440"/>
            <a:ext cx="9144000" cy="478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How far your destination is from the airport</a:t>
            </a: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How many days are you planning to stay there</a:t>
            </a:r>
            <a:endParaRPr b="0" lang="en-US" sz="3600" spc="-1" strike="noStrike">
              <a:solidFill>
                <a:srgbClr val="000000"/>
              </a:solidFill>
              <a:latin typeface="Calibri"/>
            </a:endParaRPr>
          </a:p>
          <a:p>
            <a:pPr marL="343080" indent="-34308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Is it accessible via public transport or not?</a:t>
            </a:r>
            <a:endParaRPr b="0" lang="en-US" sz="3600" spc="-1" strike="noStrike">
              <a:solidFill>
                <a:srgbClr val="000000"/>
              </a:solidFill>
              <a:latin typeface="Calibri"/>
            </a:endParaRPr>
          </a:p>
          <a:p>
            <a:pPr marL="343080" indent="-343080">
              <a:lnSpc>
                <a:spcPct val="107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7000"/>
              </a:lnSpc>
              <a:spcAft>
                <a:spcPts val="799"/>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Calibri"/>
              </a:rPr>
              <a:t>Do you need to book hotels in adv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object 2"/>
          <p:cNvSpPr/>
          <p:nvPr/>
        </p:nvSpPr>
        <p:spPr>
          <a:xfrm>
            <a:off x="1814400" y="1909800"/>
            <a:ext cx="588168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03508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2. ESSENTIALS FOR HAND LUGGAGE</a:t>
            </a:r>
            <a:endParaRPr b="0" lang="en-US" sz="7000" spc="-1" strike="noStrike">
              <a:solidFill>
                <a:srgbClr val="000000"/>
              </a:solidFill>
              <a:latin typeface="Calibri"/>
            </a:endParaRPr>
          </a:p>
          <a:p>
            <a:pPr marL="12600">
              <a:lnSpc>
                <a:spcPct val="100000"/>
              </a:lnSpc>
              <a:spcBef>
                <a:spcPts val="4238"/>
              </a:spcBef>
              <a:tabLst>
                <a:tab algn="l" pos="0"/>
                <a:tab algn="l" pos="203508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17" name="object 18"/>
          <p:cNvSpPr/>
          <p:nvPr/>
        </p:nvSpPr>
        <p:spPr>
          <a:xfrm>
            <a:off x="9828360" y="5799240"/>
            <a:ext cx="90360" cy="91800"/>
          </a:xfrm>
          <a:custGeom>
            <a:avLst/>
            <a:gdLst/>
            <a:ahLst/>
            <a:rect l="l" t="t" r="r" b="b"/>
            <a:pathLst>
              <a:path w="90170" h="91439">
                <a:moveTo>
                  <a:pt x="42190" y="0"/>
                </a:moveTo>
                <a:lnTo>
                  <a:pt x="8116" y="17928"/>
                </a:lnTo>
                <a:lnTo>
                  <a:pt x="0" y="56513"/>
                </a:lnTo>
                <a:lnTo>
                  <a:pt x="4719" y="68154"/>
                </a:lnTo>
                <a:lnTo>
                  <a:pt x="13209" y="78926"/>
                </a:lnTo>
                <a:lnTo>
                  <a:pt x="22719" y="85763"/>
                </a:lnTo>
                <a:lnTo>
                  <a:pt x="34453" y="89813"/>
                </a:lnTo>
                <a:lnTo>
                  <a:pt x="49392" y="91011"/>
                </a:lnTo>
                <a:lnTo>
                  <a:pt x="59890" y="88294"/>
                </a:lnTo>
                <a:lnTo>
                  <a:pt x="70791" y="81719"/>
                </a:lnTo>
                <a:lnTo>
                  <a:pt x="83010" y="70181"/>
                </a:lnTo>
                <a:lnTo>
                  <a:pt x="88311" y="58633"/>
                </a:lnTo>
                <a:lnTo>
                  <a:pt x="90076" y="45610"/>
                </a:lnTo>
                <a:lnTo>
                  <a:pt x="89704" y="39719"/>
                </a:lnTo>
                <a:lnTo>
                  <a:pt x="67692" y="6245"/>
                </a:lnTo>
                <a:lnTo>
                  <a:pt x="42190"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18" name="object 22"/>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bject 23"/>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object 24"/>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bject 25"/>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bject 26"/>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3" name="object 27"/>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4" name="object 28"/>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25" name="object 29"/>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object 31"/>
          <p:cNvSpPr/>
          <p:nvPr/>
        </p:nvSpPr>
        <p:spPr>
          <a:xfrm>
            <a:off x="0" y="10088640"/>
            <a:ext cx="1319040" cy="19836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5"/>
          <p:cNvSpPr/>
          <p:nvPr/>
        </p:nvSpPr>
        <p:spPr>
          <a:xfrm>
            <a:off x="9144000" y="208116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onfirm the flight reservation statu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heck essentials documents like Visa, Passport, Boarding Pass, etc. are in your hand luggage</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Take a copy of all the documents you’re carrying</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Medication, Health insurance, or any other equipment related to health</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Magazines, books, games, music player – especially if you’re travelling with kid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ash currency of the country that you’re visi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29" name="object 15"/>
          <p:cNvSpPr/>
          <p:nvPr/>
        </p:nvSpPr>
        <p:spPr>
          <a:xfrm>
            <a:off x="11553840" y="9024840"/>
            <a:ext cx="5716440" cy="914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00000"/>
                </a:solidFill>
                <a:latin typeface="Arial"/>
              </a:rPr>
              <a:t>JEWELS AIRPORT TRANSFERS</a:t>
            </a:r>
            <a:endParaRPr b="0" lang="en-US" sz="3000" spc="-1" strike="noStrike">
              <a:solidFill>
                <a:srgbClr val="000000"/>
              </a:solidFill>
              <a:latin typeface="Calibri"/>
            </a:endParaRPr>
          </a:p>
        </p:txBody>
      </p:sp>
      <p:sp>
        <p:nvSpPr>
          <p:cNvPr id="130" name="object 18"/>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object 19"/>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object 20"/>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3" name="object 21"/>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4" name="object 22"/>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5" name="object 23"/>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bject 24"/>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37" name="object 25"/>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Rectangle 18"/>
          <p:cNvSpPr/>
          <p:nvPr/>
        </p:nvSpPr>
        <p:spPr>
          <a:xfrm>
            <a:off x="7056360" y="400356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f you’re travelling just with hand luggage, then check with the airlines about how many hand luggage you can carry during your journe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object 2"/>
          <p:cNvSpPr/>
          <p:nvPr/>
        </p:nvSpPr>
        <p:spPr>
          <a:xfrm>
            <a:off x="1709640" y="1982880"/>
            <a:ext cx="5300640" cy="53215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3. CHECKLIST FOR SUITCASE</a:t>
            </a:r>
            <a:endParaRPr b="0" lang="en-US" sz="7000" spc="-1" strike="noStrike">
              <a:solidFill>
                <a:srgbClr val="000000"/>
              </a:solidFill>
              <a:latin typeface="Calibri"/>
            </a:endParaRPr>
          </a:p>
          <a:p>
            <a:pPr marL="12600">
              <a:lnSpc>
                <a:spcPct val="100000"/>
              </a:lnSpc>
              <a:spcBef>
                <a:spcPts val="4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40" name="object 22"/>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bject 23"/>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object 24"/>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object 25"/>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object 26"/>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5" name="object 27"/>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6" name="object 28"/>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7" name="object 29"/>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object 30"/>
          <p:cNvSpPr/>
          <p:nvPr/>
        </p:nvSpPr>
        <p:spPr>
          <a:xfrm>
            <a:off x="9845640" y="8607600"/>
            <a:ext cx="104760" cy="104760"/>
          </a:xfrm>
          <a:custGeom>
            <a:avLst/>
            <a:gdLst/>
            <a:ahLst/>
            <a:rect l="l" t="t" r="r" b="b"/>
            <a:pathLst>
              <a:path w="104775" h="104775">
                <a:moveTo>
                  <a:pt x="59344" y="0"/>
                </a:moveTo>
                <a:lnTo>
                  <a:pt x="45445" y="0"/>
                </a:lnTo>
                <a:lnTo>
                  <a:pt x="38770" y="1335"/>
                </a:lnTo>
                <a:lnTo>
                  <a:pt x="6644" y="25920"/>
                </a:lnTo>
                <a:lnTo>
                  <a:pt x="3992" y="32339"/>
                </a:lnTo>
                <a:lnTo>
                  <a:pt x="1310" y="38755"/>
                </a:lnTo>
                <a:lnTo>
                  <a:pt x="0" y="45448"/>
                </a:lnTo>
                <a:lnTo>
                  <a:pt x="0" y="59341"/>
                </a:lnTo>
                <a:lnTo>
                  <a:pt x="1310" y="66022"/>
                </a:lnTo>
                <a:lnTo>
                  <a:pt x="3992" y="72438"/>
                </a:lnTo>
                <a:lnTo>
                  <a:pt x="6644" y="78857"/>
                </a:lnTo>
                <a:lnTo>
                  <a:pt x="38770" y="103455"/>
                </a:lnTo>
                <a:lnTo>
                  <a:pt x="45445" y="104774"/>
                </a:lnTo>
                <a:lnTo>
                  <a:pt x="59344" y="104774"/>
                </a:lnTo>
                <a:lnTo>
                  <a:pt x="94335" y="84524"/>
                </a:lnTo>
                <a:lnTo>
                  <a:pt x="100766" y="72438"/>
                </a:lnTo>
                <a:lnTo>
                  <a:pt x="103449" y="66022"/>
                </a:lnTo>
                <a:lnTo>
                  <a:pt x="104759" y="59341"/>
                </a:lnTo>
                <a:lnTo>
                  <a:pt x="104759" y="45448"/>
                </a:lnTo>
                <a:lnTo>
                  <a:pt x="103449" y="38755"/>
                </a:lnTo>
                <a:lnTo>
                  <a:pt x="100766" y="32339"/>
                </a:lnTo>
                <a:lnTo>
                  <a:pt x="98115" y="25920"/>
                </a:lnTo>
                <a:lnTo>
                  <a:pt x="94335" y="20266"/>
                </a:lnTo>
                <a:lnTo>
                  <a:pt x="84521" y="10430"/>
                </a:lnTo>
                <a:lnTo>
                  <a:pt x="78851" y="6644"/>
                </a:lnTo>
                <a:lnTo>
                  <a:pt x="66019" y="1335"/>
                </a:lnTo>
                <a:lnTo>
                  <a:pt x="59344"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9" name="Rectangle 12"/>
          <p:cNvSpPr/>
          <p:nvPr/>
        </p:nvSpPr>
        <p:spPr>
          <a:xfrm>
            <a:off x="9144000" y="1982880"/>
            <a:ext cx="9144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Your outfits, such as warm clothes, vests, winter wear, etc.</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Cosmetic items like sunscreen, body lotion, face cream,</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Electronic items like phone, laptop, iPad, electrical adaptors, and other equipmen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First aid kit in case you need it</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	</a:t>
            </a:r>
            <a:r>
              <a:rPr b="0" lang="en-US" sz="3600" spc="-1" strike="noStrike">
                <a:solidFill>
                  <a:srgbClr val="000000"/>
                </a:solidFill>
                <a:latin typeface="Calibri"/>
              </a:rPr>
              <a:t>Insect repell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51" name="object 3"/>
          <p:cNvSpPr/>
          <p:nvPr/>
        </p:nvSpPr>
        <p:spPr>
          <a:xfrm>
            <a:off x="7781760" y="6404040"/>
            <a:ext cx="3434040" cy="122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211788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You</a:t>
            </a:r>
            <a:r>
              <a:rPr b="0" lang="de-DE" sz="3600" spc="-1" strike="noStrike">
                <a:solidFill>
                  <a:srgbClr val="050606"/>
                </a:solidFill>
                <a:latin typeface="Arial"/>
              </a:rPr>
              <a:t>	</a:t>
            </a:r>
            <a:r>
              <a:rPr b="0" lang="de-DE" sz="3600" spc="-1" strike="noStrike">
                <a:solidFill>
                  <a:srgbClr val="050606"/>
                </a:solidFill>
                <a:latin typeface="Arial"/>
              </a:rPr>
              <a:t>can</a:t>
            </a:r>
            <a:r>
              <a:rPr b="0" lang="de-DE" sz="3600" spc="-1" strike="noStrike">
                <a:solidFill>
                  <a:srgbClr val="050606"/>
                </a:solidFill>
                <a:latin typeface="Arial"/>
              </a:rPr>
              <a:t>	</a:t>
            </a:r>
            <a:r>
              <a:rPr b="0" lang="de-DE" sz="3600" spc="-1" strike="noStrike">
                <a:solidFill>
                  <a:srgbClr val="050606"/>
                </a:solidFill>
                <a:latin typeface="Arial"/>
              </a:rPr>
              <a:t>check</a:t>
            </a:r>
            <a:endParaRPr b="0" lang="en-US" sz="3600" spc="-1" strike="noStrike">
              <a:solidFill>
                <a:srgbClr val="000000"/>
              </a:solidFill>
              <a:latin typeface="Calibri"/>
            </a:endParaRPr>
          </a:p>
          <a:p>
            <a:pPr marL="12600">
              <a:lnSpc>
                <a:spcPct val="100000"/>
              </a:lnSpc>
              <a:spcBef>
                <a:spcPts val="1001"/>
              </a:spcBef>
              <a:tabLst>
                <a:tab algn="l" pos="0"/>
                <a:tab algn="l" pos="1065240"/>
                <a:tab algn="l" pos="211788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for</a:t>
            </a:r>
            <a:endParaRPr b="0" lang="en-US" sz="3600" spc="-1" strike="noStrike">
              <a:solidFill>
                <a:srgbClr val="000000"/>
              </a:solidFill>
              <a:latin typeface="Calibri"/>
            </a:endParaRPr>
          </a:p>
        </p:txBody>
      </p:sp>
      <p:sp>
        <p:nvSpPr>
          <p:cNvPr id="152" name="object 4"/>
          <p:cNvSpPr/>
          <p:nvPr/>
        </p:nvSpPr>
        <p:spPr>
          <a:xfrm>
            <a:off x="11466360" y="6404040"/>
            <a:ext cx="29084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airline</a:t>
            </a:r>
            <a:endParaRPr b="0" lang="en-US" sz="3600" spc="-1" strike="noStrike">
              <a:solidFill>
                <a:srgbClr val="000000"/>
              </a:solidFill>
              <a:latin typeface="Calibri"/>
            </a:endParaRPr>
          </a:p>
        </p:txBody>
      </p:sp>
      <p:sp>
        <p:nvSpPr>
          <p:cNvPr id="153" name="object 5"/>
          <p:cNvSpPr/>
          <p:nvPr/>
        </p:nvSpPr>
        <p:spPr>
          <a:xfrm>
            <a:off x="14625720" y="6404040"/>
            <a:ext cx="26445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guidelines</a:t>
            </a:r>
            <a:endParaRPr b="0" lang="en-US" sz="3600" spc="-1" strike="noStrike">
              <a:solidFill>
                <a:srgbClr val="000000"/>
              </a:solidFill>
              <a:latin typeface="Calibri"/>
            </a:endParaRPr>
          </a:p>
        </p:txBody>
      </p:sp>
      <p:sp>
        <p:nvSpPr>
          <p:cNvPr id="154" name="object 6"/>
          <p:cNvSpPr/>
          <p:nvPr/>
        </p:nvSpPr>
        <p:spPr>
          <a:xfrm>
            <a:off x="9887040" y="7080120"/>
            <a:ext cx="211932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carrying</a:t>
            </a:r>
            <a:endParaRPr b="0" lang="en-US" sz="3600" spc="-1" strike="noStrike">
              <a:solidFill>
                <a:srgbClr val="000000"/>
              </a:solidFill>
              <a:latin typeface="Calibri"/>
            </a:endParaRPr>
          </a:p>
        </p:txBody>
      </p:sp>
      <p:sp>
        <p:nvSpPr>
          <p:cNvPr id="155" name="object 7"/>
          <p:cNvSpPr/>
          <p:nvPr/>
        </p:nvSpPr>
        <p:spPr>
          <a:xfrm>
            <a:off x="12256920" y="7080120"/>
            <a:ext cx="50133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538200"/>
                <a:tab algn="l" pos="2908440"/>
                <a:tab algn="l" pos="396072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a:t>
            </a:r>
            <a:r>
              <a:rPr b="0" lang="de-DE" sz="3600" spc="-1" strike="noStrike">
                <a:solidFill>
                  <a:srgbClr val="050606"/>
                </a:solidFill>
                <a:latin typeface="Arial"/>
              </a:rPr>
              <a:t>	</a:t>
            </a:r>
            <a:r>
              <a:rPr b="0" lang="de-DE" sz="3600" spc="-1" strike="noStrike">
                <a:solidFill>
                  <a:srgbClr val="050606"/>
                </a:solidFill>
                <a:latin typeface="Arial"/>
              </a:rPr>
              <a:t>suitcase</a:t>
            </a:r>
            <a:r>
              <a:rPr b="0" lang="de-DE" sz="3600" spc="-1" strike="noStrike">
                <a:solidFill>
                  <a:srgbClr val="050606"/>
                </a:solidFill>
                <a:latin typeface="Arial"/>
              </a:rPr>
              <a:t>	</a:t>
            </a:r>
            <a:r>
              <a:rPr b="0" lang="de-DE" sz="3600" spc="-1" strike="noStrike">
                <a:solidFill>
                  <a:srgbClr val="050606"/>
                </a:solidFill>
                <a:latin typeface="Arial"/>
              </a:rPr>
              <a:t>and</a:t>
            </a:r>
            <a:r>
              <a:rPr b="0" lang="de-DE" sz="3600" spc="-1" strike="noStrike">
                <a:solidFill>
                  <a:srgbClr val="050606"/>
                </a:solidFill>
                <a:latin typeface="Arial"/>
              </a:rPr>
              <a:t>	</a:t>
            </a:r>
            <a:r>
              <a:rPr b="0" lang="de-DE" sz="3600" spc="-1" strike="noStrike">
                <a:solidFill>
                  <a:srgbClr val="050606"/>
                </a:solidFill>
                <a:latin typeface="Arial"/>
              </a:rPr>
              <a:t>what</a:t>
            </a:r>
            <a:endParaRPr b="0" lang="en-US" sz="3600" spc="-1" strike="noStrike">
              <a:solidFill>
                <a:srgbClr val="000000"/>
              </a:solidFill>
              <a:latin typeface="Calibri"/>
            </a:endParaRPr>
          </a:p>
        </p:txBody>
      </p:sp>
      <p:sp>
        <p:nvSpPr>
          <p:cNvPr id="156" name="object 8"/>
          <p:cNvSpPr/>
          <p:nvPr/>
        </p:nvSpPr>
        <p:spPr>
          <a:xfrm>
            <a:off x="8307360" y="7756560"/>
            <a:ext cx="13287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items</a:t>
            </a:r>
            <a:endParaRPr b="0" lang="en-US" sz="3600" spc="-1" strike="noStrike">
              <a:solidFill>
                <a:srgbClr val="000000"/>
              </a:solidFill>
              <a:latin typeface="Calibri"/>
            </a:endParaRPr>
          </a:p>
        </p:txBody>
      </p:sp>
      <p:sp>
        <p:nvSpPr>
          <p:cNvPr id="157" name="object 9"/>
          <p:cNvSpPr/>
          <p:nvPr/>
        </p:nvSpPr>
        <p:spPr>
          <a:xfrm>
            <a:off x="9887040" y="7756560"/>
            <a:ext cx="18558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you</a:t>
            </a:r>
            <a:r>
              <a:rPr b="0" lang="de-DE" sz="3600" spc="-1" strike="noStrike">
                <a:solidFill>
                  <a:srgbClr val="050606"/>
                </a:solidFill>
                <a:latin typeface="Arial"/>
              </a:rPr>
              <a:t>	</a:t>
            </a:r>
            <a:r>
              <a:rPr b="0" lang="de-DE" sz="3600" spc="-1" strike="noStrike">
                <a:solidFill>
                  <a:srgbClr val="050606"/>
                </a:solidFill>
                <a:latin typeface="Arial"/>
              </a:rPr>
              <a:t>can</a:t>
            </a:r>
            <a:endParaRPr b="0" lang="en-US" sz="3600" spc="-1" strike="noStrike">
              <a:solidFill>
                <a:srgbClr val="000000"/>
              </a:solidFill>
              <a:latin typeface="Calibri"/>
            </a:endParaRPr>
          </a:p>
        </p:txBody>
      </p:sp>
      <p:sp>
        <p:nvSpPr>
          <p:cNvPr id="158" name="object 10"/>
          <p:cNvSpPr/>
          <p:nvPr/>
        </p:nvSpPr>
        <p:spPr>
          <a:xfrm>
            <a:off x="11993400" y="7756560"/>
            <a:ext cx="527688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590840"/>
                <a:tab algn="l" pos="290844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bring</a:t>
            </a:r>
            <a:r>
              <a:rPr b="0" lang="de-DE" sz="3600" spc="-1" strike="noStrike">
                <a:solidFill>
                  <a:srgbClr val="050606"/>
                </a:solidFill>
                <a:latin typeface="Arial"/>
              </a:rPr>
              <a:t>	</a:t>
            </a:r>
            <a:r>
              <a:rPr b="0" lang="de-DE" sz="3600" spc="-1" strike="noStrike">
                <a:solidFill>
                  <a:srgbClr val="050606"/>
                </a:solidFill>
                <a:latin typeface="Arial"/>
              </a:rPr>
              <a:t>with</a:t>
            </a:r>
            <a:r>
              <a:rPr b="0" lang="de-DE" sz="3600" spc="-1" strike="noStrike">
                <a:solidFill>
                  <a:srgbClr val="050606"/>
                </a:solidFill>
                <a:latin typeface="Arial"/>
              </a:rPr>
              <a:t>	</a:t>
            </a:r>
            <a:r>
              <a:rPr b="0" lang="de-DE" sz="3600" spc="-1" strike="noStrike">
                <a:solidFill>
                  <a:srgbClr val="050606"/>
                </a:solidFill>
                <a:latin typeface="Arial"/>
              </a:rPr>
              <a:t>yourself.</a:t>
            </a:r>
            <a:endParaRPr b="0" lang="en-US" sz="3600" spc="-1" strike="noStrike">
              <a:solidFill>
                <a:srgbClr val="000000"/>
              </a:solidFill>
              <a:latin typeface="Calibri"/>
            </a:endParaRPr>
          </a:p>
        </p:txBody>
      </p:sp>
      <p:sp>
        <p:nvSpPr>
          <p:cNvPr id="159" name="object 12"/>
          <p:cNvSpPr/>
          <p:nvPr/>
        </p:nvSpPr>
        <p:spPr>
          <a:xfrm>
            <a:off x="10515600" y="9024840"/>
            <a:ext cx="67546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50606"/>
                </a:solidFill>
                <a:latin typeface="Arial"/>
              </a:rPr>
              <a:t>JEWELS AIRPORT TRANSFERS</a:t>
            </a:r>
            <a:endParaRPr b="0" lang="en-US" sz="3000" spc="-1" strike="noStrike">
              <a:solidFill>
                <a:srgbClr val="000000"/>
              </a:solidFill>
              <a:latin typeface="Calibri"/>
            </a:endParaRPr>
          </a:p>
        </p:txBody>
      </p:sp>
      <p:sp>
        <p:nvSpPr>
          <p:cNvPr id="160" name="object 14"/>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bject 15"/>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bject 16"/>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3" name="object 17"/>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4" name="object 18"/>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5" name="object 19"/>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bject 20"/>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7" name="object 21"/>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object 2"/>
          <p:cNvSpPr/>
          <p:nvPr/>
        </p:nvSpPr>
        <p:spPr>
          <a:xfrm>
            <a:off x="1709640" y="911160"/>
            <a:ext cx="5300640" cy="74620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4. GENERAL</a:t>
            </a:r>
            <a:endParaRPr b="0" lang="en-US" sz="70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050606"/>
                </a:solidFill>
                <a:latin typeface="Arial"/>
              </a:rPr>
              <a:t>CHECKLIST BEFORE YOUR JOURNEY</a:t>
            </a:r>
            <a:endParaRPr b="0" lang="en-US" sz="7000" spc="-1" strike="noStrike">
              <a:solidFill>
                <a:srgbClr val="000000"/>
              </a:solidFill>
              <a:latin typeface="Calibri"/>
            </a:endParaRPr>
          </a:p>
          <a:p>
            <a:pPr marL="12600">
              <a:lnSpc>
                <a:spcPct val="100000"/>
              </a:lnSpc>
              <a:spcBef>
                <a:spcPts val="4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50606"/>
                </a:solidFill>
                <a:latin typeface="Arial"/>
              </a:rPr>
              <a:t>BOOK</a:t>
            </a:r>
            <a:r>
              <a:rPr b="1" lang="en-US" sz="3400" spc="-1" strike="noStrike">
                <a:solidFill>
                  <a:srgbClr val="050606"/>
                </a:solidFill>
                <a:latin typeface="Arial"/>
              </a:rPr>
              <a:t>	</a:t>
            </a:r>
            <a:r>
              <a:rPr b="1" lang="en-US" sz="3400" spc="-1" strike="noStrike">
                <a:solidFill>
                  <a:srgbClr val="050606"/>
                </a:solidFill>
                <a:latin typeface="Arial"/>
              </a:rPr>
              <a:t>AND</a:t>
            </a:r>
            <a:r>
              <a:rPr b="1" lang="en-US" sz="3400" spc="-1" strike="noStrike">
                <a:solidFill>
                  <a:srgbClr val="050606"/>
                </a:solidFill>
                <a:latin typeface="Arial"/>
              </a:rPr>
              <a:t>	</a:t>
            </a:r>
            <a:r>
              <a:rPr b="1" lang="en-US" sz="3400" spc="-1" strike="noStrike">
                <a:solidFill>
                  <a:srgbClr val="050606"/>
                </a:solidFill>
                <a:latin typeface="Arial"/>
              </a:rPr>
              <a:t>GO</a:t>
            </a:r>
            <a:endParaRPr b="0" lang="en-US" sz="3400" spc="-1" strike="noStrike">
              <a:solidFill>
                <a:srgbClr val="000000"/>
              </a:solidFill>
              <a:latin typeface="Calibri"/>
            </a:endParaRPr>
          </a:p>
        </p:txBody>
      </p:sp>
      <p:sp>
        <p:nvSpPr>
          <p:cNvPr id="169" name="object 3"/>
          <p:cNvSpPr/>
          <p:nvPr/>
        </p:nvSpPr>
        <p:spPr>
          <a:xfrm>
            <a:off x="9845640" y="1882800"/>
            <a:ext cx="104760" cy="104760"/>
          </a:xfrm>
          <a:custGeom>
            <a:avLst/>
            <a:gdLst/>
            <a:ahLst/>
            <a:rect l="l" t="t" r="r" b="b"/>
            <a:pathLst>
              <a:path w="104775" h="105410">
                <a:moveTo>
                  <a:pt x="59344" y="0"/>
                </a:moveTo>
                <a:lnTo>
                  <a:pt x="45445" y="0"/>
                </a:lnTo>
                <a:lnTo>
                  <a:pt x="38770" y="1341"/>
                </a:lnTo>
                <a:lnTo>
                  <a:pt x="6644" y="25907"/>
                </a:lnTo>
                <a:lnTo>
                  <a:pt x="3992" y="32339"/>
                </a:lnTo>
                <a:lnTo>
                  <a:pt x="1310" y="38770"/>
                </a:lnTo>
                <a:lnTo>
                  <a:pt x="0" y="45445"/>
                </a:lnTo>
                <a:lnTo>
                  <a:pt x="0" y="59344"/>
                </a:lnTo>
                <a:lnTo>
                  <a:pt x="1310" y="66019"/>
                </a:lnTo>
                <a:lnTo>
                  <a:pt x="3992" y="72450"/>
                </a:lnTo>
                <a:lnTo>
                  <a:pt x="6644" y="78851"/>
                </a:lnTo>
                <a:lnTo>
                  <a:pt x="38770" y="103449"/>
                </a:lnTo>
                <a:lnTo>
                  <a:pt x="45445" y="104790"/>
                </a:lnTo>
                <a:lnTo>
                  <a:pt x="59344" y="104790"/>
                </a:lnTo>
                <a:lnTo>
                  <a:pt x="94335" y="84521"/>
                </a:lnTo>
                <a:lnTo>
                  <a:pt x="100766" y="72450"/>
                </a:lnTo>
                <a:lnTo>
                  <a:pt x="103449" y="66019"/>
                </a:lnTo>
                <a:lnTo>
                  <a:pt x="104759" y="59344"/>
                </a:lnTo>
                <a:lnTo>
                  <a:pt x="104759" y="45445"/>
                </a:lnTo>
                <a:lnTo>
                  <a:pt x="103449" y="38770"/>
                </a:lnTo>
                <a:lnTo>
                  <a:pt x="100766" y="32339"/>
                </a:lnTo>
                <a:lnTo>
                  <a:pt x="98115" y="25907"/>
                </a:lnTo>
                <a:lnTo>
                  <a:pt x="94335" y="20238"/>
                </a:lnTo>
                <a:lnTo>
                  <a:pt x="89428" y="15361"/>
                </a:lnTo>
                <a:lnTo>
                  <a:pt x="84521" y="10424"/>
                </a:lnTo>
                <a:lnTo>
                  <a:pt x="78851" y="6644"/>
                </a:lnTo>
                <a:lnTo>
                  <a:pt x="66019" y="1341"/>
                </a:lnTo>
                <a:lnTo>
                  <a:pt x="59344"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0" name="object 4"/>
          <p:cNvSpPr/>
          <p:nvPr/>
        </p:nvSpPr>
        <p:spPr>
          <a:xfrm>
            <a:off x="10109160" y="1719360"/>
            <a:ext cx="1425600" cy="1215000"/>
          </a:xfrm>
          <a:prstGeom prst="rect">
            <a:avLst/>
          </a:prstGeom>
          <a:noFill/>
          <a:ln w="0">
            <a:noFill/>
          </a:ln>
        </p:spPr>
        <p:style>
          <a:lnRef idx="0"/>
          <a:fillRef idx="0"/>
          <a:effectRef idx="0"/>
          <a:fontRef idx="minor"/>
        </p:style>
        <p:txBody>
          <a:bodyPr lIns="0" rIns="0" tIns="0" bIns="0" anchor="t">
            <a:spAutoFit/>
          </a:bodyPr>
          <a:p>
            <a:pPr marL="12600">
              <a:lnSpc>
                <a:spcPct val="13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9b83d"/>
                </a:solidFill>
                <a:latin typeface="Arial"/>
              </a:rPr>
              <a:t>Flight timing</a:t>
            </a:r>
            <a:endParaRPr b="0" lang="en-US" sz="3000" spc="-1" strike="noStrike">
              <a:solidFill>
                <a:srgbClr val="000000"/>
              </a:solidFill>
              <a:latin typeface="Calibri"/>
            </a:endParaRPr>
          </a:p>
        </p:txBody>
      </p:sp>
      <p:sp>
        <p:nvSpPr>
          <p:cNvPr id="171" name="object 5"/>
          <p:cNvSpPr/>
          <p:nvPr/>
        </p:nvSpPr>
        <p:spPr>
          <a:xfrm>
            <a:off x="11777760" y="1719360"/>
            <a:ext cx="38098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3111480"/>
                <a:tab algn="l" pos="3657600"/>
                <a:tab algn="l" pos="4572000"/>
                <a:tab algn="l" pos="5486400"/>
                <a:tab algn="l" pos="6400800"/>
                <a:tab algn="l" pos="7315200"/>
                <a:tab algn="l" pos="8229600"/>
                <a:tab algn="l" pos="9144000"/>
                <a:tab algn="l" pos="10058400"/>
              </a:tabLst>
            </a:pPr>
            <a:r>
              <a:rPr b="0" lang="de-DE" sz="3000" spc="-1" strike="noStrike">
                <a:solidFill>
                  <a:srgbClr val="d9b83d"/>
                </a:solidFill>
                <a:latin typeface="Arial"/>
              </a:rPr>
              <a:t>reservations</a:t>
            </a:r>
            <a:r>
              <a:rPr b="0" lang="de-DE" sz="3000" spc="-1" strike="noStrike">
                <a:solidFill>
                  <a:srgbClr val="d9b83d"/>
                </a:solidFill>
                <a:latin typeface="Arial"/>
              </a:rPr>
              <a:t>	</a:t>
            </a:r>
            <a:r>
              <a:rPr b="0" lang="de-DE" sz="3000" spc="-1" strike="noStrike">
                <a:solidFill>
                  <a:srgbClr val="d9b83d"/>
                </a:solidFill>
                <a:latin typeface="Arial"/>
              </a:rPr>
              <a:t>and</a:t>
            </a:r>
            <a:endParaRPr b="0" lang="en-US" sz="3000" spc="-1" strike="noStrike">
              <a:solidFill>
                <a:srgbClr val="000000"/>
              </a:solidFill>
              <a:latin typeface="Calibri"/>
            </a:endParaRPr>
          </a:p>
        </p:txBody>
      </p:sp>
      <p:sp>
        <p:nvSpPr>
          <p:cNvPr id="172" name="object 6"/>
          <p:cNvSpPr/>
          <p:nvPr/>
        </p:nvSpPr>
        <p:spPr>
          <a:xfrm>
            <a:off x="9836280" y="3251160"/>
            <a:ext cx="95040" cy="93600"/>
          </a:xfrm>
          <a:custGeom>
            <a:avLst/>
            <a:gdLst/>
            <a:ahLst/>
            <a:rect l="l" t="t" r="r" b="b"/>
            <a:pathLst>
              <a:path w="95250" h="93345">
                <a:moveTo>
                  <a:pt x="35635" y="0"/>
                </a:moveTo>
                <a:lnTo>
                  <a:pt x="1449" y="34720"/>
                </a:lnTo>
                <a:lnTo>
                  <a:pt x="0" y="48789"/>
                </a:lnTo>
                <a:lnTo>
                  <a:pt x="2114" y="60438"/>
                </a:lnTo>
                <a:lnTo>
                  <a:pt x="39061" y="92445"/>
                </a:lnTo>
                <a:lnTo>
                  <a:pt x="54785" y="93286"/>
                </a:lnTo>
                <a:lnTo>
                  <a:pt x="65114" y="90050"/>
                </a:lnTo>
                <a:lnTo>
                  <a:pt x="76045" y="82947"/>
                </a:lnTo>
                <a:lnTo>
                  <a:pt x="88427" y="70897"/>
                </a:lnTo>
                <a:lnTo>
                  <a:pt x="93499" y="59254"/>
                </a:lnTo>
                <a:lnTo>
                  <a:pt x="95188" y="46219"/>
                </a:lnTo>
                <a:lnTo>
                  <a:pt x="94941" y="41185"/>
                </a:lnTo>
                <a:lnTo>
                  <a:pt x="75076" y="7338"/>
                </a:lnTo>
                <a:lnTo>
                  <a:pt x="35635"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3" name="object 7"/>
          <p:cNvSpPr/>
          <p:nvPr/>
        </p:nvSpPr>
        <p:spPr>
          <a:xfrm>
            <a:off x="10076040" y="3089160"/>
            <a:ext cx="33429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4456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Get</a:t>
            </a:r>
            <a:r>
              <a:rPr b="0" lang="de-DE" sz="2800" spc="-1" strike="noStrike">
                <a:solidFill>
                  <a:srgbClr val="d9b83d"/>
                </a:solidFill>
                <a:latin typeface="Arial"/>
              </a:rPr>
              <a:t>	</a:t>
            </a:r>
            <a:r>
              <a:rPr b="0" lang="de-DE" sz="2800" spc="-1" strike="noStrike">
                <a:solidFill>
                  <a:srgbClr val="d9b83d"/>
                </a:solidFill>
                <a:latin typeface="Arial"/>
              </a:rPr>
              <a:t>vaccinations</a:t>
            </a:r>
            <a:endParaRPr b="0" lang="en-US" sz="2800" spc="-1" strike="noStrike">
              <a:solidFill>
                <a:srgbClr val="000000"/>
              </a:solidFill>
              <a:latin typeface="Calibri"/>
            </a:endParaRPr>
          </a:p>
        </p:txBody>
      </p:sp>
      <p:sp>
        <p:nvSpPr>
          <p:cNvPr id="174" name="object 8"/>
          <p:cNvSpPr/>
          <p:nvPr/>
        </p:nvSpPr>
        <p:spPr>
          <a:xfrm>
            <a:off x="13615920" y="3089160"/>
            <a:ext cx="334476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271944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if</a:t>
            </a:r>
            <a:r>
              <a:rPr b="0" lang="de-DE" sz="2800" spc="-1" strike="noStrike">
                <a:solidFill>
                  <a:srgbClr val="d9b83d"/>
                </a:solidFill>
                <a:latin typeface="Arial"/>
              </a:rPr>
              <a:t>	</a:t>
            </a:r>
            <a:r>
              <a:rPr b="0" lang="de-DE" sz="2800" spc="-1" strike="noStrike">
                <a:solidFill>
                  <a:srgbClr val="d9b83d"/>
                </a:solidFill>
                <a:latin typeface="Arial"/>
              </a:rPr>
              <a:t>required,</a:t>
            </a:r>
            <a:r>
              <a:rPr b="0" lang="de-DE" sz="2800" spc="-1" strike="noStrike">
                <a:solidFill>
                  <a:srgbClr val="d9b83d"/>
                </a:solidFill>
                <a:latin typeface="Arial"/>
              </a:rPr>
              <a:t>	</a:t>
            </a:r>
            <a:r>
              <a:rPr b="0" lang="de-DE" sz="2800" spc="-1" strike="noStrike">
                <a:solidFill>
                  <a:srgbClr val="d9b83d"/>
                </a:solidFill>
                <a:latin typeface="Arial"/>
              </a:rPr>
              <a:t>and</a:t>
            </a:r>
            <a:endParaRPr b="0" lang="en-US" sz="2800" spc="-1" strike="noStrike">
              <a:solidFill>
                <a:srgbClr val="000000"/>
              </a:solidFill>
              <a:latin typeface="Calibri"/>
            </a:endParaRPr>
          </a:p>
        </p:txBody>
      </p:sp>
      <p:sp>
        <p:nvSpPr>
          <p:cNvPr id="175" name="object 9"/>
          <p:cNvSpPr/>
          <p:nvPr/>
        </p:nvSpPr>
        <p:spPr>
          <a:xfrm>
            <a:off x="10076040" y="3584520"/>
            <a:ext cx="105228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check after</a:t>
            </a:r>
            <a:endParaRPr b="0" lang="en-US" sz="2800" spc="-1" strike="noStrike">
              <a:solidFill>
                <a:srgbClr val="000000"/>
              </a:solidFill>
              <a:latin typeface="Calibri"/>
            </a:endParaRPr>
          </a:p>
        </p:txBody>
      </p:sp>
      <p:sp>
        <p:nvSpPr>
          <p:cNvPr id="176" name="object 10"/>
          <p:cNvSpPr/>
          <p:nvPr/>
        </p:nvSpPr>
        <p:spPr>
          <a:xfrm>
            <a:off x="11325240" y="3584520"/>
            <a:ext cx="167796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whether reaching</a:t>
            </a:r>
            <a:endParaRPr b="0" lang="en-US" sz="2800" spc="-1" strike="noStrike">
              <a:solidFill>
                <a:srgbClr val="000000"/>
              </a:solidFill>
              <a:latin typeface="Calibri"/>
            </a:endParaRPr>
          </a:p>
        </p:txBody>
      </p:sp>
      <p:sp>
        <p:nvSpPr>
          <p:cNvPr id="177" name="object 11"/>
          <p:cNvSpPr/>
          <p:nvPr/>
        </p:nvSpPr>
        <p:spPr>
          <a:xfrm>
            <a:off x="12992040" y="3584520"/>
            <a:ext cx="1260360" cy="989640"/>
          </a:xfrm>
          <a:prstGeom prst="rect">
            <a:avLst/>
          </a:prstGeom>
          <a:noFill/>
          <a:ln w="0">
            <a:noFill/>
          </a:ln>
        </p:spPr>
        <p:style>
          <a:lnRef idx="0"/>
          <a:fillRef idx="0"/>
          <a:effectRef idx="0"/>
          <a:fontRef idx="minor"/>
        </p:style>
        <p:txBody>
          <a:bodyPr lIns="0" rIns="0" tIns="0" bIns="0" anchor="t">
            <a:spAutoFit/>
          </a:bodyPr>
          <a:p>
            <a:pPr marL="220680" indent="-20808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you’ll your</a:t>
            </a:r>
            <a:endParaRPr b="0" lang="en-US" sz="2800" spc="-1" strike="noStrike">
              <a:solidFill>
                <a:srgbClr val="000000"/>
              </a:solidFill>
              <a:latin typeface="Calibri"/>
            </a:endParaRPr>
          </a:p>
        </p:txBody>
      </p:sp>
      <p:sp>
        <p:nvSpPr>
          <p:cNvPr id="178" name="object 12"/>
          <p:cNvSpPr/>
          <p:nvPr/>
        </p:nvSpPr>
        <p:spPr>
          <a:xfrm>
            <a:off x="14449320" y="3584520"/>
            <a:ext cx="14702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526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need</a:t>
            </a:r>
            <a:r>
              <a:rPr b="0" lang="de-DE" sz="2800" spc="-1" strike="noStrike">
                <a:solidFill>
                  <a:srgbClr val="d9b83d"/>
                </a:solidFill>
                <a:latin typeface="Arial"/>
              </a:rPr>
              <a:t>	</a:t>
            </a:r>
            <a:r>
              <a:rPr b="0" lang="de-DE" sz="2800" spc="-1" strike="noStrike">
                <a:solidFill>
                  <a:srgbClr val="d9b83d"/>
                </a:solidFill>
                <a:latin typeface="Arial"/>
              </a:rPr>
              <a:t>it</a:t>
            </a:r>
            <a:endParaRPr b="0" lang="en-US" sz="2800" spc="-1" strike="noStrike">
              <a:solidFill>
                <a:srgbClr val="000000"/>
              </a:solidFill>
              <a:latin typeface="Calibri"/>
            </a:endParaRPr>
          </a:p>
        </p:txBody>
      </p:sp>
      <p:sp>
        <p:nvSpPr>
          <p:cNvPr id="179" name="object 13"/>
          <p:cNvSpPr/>
          <p:nvPr/>
        </p:nvSpPr>
        <p:spPr>
          <a:xfrm>
            <a:off x="14241600" y="4079880"/>
            <a:ext cx="23018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destination</a:t>
            </a:r>
            <a:endParaRPr b="0" lang="en-US" sz="2800" spc="-1" strike="noStrike">
              <a:solidFill>
                <a:srgbClr val="000000"/>
              </a:solidFill>
              <a:latin typeface="Calibri"/>
            </a:endParaRPr>
          </a:p>
        </p:txBody>
      </p:sp>
      <p:sp>
        <p:nvSpPr>
          <p:cNvPr id="180" name="object 14"/>
          <p:cNvSpPr/>
          <p:nvPr/>
        </p:nvSpPr>
        <p:spPr>
          <a:xfrm>
            <a:off x="10076040" y="4575240"/>
            <a:ext cx="146844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or</a:t>
            </a:r>
            <a:r>
              <a:rPr b="0" lang="de-DE" sz="2800" spc="-1" strike="noStrike">
                <a:solidFill>
                  <a:srgbClr val="d9b83d"/>
                </a:solidFill>
                <a:latin typeface="Arial"/>
              </a:rPr>
              <a:t>	</a:t>
            </a:r>
            <a:r>
              <a:rPr b="0" lang="de-DE" sz="2800" spc="-1" strike="noStrike">
                <a:solidFill>
                  <a:srgbClr val="d9b83d"/>
                </a:solidFill>
                <a:latin typeface="Arial"/>
              </a:rPr>
              <a:t>not?</a:t>
            </a:r>
            <a:endParaRPr b="0" lang="en-US" sz="2800" spc="-1" strike="noStrike">
              <a:solidFill>
                <a:srgbClr val="000000"/>
              </a:solidFill>
              <a:latin typeface="Calibri"/>
            </a:endParaRPr>
          </a:p>
        </p:txBody>
      </p:sp>
      <p:sp>
        <p:nvSpPr>
          <p:cNvPr id="181" name="object 15"/>
          <p:cNvSpPr/>
          <p:nvPr/>
        </p:nvSpPr>
        <p:spPr>
          <a:xfrm>
            <a:off x="9836280" y="5743440"/>
            <a:ext cx="99720" cy="100080"/>
          </a:xfrm>
          <a:custGeom>
            <a:avLst/>
            <a:gdLst/>
            <a:ahLst/>
            <a:rect l="l" t="t" r="r" b="b"/>
            <a:pathLst>
              <a:path w="100965" h="100964">
                <a:moveTo>
                  <a:pt x="48257" y="0"/>
                </a:moveTo>
                <a:lnTo>
                  <a:pt x="13521" y="15876"/>
                </a:lnTo>
                <a:lnTo>
                  <a:pt x="0" y="51554"/>
                </a:lnTo>
                <a:lnTo>
                  <a:pt x="1879" y="64232"/>
                </a:lnTo>
                <a:lnTo>
                  <a:pt x="25782" y="94186"/>
                </a:lnTo>
                <a:lnTo>
                  <a:pt x="50928" y="100394"/>
                </a:lnTo>
                <a:lnTo>
                  <a:pt x="63843" y="98637"/>
                </a:lnTo>
                <a:lnTo>
                  <a:pt x="93992" y="75013"/>
                </a:lnTo>
                <a:lnTo>
                  <a:pt x="100415" y="50167"/>
                </a:lnTo>
                <a:lnTo>
                  <a:pt x="100364" y="47760"/>
                </a:lnTo>
                <a:lnTo>
                  <a:pt x="84129" y="13128"/>
                </a:lnTo>
                <a:lnTo>
                  <a:pt x="48257"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2" name="object 16"/>
          <p:cNvSpPr/>
          <p:nvPr/>
        </p:nvSpPr>
        <p:spPr>
          <a:xfrm>
            <a:off x="10088640" y="5586480"/>
            <a:ext cx="2738520" cy="1151640"/>
          </a:xfrm>
          <a:prstGeom prst="rect">
            <a:avLst/>
          </a:prstGeom>
          <a:noFill/>
          <a:ln w="0">
            <a:noFill/>
          </a:ln>
        </p:spPr>
        <p:style>
          <a:lnRef idx="0"/>
          <a:fillRef idx="0"/>
          <a:effectRef idx="0"/>
          <a:fontRef idx="minor"/>
        </p:style>
        <p:txBody>
          <a:bodyPr lIns="0" rIns="0" tIns="0" bIns="0" anchor="t">
            <a:spAutoFit/>
          </a:bodyPr>
          <a:p>
            <a:pPr marL="12600">
              <a:lnSpc>
                <a:spcPct val="135000"/>
              </a:lnSpc>
              <a:tabLst>
                <a:tab algn="l" pos="0"/>
                <a:tab algn="l" pos="1382760"/>
                <a:tab algn="l" pos="20685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Check-in</a:t>
            </a:r>
            <a:r>
              <a:rPr b="0" lang="en-US" sz="2800" spc="-1" strike="noStrike">
                <a:solidFill>
                  <a:srgbClr val="d9b83d"/>
                </a:solidFill>
                <a:latin typeface="Arial"/>
              </a:rPr>
              <a:t>	</a:t>
            </a:r>
            <a:r>
              <a:rPr b="0" lang="en-US" sz="2800" spc="-1" strike="noStrike">
                <a:solidFill>
                  <a:srgbClr val="d9b83d"/>
                </a:solidFill>
                <a:latin typeface="Arial"/>
              </a:rPr>
              <a:t>and seats</a:t>
            </a:r>
            <a:r>
              <a:rPr b="0" lang="en-US" sz="2800" spc="-1" strike="noStrike">
                <a:solidFill>
                  <a:srgbClr val="d9b83d"/>
                </a:solidFill>
                <a:latin typeface="Arial"/>
              </a:rPr>
              <a:t>	</a:t>
            </a:r>
            <a:r>
              <a:rPr b="0" lang="en-US" sz="2800" spc="-1" strike="noStrike">
                <a:solidFill>
                  <a:srgbClr val="d9b83d"/>
                </a:solidFill>
                <a:latin typeface="Arial"/>
              </a:rPr>
              <a:t>online</a:t>
            </a:r>
            <a:endParaRPr b="0" lang="en-US" sz="2800" spc="-1" strike="noStrike">
              <a:solidFill>
                <a:srgbClr val="000000"/>
              </a:solidFill>
              <a:latin typeface="Calibri"/>
            </a:endParaRPr>
          </a:p>
        </p:txBody>
      </p:sp>
      <p:sp>
        <p:nvSpPr>
          <p:cNvPr id="183" name="object 17"/>
          <p:cNvSpPr/>
          <p:nvPr/>
        </p:nvSpPr>
        <p:spPr>
          <a:xfrm>
            <a:off x="13058640" y="5586480"/>
            <a:ext cx="18259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pre-book</a:t>
            </a:r>
            <a:endParaRPr b="0" lang="en-US" sz="2800" spc="-1" strike="noStrike">
              <a:solidFill>
                <a:srgbClr val="000000"/>
              </a:solidFill>
              <a:latin typeface="Calibri"/>
            </a:endParaRPr>
          </a:p>
        </p:txBody>
      </p:sp>
      <p:sp>
        <p:nvSpPr>
          <p:cNvPr id="184" name="object 18"/>
          <p:cNvSpPr/>
          <p:nvPr/>
        </p:nvSpPr>
        <p:spPr>
          <a:xfrm>
            <a:off x="15116040" y="5586480"/>
            <a:ext cx="9115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your</a:t>
            </a:r>
            <a:endParaRPr b="0" lang="en-US" sz="2800" spc="-1" strike="noStrike">
              <a:solidFill>
                <a:srgbClr val="000000"/>
              </a:solidFill>
              <a:latin typeface="Calibri"/>
            </a:endParaRPr>
          </a:p>
        </p:txBody>
      </p:sp>
      <p:sp>
        <p:nvSpPr>
          <p:cNvPr id="185" name="object 19"/>
          <p:cNvSpPr/>
          <p:nvPr/>
        </p:nvSpPr>
        <p:spPr>
          <a:xfrm>
            <a:off x="9836280" y="7605720"/>
            <a:ext cx="95040" cy="93600"/>
          </a:xfrm>
          <a:custGeom>
            <a:avLst/>
            <a:gdLst/>
            <a:ahLst/>
            <a:rect l="l" t="t" r="r" b="b"/>
            <a:pathLst>
              <a:path w="95250" h="93345">
                <a:moveTo>
                  <a:pt x="35636" y="0"/>
                </a:moveTo>
                <a:lnTo>
                  <a:pt x="1449" y="34722"/>
                </a:lnTo>
                <a:lnTo>
                  <a:pt x="0" y="48786"/>
                </a:lnTo>
                <a:lnTo>
                  <a:pt x="2115" y="60445"/>
                </a:lnTo>
                <a:lnTo>
                  <a:pt x="39063" y="92444"/>
                </a:lnTo>
                <a:lnTo>
                  <a:pt x="54785" y="93287"/>
                </a:lnTo>
                <a:lnTo>
                  <a:pt x="65114" y="90048"/>
                </a:lnTo>
                <a:lnTo>
                  <a:pt x="76045" y="82944"/>
                </a:lnTo>
                <a:lnTo>
                  <a:pt x="88428" y="70901"/>
                </a:lnTo>
                <a:lnTo>
                  <a:pt x="93499" y="59256"/>
                </a:lnTo>
                <a:lnTo>
                  <a:pt x="95188" y="46207"/>
                </a:lnTo>
                <a:lnTo>
                  <a:pt x="94941" y="41187"/>
                </a:lnTo>
                <a:lnTo>
                  <a:pt x="75078" y="7335"/>
                </a:lnTo>
                <a:lnTo>
                  <a:pt x="35636" y="0"/>
                </a:lnTo>
                <a:close/>
              </a:path>
            </a:pathLst>
          </a:custGeom>
          <a:solidFill>
            <a:srgbClr val="d9b83d"/>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6" name="object 20"/>
          <p:cNvSpPr/>
          <p:nvPr/>
        </p:nvSpPr>
        <p:spPr>
          <a:xfrm>
            <a:off x="10076040" y="7443720"/>
            <a:ext cx="1468440" cy="989640"/>
          </a:xfrm>
          <a:prstGeom prst="rect">
            <a:avLst/>
          </a:prstGeom>
          <a:noFill/>
          <a:ln w="0">
            <a:noFill/>
          </a:ln>
        </p:spPr>
        <p:style>
          <a:lnRef idx="0"/>
          <a:fillRef idx="0"/>
          <a:effectRef idx="0"/>
          <a:fontRef idx="minor"/>
        </p:style>
        <p:txBody>
          <a:bodyPr lIns="0" rIns="0" tIns="0" bIns="0" anchor="t">
            <a:spAutoFit/>
          </a:bodyPr>
          <a:p>
            <a:pPr marL="12600">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9b83d"/>
                </a:solidFill>
                <a:latin typeface="Arial"/>
              </a:rPr>
              <a:t>Request in</a:t>
            </a:r>
            <a:endParaRPr b="0" lang="en-US" sz="2800" spc="-1" strike="noStrike">
              <a:solidFill>
                <a:srgbClr val="000000"/>
              </a:solidFill>
              <a:latin typeface="Calibri"/>
            </a:endParaRPr>
          </a:p>
        </p:txBody>
      </p:sp>
      <p:sp>
        <p:nvSpPr>
          <p:cNvPr id="187" name="object 21"/>
          <p:cNvSpPr/>
          <p:nvPr/>
        </p:nvSpPr>
        <p:spPr>
          <a:xfrm>
            <a:off x="11741040" y="7443720"/>
            <a:ext cx="105408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early</a:t>
            </a:r>
            <a:endParaRPr b="0" lang="en-US" sz="2800" spc="-1" strike="noStrike">
              <a:solidFill>
                <a:srgbClr val="000000"/>
              </a:solidFill>
              <a:latin typeface="Calibri"/>
            </a:endParaRPr>
          </a:p>
        </p:txBody>
      </p:sp>
      <p:sp>
        <p:nvSpPr>
          <p:cNvPr id="188" name="object 22"/>
          <p:cNvSpPr/>
          <p:nvPr/>
        </p:nvSpPr>
        <p:spPr>
          <a:xfrm>
            <a:off x="12992040" y="7443720"/>
            <a:ext cx="167652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boarding</a:t>
            </a:r>
            <a:endParaRPr b="0" lang="en-US" sz="2800" spc="-1" strike="noStrike">
              <a:solidFill>
                <a:srgbClr val="000000"/>
              </a:solidFill>
              <a:latin typeface="Calibri"/>
            </a:endParaRPr>
          </a:p>
        </p:txBody>
      </p:sp>
      <p:sp>
        <p:nvSpPr>
          <p:cNvPr id="189" name="object 23"/>
          <p:cNvSpPr/>
          <p:nvPr/>
        </p:nvSpPr>
        <p:spPr>
          <a:xfrm>
            <a:off x="14865480" y="7443720"/>
            <a:ext cx="1885680" cy="4269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d9b83d"/>
                </a:solidFill>
                <a:latin typeface="Arial"/>
              </a:rPr>
              <a:t>at</a:t>
            </a:r>
            <a:r>
              <a:rPr b="0" lang="de-DE" sz="2800" spc="-1" strike="noStrike">
                <a:solidFill>
                  <a:srgbClr val="d9b83d"/>
                </a:solidFill>
                <a:latin typeface="Arial"/>
              </a:rPr>
              <a:t>	</a:t>
            </a:r>
            <a:r>
              <a:rPr b="0" lang="de-DE" sz="2800" spc="-1" strike="noStrike">
                <a:solidFill>
                  <a:srgbClr val="d9b83d"/>
                </a:solidFill>
                <a:latin typeface="Arial"/>
              </a:rPr>
              <a:t>check-</a:t>
            </a:r>
            <a:endParaRPr b="0" lang="en-US" sz="2800" spc="-1" strike="noStrike">
              <a:solidFill>
                <a:srgbClr val="000000"/>
              </a:solidFill>
              <a:latin typeface="Calibri"/>
            </a:endParaRPr>
          </a:p>
        </p:txBody>
      </p:sp>
      <p:sp>
        <p:nvSpPr>
          <p:cNvPr id="190" name="object 24"/>
          <p:cNvSpPr/>
          <p:nvPr/>
        </p:nvSpPr>
        <p:spPr>
          <a:xfrm>
            <a:off x="8393040" y="1190520"/>
            <a:ext cx="513000" cy="775980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bject 25"/>
          <p:cNvSpPr/>
          <p:nvPr/>
        </p:nvSpPr>
        <p:spPr>
          <a:xfrm>
            <a:off x="0" y="7342200"/>
            <a:ext cx="1025640" cy="24192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bject 26"/>
          <p:cNvSpPr/>
          <p:nvPr/>
        </p:nvSpPr>
        <p:spPr>
          <a:xfrm>
            <a:off x="0" y="9953640"/>
            <a:ext cx="669960" cy="3333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bject 27"/>
          <p:cNvSpPr/>
          <p:nvPr/>
        </p:nvSpPr>
        <p:spPr>
          <a:xfrm>
            <a:off x="901800" y="9953640"/>
            <a:ext cx="676080" cy="333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bject 28"/>
          <p:cNvSpPr/>
          <p:nvPr/>
        </p:nvSpPr>
        <p:spPr>
          <a:xfrm>
            <a:off x="1808280" y="9982080"/>
            <a:ext cx="93600" cy="304920"/>
          </a:xfrm>
          <a:custGeom>
            <a:avLst/>
            <a:gdLst/>
            <a:ahLst/>
            <a:rect l="l" t="t" r="r" b="b"/>
            <a:pathLst>
              <a:path w="93344" h="304165">
                <a:moveTo>
                  <a:pt x="4576" y="0"/>
                </a:moveTo>
                <a:lnTo>
                  <a:pt x="713" y="57070"/>
                </a:lnTo>
                <a:lnTo>
                  <a:pt x="75" y="105932"/>
                </a:lnTo>
                <a:lnTo>
                  <a:pt x="0" y="137534"/>
                </a:lnTo>
                <a:lnTo>
                  <a:pt x="33" y="154960"/>
                </a:lnTo>
                <a:lnTo>
                  <a:pt x="485" y="204098"/>
                </a:lnTo>
                <a:lnTo>
                  <a:pt x="1327" y="253290"/>
                </a:lnTo>
                <a:lnTo>
                  <a:pt x="2499" y="304048"/>
                </a:lnTo>
                <a:lnTo>
                  <a:pt x="93349" y="304048"/>
                </a:lnTo>
                <a:lnTo>
                  <a:pt x="88915" y="253272"/>
                </a:lnTo>
                <a:lnTo>
                  <a:pt x="87220" y="239715"/>
                </a:lnTo>
                <a:lnTo>
                  <a:pt x="86427" y="227453"/>
                </a:lnTo>
                <a:lnTo>
                  <a:pt x="86057" y="214898"/>
                </a:lnTo>
                <a:lnTo>
                  <a:pt x="86004" y="202125"/>
                </a:lnTo>
                <a:lnTo>
                  <a:pt x="86162" y="189206"/>
                </a:lnTo>
                <a:lnTo>
                  <a:pt x="86693" y="163223"/>
                </a:lnTo>
                <a:lnTo>
                  <a:pt x="86854" y="150305"/>
                </a:lnTo>
                <a:lnTo>
                  <a:pt x="86805" y="137534"/>
                </a:lnTo>
                <a:lnTo>
                  <a:pt x="86441" y="124983"/>
                </a:lnTo>
                <a:lnTo>
                  <a:pt x="85656" y="112724"/>
                </a:lnTo>
                <a:lnTo>
                  <a:pt x="84346" y="100832"/>
                </a:lnTo>
                <a:lnTo>
                  <a:pt x="84239" y="89670"/>
                </a:lnTo>
                <a:lnTo>
                  <a:pt x="85270" y="76413"/>
                </a:lnTo>
                <a:lnTo>
                  <a:pt x="84900" y="63983"/>
                </a:lnTo>
                <a:lnTo>
                  <a:pt x="84529" y="63196"/>
                </a:lnTo>
                <a:lnTo>
                  <a:pt x="78814" y="63196"/>
                </a:lnTo>
                <a:lnTo>
                  <a:pt x="78179" y="54648"/>
                </a:lnTo>
                <a:lnTo>
                  <a:pt x="70941" y="54648"/>
                </a:lnTo>
                <a:lnTo>
                  <a:pt x="64644" y="47467"/>
                </a:lnTo>
                <a:lnTo>
                  <a:pt x="65502" y="34407"/>
                </a:lnTo>
                <a:lnTo>
                  <a:pt x="65431" y="31538"/>
                </a:lnTo>
                <a:lnTo>
                  <a:pt x="46057" y="31538"/>
                </a:lnTo>
                <a:lnTo>
                  <a:pt x="46057" y="25232"/>
                </a:lnTo>
                <a:lnTo>
                  <a:pt x="34212" y="25232"/>
                </a:lnTo>
                <a:lnTo>
                  <a:pt x="27277" y="13059"/>
                </a:lnTo>
                <a:lnTo>
                  <a:pt x="15421" y="13059"/>
                </a:lnTo>
                <a:lnTo>
                  <a:pt x="13422" y="8990"/>
                </a:lnTo>
                <a:lnTo>
                  <a:pt x="8640" y="1337"/>
                </a:lnTo>
                <a:lnTo>
                  <a:pt x="4576" y="0"/>
                </a:lnTo>
                <a:close/>
              </a:path>
              <a:path w="93344" h="304165">
                <a:moveTo>
                  <a:pt x="80490" y="54648"/>
                </a:moveTo>
                <a:lnTo>
                  <a:pt x="78814" y="63196"/>
                </a:lnTo>
                <a:lnTo>
                  <a:pt x="84529" y="63196"/>
                </a:lnTo>
                <a:lnTo>
                  <a:pt x="80490" y="54648"/>
                </a:lnTo>
                <a:close/>
              </a:path>
              <a:path w="93344" h="304165">
                <a:moveTo>
                  <a:pt x="78609" y="26918"/>
                </a:moveTo>
                <a:lnTo>
                  <a:pt x="72821" y="26918"/>
                </a:lnTo>
                <a:lnTo>
                  <a:pt x="71153" y="28968"/>
                </a:lnTo>
                <a:lnTo>
                  <a:pt x="71759" y="42266"/>
                </a:lnTo>
                <a:lnTo>
                  <a:pt x="70941" y="54648"/>
                </a:lnTo>
                <a:lnTo>
                  <a:pt x="78179" y="54648"/>
                </a:lnTo>
                <a:lnTo>
                  <a:pt x="77915" y="51109"/>
                </a:lnTo>
                <a:lnTo>
                  <a:pt x="78787" y="39017"/>
                </a:lnTo>
                <a:lnTo>
                  <a:pt x="78609" y="26918"/>
                </a:lnTo>
                <a:close/>
              </a:path>
              <a:path w="93344" h="304165">
                <a:moveTo>
                  <a:pt x="65201" y="22311"/>
                </a:moveTo>
                <a:lnTo>
                  <a:pt x="55606" y="22311"/>
                </a:lnTo>
                <a:lnTo>
                  <a:pt x="55606" y="31538"/>
                </a:lnTo>
                <a:lnTo>
                  <a:pt x="65431" y="31538"/>
                </a:lnTo>
                <a:lnTo>
                  <a:pt x="65201" y="22311"/>
                </a:lnTo>
                <a:close/>
              </a:path>
              <a:path w="93344" h="304165">
                <a:moveTo>
                  <a:pt x="38376" y="17679"/>
                </a:moveTo>
                <a:lnTo>
                  <a:pt x="36495" y="22311"/>
                </a:lnTo>
                <a:lnTo>
                  <a:pt x="34212" y="25232"/>
                </a:lnTo>
                <a:lnTo>
                  <a:pt x="46057" y="25232"/>
                </a:lnTo>
                <a:lnTo>
                  <a:pt x="46057" y="22311"/>
                </a:lnTo>
                <a:lnTo>
                  <a:pt x="42235" y="22311"/>
                </a:lnTo>
                <a:lnTo>
                  <a:pt x="38376" y="17679"/>
                </a:lnTo>
                <a:close/>
              </a:path>
              <a:path w="93344" h="304165">
                <a:moveTo>
                  <a:pt x="19280" y="8440"/>
                </a:moveTo>
                <a:lnTo>
                  <a:pt x="21161" y="13059"/>
                </a:lnTo>
                <a:lnTo>
                  <a:pt x="27277" y="13059"/>
                </a:lnTo>
                <a:lnTo>
                  <a:pt x="27036" y="12637"/>
                </a:lnTo>
                <a:lnTo>
                  <a:pt x="19280" y="844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5" name="object 29"/>
          <p:cNvSpPr/>
          <p:nvPr/>
        </p:nvSpPr>
        <p:spPr>
          <a:xfrm>
            <a:off x="736560" y="9953640"/>
            <a:ext cx="95400" cy="333360"/>
          </a:xfrm>
          <a:custGeom>
            <a:avLst/>
            <a:gdLst/>
            <a:ahLst/>
            <a:rect l="l" t="t" r="r" b="b"/>
            <a:pathLst>
              <a:path w="95884" h="334009">
                <a:moveTo>
                  <a:pt x="3809" y="84320"/>
                </a:moveTo>
                <a:lnTo>
                  <a:pt x="0" y="86444"/>
                </a:lnTo>
                <a:lnTo>
                  <a:pt x="31" y="110224"/>
                </a:lnTo>
                <a:lnTo>
                  <a:pt x="97" y="122319"/>
                </a:lnTo>
                <a:lnTo>
                  <a:pt x="1117" y="172053"/>
                </a:lnTo>
                <a:lnTo>
                  <a:pt x="3184" y="210759"/>
                </a:lnTo>
                <a:lnTo>
                  <a:pt x="6910" y="250653"/>
                </a:lnTo>
                <a:lnTo>
                  <a:pt x="8605" y="264212"/>
                </a:lnTo>
                <a:lnTo>
                  <a:pt x="9398" y="276470"/>
                </a:lnTo>
                <a:lnTo>
                  <a:pt x="9768" y="289022"/>
                </a:lnTo>
                <a:lnTo>
                  <a:pt x="9821" y="301793"/>
                </a:lnTo>
                <a:lnTo>
                  <a:pt x="9663" y="314711"/>
                </a:lnTo>
                <a:lnTo>
                  <a:pt x="9279" y="333530"/>
                </a:lnTo>
                <a:lnTo>
                  <a:pt x="95676" y="333530"/>
                </a:lnTo>
                <a:lnTo>
                  <a:pt x="94955" y="275230"/>
                </a:lnTo>
                <a:lnTo>
                  <a:pt x="93957" y="226030"/>
                </a:lnTo>
                <a:lnTo>
                  <a:pt x="92723" y="176856"/>
                </a:lnTo>
                <a:lnTo>
                  <a:pt x="91354" y="127766"/>
                </a:lnTo>
                <a:lnTo>
                  <a:pt x="90627" y="102329"/>
                </a:lnTo>
                <a:lnTo>
                  <a:pt x="39552" y="102329"/>
                </a:lnTo>
                <a:lnTo>
                  <a:pt x="37783" y="96893"/>
                </a:lnTo>
                <a:lnTo>
                  <a:pt x="36975" y="88928"/>
                </a:lnTo>
                <a:lnTo>
                  <a:pt x="9549" y="88928"/>
                </a:lnTo>
                <a:lnTo>
                  <a:pt x="3809" y="84320"/>
                </a:lnTo>
                <a:close/>
              </a:path>
              <a:path w="95884" h="334009">
                <a:moveTo>
                  <a:pt x="54808" y="70675"/>
                </a:moveTo>
                <a:lnTo>
                  <a:pt x="45543" y="74219"/>
                </a:lnTo>
                <a:lnTo>
                  <a:pt x="44129" y="87523"/>
                </a:lnTo>
                <a:lnTo>
                  <a:pt x="42021" y="98456"/>
                </a:lnTo>
                <a:lnTo>
                  <a:pt x="39552" y="102329"/>
                </a:lnTo>
                <a:lnTo>
                  <a:pt x="90627" y="102329"/>
                </a:lnTo>
                <a:lnTo>
                  <a:pt x="89756" y="71667"/>
                </a:lnTo>
                <a:lnTo>
                  <a:pt x="62626" y="71667"/>
                </a:lnTo>
                <a:lnTo>
                  <a:pt x="54808" y="70675"/>
                </a:lnTo>
                <a:close/>
              </a:path>
              <a:path w="95884" h="334009">
                <a:moveTo>
                  <a:pt x="36362" y="65842"/>
                </a:moveTo>
                <a:lnTo>
                  <a:pt x="30397" y="65857"/>
                </a:lnTo>
                <a:lnTo>
                  <a:pt x="20288" y="68864"/>
                </a:lnTo>
                <a:lnTo>
                  <a:pt x="11478" y="84320"/>
                </a:lnTo>
                <a:lnTo>
                  <a:pt x="9549" y="88928"/>
                </a:lnTo>
                <a:lnTo>
                  <a:pt x="36975" y="88928"/>
                </a:lnTo>
                <a:lnTo>
                  <a:pt x="36718" y="86392"/>
                </a:lnTo>
                <a:lnTo>
                  <a:pt x="36507" y="79689"/>
                </a:lnTo>
                <a:lnTo>
                  <a:pt x="32552" y="79689"/>
                </a:lnTo>
                <a:lnTo>
                  <a:pt x="36362" y="65842"/>
                </a:lnTo>
                <a:close/>
              </a:path>
              <a:path w="95884" h="334009">
                <a:moveTo>
                  <a:pt x="36362" y="75069"/>
                </a:moveTo>
                <a:lnTo>
                  <a:pt x="32552" y="79689"/>
                </a:lnTo>
                <a:lnTo>
                  <a:pt x="36507" y="79689"/>
                </a:lnTo>
                <a:lnTo>
                  <a:pt x="36362" y="75069"/>
                </a:lnTo>
                <a:close/>
              </a:path>
              <a:path w="95884" h="334009">
                <a:moveTo>
                  <a:pt x="68924" y="47351"/>
                </a:moveTo>
                <a:lnTo>
                  <a:pt x="65068" y="51971"/>
                </a:lnTo>
                <a:lnTo>
                  <a:pt x="62626" y="71667"/>
                </a:lnTo>
                <a:lnTo>
                  <a:pt x="89756" y="71667"/>
                </a:lnTo>
                <a:lnTo>
                  <a:pt x="89337" y="56591"/>
                </a:lnTo>
                <a:lnTo>
                  <a:pt x="76544" y="56591"/>
                </a:lnTo>
                <a:lnTo>
                  <a:pt x="68924" y="47351"/>
                </a:lnTo>
                <a:close/>
              </a:path>
              <a:path w="95884" h="334009">
                <a:moveTo>
                  <a:pt x="86848" y="0"/>
                </a:moveTo>
                <a:lnTo>
                  <a:pt x="83256" y="0"/>
                </a:lnTo>
                <a:lnTo>
                  <a:pt x="82283" y="1167"/>
                </a:lnTo>
                <a:lnTo>
                  <a:pt x="78474" y="1527"/>
                </a:lnTo>
                <a:lnTo>
                  <a:pt x="78722" y="15213"/>
                </a:lnTo>
                <a:lnTo>
                  <a:pt x="78956" y="28466"/>
                </a:lnTo>
                <a:lnTo>
                  <a:pt x="78466" y="40861"/>
                </a:lnTo>
                <a:lnTo>
                  <a:pt x="76544" y="51971"/>
                </a:lnTo>
                <a:lnTo>
                  <a:pt x="76544" y="56591"/>
                </a:lnTo>
                <a:lnTo>
                  <a:pt x="89337" y="56591"/>
                </a:lnTo>
                <a:lnTo>
                  <a:pt x="88628" y="30053"/>
                </a:lnTo>
                <a:lnTo>
                  <a:pt x="88023" y="5763"/>
                </a:lnTo>
                <a:lnTo>
                  <a:pt x="86848"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6" name="object 30"/>
          <p:cNvSpPr/>
          <p:nvPr/>
        </p:nvSpPr>
        <p:spPr>
          <a:xfrm>
            <a:off x="1643040" y="9953640"/>
            <a:ext cx="95400" cy="333360"/>
          </a:xfrm>
          <a:custGeom>
            <a:avLst/>
            <a:gdLst/>
            <a:ahLst/>
            <a:rect l="l" t="t" r="r" b="b"/>
            <a:pathLst>
              <a:path w="95885" h="334009">
                <a:moveTo>
                  <a:pt x="3819" y="84320"/>
                </a:moveTo>
                <a:lnTo>
                  <a:pt x="0" y="86444"/>
                </a:lnTo>
                <a:lnTo>
                  <a:pt x="31" y="110224"/>
                </a:lnTo>
                <a:lnTo>
                  <a:pt x="96" y="122319"/>
                </a:lnTo>
                <a:lnTo>
                  <a:pt x="1116" y="172053"/>
                </a:lnTo>
                <a:lnTo>
                  <a:pt x="3180" y="210759"/>
                </a:lnTo>
                <a:lnTo>
                  <a:pt x="6902" y="250654"/>
                </a:lnTo>
                <a:lnTo>
                  <a:pt x="8595" y="264213"/>
                </a:lnTo>
                <a:lnTo>
                  <a:pt x="9381" y="276471"/>
                </a:lnTo>
                <a:lnTo>
                  <a:pt x="9746" y="289022"/>
                </a:lnTo>
                <a:lnTo>
                  <a:pt x="9795" y="301794"/>
                </a:lnTo>
                <a:lnTo>
                  <a:pt x="9635" y="314712"/>
                </a:lnTo>
                <a:lnTo>
                  <a:pt x="9252" y="333530"/>
                </a:lnTo>
                <a:lnTo>
                  <a:pt x="95674" y="333530"/>
                </a:lnTo>
                <a:lnTo>
                  <a:pt x="94947" y="275230"/>
                </a:lnTo>
                <a:lnTo>
                  <a:pt x="93946" y="226030"/>
                </a:lnTo>
                <a:lnTo>
                  <a:pt x="92710" y="176856"/>
                </a:lnTo>
                <a:lnTo>
                  <a:pt x="90618" y="102329"/>
                </a:lnTo>
                <a:lnTo>
                  <a:pt x="39513" y="102329"/>
                </a:lnTo>
                <a:lnTo>
                  <a:pt x="37745" y="96893"/>
                </a:lnTo>
                <a:lnTo>
                  <a:pt x="36938" y="88928"/>
                </a:lnTo>
                <a:lnTo>
                  <a:pt x="9558" y="88928"/>
                </a:lnTo>
                <a:lnTo>
                  <a:pt x="3819" y="84320"/>
                </a:lnTo>
                <a:close/>
              </a:path>
              <a:path w="95885" h="334009">
                <a:moveTo>
                  <a:pt x="54801" y="70677"/>
                </a:moveTo>
                <a:lnTo>
                  <a:pt x="45526" y="74237"/>
                </a:lnTo>
                <a:lnTo>
                  <a:pt x="44094" y="87535"/>
                </a:lnTo>
                <a:lnTo>
                  <a:pt x="41981" y="98456"/>
                </a:lnTo>
                <a:lnTo>
                  <a:pt x="39513" y="102329"/>
                </a:lnTo>
                <a:lnTo>
                  <a:pt x="90618" y="102329"/>
                </a:lnTo>
                <a:lnTo>
                  <a:pt x="89751" y="71671"/>
                </a:lnTo>
                <a:lnTo>
                  <a:pt x="62617" y="71671"/>
                </a:lnTo>
                <a:lnTo>
                  <a:pt x="54801" y="70677"/>
                </a:lnTo>
                <a:close/>
              </a:path>
              <a:path w="95885" h="334009">
                <a:moveTo>
                  <a:pt x="36326" y="65842"/>
                </a:moveTo>
                <a:lnTo>
                  <a:pt x="30398" y="65856"/>
                </a:lnTo>
                <a:lnTo>
                  <a:pt x="20305" y="68855"/>
                </a:lnTo>
                <a:lnTo>
                  <a:pt x="11487" y="84320"/>
                </a:lnTo>
                <a:lnTo>
                  <a:pt x="9558" y="88928"/>
                </a:lnTo>
                <a:lnTo>
                  <a:pt x="36938" y="88928"/>
                </a:lnTo>
                <a:lnTo>
                  <a:pt x="36681" y="86393"/>
                </a:lnTo>
                <a:lnTo>
                  <a:pt x="36471" y="79689"/>
                </a:lnTo>
                <a:lnTo>
                  <a:pt x="32516" y="79689"/>
                </a:lnTo>
                <a:lnTo>
                  <a:pt x="36326" y="65842"/>
                </a:lnTo>
                <a:close/>
              </a:path>
              <a:path w="95885" h="334009">
                <a:moveTo>
                  <a:pt x="36326" y="75069"/>
                </a:moveTo>
                <a:lnTo>
                  <a:pt x="32516" y="79689"/>
                </a:lnTo>
                <a:lnTo>
                  <a:pt x="36471" y="79689"/>
                </a:lnTo>
                <a:lnTo>
                  <a:pt x="36326" y="75069"/>
                </a:lnTo>
                <a:close/>
              </a:path>
              <a:path w="95885" h="334009">
                <a:moveTo>
                  <a:pt x="68887" y="47351"/>
                </a:moveTo>
                <a:lnTo>
                  <a:pt x="65077" y="51971"/>
                </a:lnTo>
                <a:lnTo>
                  <a:pt x="62617" y="71671"/>
                </a:lnTo>
                <a:lnTo>
                  <a:pt x="89751" y="71671"/>
                </a:lnTo>
                <a:lnTo>
                  <a:pt x="89334" y="56591"/>
                </a:lnTo>
                <a:lnTo>
                  <a:pt x="76556" y="56591"/>
                </a:lnTo>
                <a:lnTo>
                  <a:pt x="68887" y="47351"/>
                </a:lnTo>
                <a:close/>
              </a:path>
              <a:path w="95885" h="334009">
                <a:moveTo>
                  <a:pt x="86829" y="0"/>
                </a:moveTo>
                <a:lnTo>
                  <a:pt x="83256" y="0"/>
                </a:lnTo>
                <a:lnTo>
                  <a:pt x="82295" y="1167"/>
                </a:lnTo>
                <a:lnTo>
                  <a:pt x="78486" y="1516"/>
                </a:lnTo>
                <a:lnTo>
                  <a:pt x="78726" y="15205"/>
                </a:lnTo>
                <a:lnTo>
                  <a:pt x="78949" y="28461"/>
                </a:lnTo>
                <a:lnTo>
                  <a:pt x="78458" y="40858"/>
                </a:lnTo>
                <a:lnTo>
                  <a:pt x="76556" y="51971"/>
                </a:lnTo>
                <a:lnTo>
                  <a:pt x="76556" y="56591"/>
                </a:lnTo>
                <a:lnTo>
                  <a:pt x="89334" y="56591"/>
                </a:lnTo>
                <a:lnTo>
                  <a:pt x="88630" y="30053"/>
                </a:lnTo>
                <a:lnTo>
                  <a:pt x="88032" y="5763"/>
                </a:lnTo>
                <a:lnTo>
                  <a:pt x="86829"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7" name="object 31"/>
          <p:cNvSpPr/>
          <p:nvPr/>
        </p:nvSpPr>
        <p:spPr>
          <a:xfrm>
            <a:off x="0" y="0"/>
            <a:ext cx="1319040" cy="88218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17720" y="1292040"/>
            <a:ext cx="16252560" cy="975240"/>
          </a:xfrm>
          <a:prstGeom prst="rect">
            <a:avLst/>
          </a:prstGeom>
          <a:noFill/>
          <a:ln w="0">
            <a:noFill/>
          </a:ln>
        </p:spPr>
        <p:txBody>
          <a:bodyPr lIns="0" rIns="0" tIns="0" bIns="0" anchor="t">
            <a:noAutofit/>
          </a:bodyPr>
          <a:p>
            <a:pPr marL="14325480" indent="0" algn="ctr">
              <a:lnSpc>
                <a:spcPct val="100000"/>
              </a:lnSpc>
              <a:buNone/>
              <a:tabLst>
                <a:tab algn="l" pos="0"/>
                <a:tab algn="l" pos="15292440"/>
              </a:tabLst>
            </a:pPr>
            <a:r>
              <a:rPr b="1" lang="de-DE" sz="3200" spc="-1" strike="noStrike">
                <a:solidFill>
                  <a:srgbClr val="d9b83d"/>
                </a:solidFill>
                <a:latin typeface="Arial"/>
                <a:ea typeface="Arial"/>
              </a:rPr>
              <a:t>PRO</a:t>
            </a:r>
            <a:r>
              <a:rPr b="1" lang="de-DE" sz="3200" spc="-1" strike="noStrike">
                <a:solidFill>
                  <a:srgbClr val="d9b83d"/>
                </a:solidFill>
                <a:latin typeface="Arial"/>
                <a:ea typeface="Arial"/>
              </a:rPr>
              <a:t>	</a:t>
            </a:r>
            <a:r>
              <a:rPr b="1" lang="en-IN" sz="3200" spc="-1" strike="noStrike">
                <a:solidFill>
                  <a:srgbClr val="d9b83d"/>
                </a:solidFill>
                <a:latin typeface="Arial"/>
                <a:ea typeface="Arial"/>
              </a:rPr>
              <a:t>TIPS</a:t>
            </a:r>
            <a:endParaRPr b="0" lang="en-US" sz="3200" spc="-1" strike="noStrike">
              <a:solidFill>
                <a:srgbClr val="1f497d"/>
              </a:solidFill>
              <a:latin typeface="Calibri"/>
            </a:endParaRPr>
          </a:p>
        </p:txBody>
      </p:sp>
      <p:sp>
        <p:nvSpPr>
          <p:cNvPr id="199" name="object 3"/>
          <p:cNvSpPr/>
          <p:nvPr/>
        </p:nvSpPr>
        <p:spPr>
          <a:xfrm>
            <a:off x="8570880" y="5722920"/>
            <a:ext cx="317196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5908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sk</a:t>
            </a:r>
            <a:r>
              <a:rPr b="0" lang="de-DE" sz="3600" spc="-1" strike="noStrike">
                <a:solidFill>
                  <a:srgbClr val="050606"/>
                </a:solidFill>
                <a:latin typeface="Arial"/>
              </a:rPr>
              <a:t>	</a:t>
            </a:r>
            <a:r>
              <a:rPr b="0" lang="de-DE" sz="3600" spc="-1" strike="noStrike">
                <a:solidFill>
                  <a:srgbClr val="050606"/>
                </a:solidFill>
                <a:latin typeface="Arial"/>
              </a:rPr>
              <a:t>a</a:t>
            </a:r>
            <a:r>
              <a:rPr b="0" lang="de-DE" sz="3600" spc="-1" strike="noStrike">
                <a:solidFill>
                  <a:srgbClr val="050606"/>
                </a:solidFill>
                <a:latin typeface="Arial"/>
              </a:rPr>
              <a:t>	</a:t>
            </a:r>
            <a:r>
              <a:rPr b="0" lang="de-DE" sz="3600" spc="-1" strike="noStrike">
                <a:solidFill>
                  <a:srgbClr val="050606"/>
                </a:solidFill>
                <a:latin typeface="Arial"/>
              </a:rPr>
              <a:t>friend</a:t>
            </a:r>
            <a:endParaRPr b="0" lang="en-US" sz="3600" spc="-1" strike="noStrike">
              <a:solidFill>
                <a:srgbClr val="000000"/>
              </a:solidFill>
              <a:latin typeface="Calibri"/>
            </a:endParaRPr>
          </a:p>
        </p:txBody>
      </p:sp>
      <p:sp>
        <p:nvSpPr>
          <p:cNvPr id="200" name="object 4"/>
          <p:cNvSpPr/>
          <p:nvPr/>
        </p:nvSpPr>
        <p:spPr>
          <a:xfrm>
            <a:off x="11993400" y="5722920"/>
            <a:ext cx="3171960" cy="1349640"/>
          </a:xfrm>
          <a:prstGeom prst="rect">
            <a:avLst/>
          </a:prstGeom>
          <a:noFill/>
          <a:ln w="0">
            <a:noFill/>
          </a:ln>
        </p:spPr>
        <p:style>
          <a:lnRef idx="0"/>
          <a:fillRef idx="0"/>
          <a:effectRef idx="0"/>
          <a:fontRef idx="minor"/>
        </p:style>
        <p:txBody>
          <a:bodyPr lIns="0" rIns="0" tIns="0" bIns="0" anchor="t">
            <a:spAutoFit/>
          </a:bodyPr>
          <a:p>
            <a:pPr marL="12600">
              <a:lnSpc>
                <a:spcPct val="123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or</a:t>
            </a:r>
            <a:r>
              <a:rPr b="0" lang="en-US" sz="3600" spc="-1" strike="noStrike">
                <a:solidFill>
                  <a:srgbClr val="050606"/>
                </a:solidFill>
                <a:latin typeface="Arial"/>
              </a:rPr>
              <a:t>	</a:t>
            </a:r>
            <a:r>
              <a:rPr b="0" lang="en-US" sz="3600" spc="-1" strike="noStrike">
                <a:solidFill>
                  <a:srgbClr val="050606"/>
                </a:solidFill>
                <a:latin typeface="Arial"/>
              </a:rPr>
              <a:t>colleague to</a:t>
            </a:r>
            <a:endParaRPr b="0" lang="en-US" sz="3600" spc="-1" strike="noStrike">
              <a:solidFill>
                <a:srgbClr val="000000"/>
              </a:solidFill>
              <a:latin typeface="Calibri"/>
            </a:endParaRPr>
          </a:p>
        </p:txBody>
      </p:sp>
      <p:sp>
        <p:nvSpPr>
          <p:cNvPr id="201" name="object 5"/>
          <p:cNvSpPr/>
          <p:nvPr/>
        </p:nvSpPr>
        <p:spPr>
          <a:xfrm>
            <a:off x="15416280" y="5722920"/>
            <a:ext cx="1854000" cy="122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who</a:t>
            </a:r>
            <a:r>
              <a:rPr b="0" lang="de-DE" sz="3600" spc="-1" strike="noStrike">
                <a:solidFill>
                  <a:srgbClr val="050606"/>
                </a:solidFill>
                <a:latin typeface="Arial"/>
              </a:rPr>
              <a:t>	</a:t>
            </a:r>
            <a:r>
              <a:rPr b="0" lang="de-DE" sz="3600" spc="-1" strike="noStrike">
                <a:solidFill>
                  <a:srgbClr val="050606"/>
                </a:solidFill>
                <a:latin typeface="Arial"/>
              </a:rPr>
              <a:t>has</a:t>
            </a:r>
            <a:endParaRPr b="0" lang="en-US" sz="3600" spc="-1" strike="noStrike">
              <a:solidFill>
                <a:srgbClr val="000000"/>
              </a:solidFill>
              <a:latin typeface="Calibri"/>
            </a:endParaRPr>
          </a:p>
          <a:p>
            <a:pPr marL="12600">
              <a:lnSpc>
                <a:spcPct val="100000"/>
              </a:lnSpc>
              <a:spcBef>
                <a:spcPts val="1001"/>
              </a:spcBef>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nd</a:t>
            </a:r>
            <a:endParaRPr b="0" lang="en-US" sz="3600" spc="-1" strike="noStrike">
              <a:solidFill>
                <a:srgbClr val="000000"/>
              </a:solidFill>
              <a:latin typeface="Calibri"/>
            </a:endParaRPr>
          </a:p>
        </p:txBody>
      </p:sp>
      <p:sp>
        <p:nvSpPr>
          <p:cNvPr id="202" name="object 6"/>
          <p:cNvSpPr/>
          <p:nvPr/>
        </p:nvSpPr>
        <p:spPr>
          <a:xfrm>
            <a:off x="9361440" y="6399360"/>
            <a:ext cx="23814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ravelled</a:t>
            </a:r>
            <a:endParaRPr b="0" lang="en-US" sz="3600" spc="-1" strike="noStrike">
              <a:solidFill>
                <a:srgbClr val="000000"/>
              </a:solidFill>
              <a:latin typeface="Calibri"/>
            </a:endParaRPr>
          </a:p>
        </p:txBody>
      </p:sp>
      <p:sp>
        <p:nvSpPr>
          <p:cNvPr id="203" name="object 7"/>
          <p:cNvSpPr/>
          <p:nvPr/>
        </p:nvSpPr>
        <p:spPr>
          <a:xfrm>
            <a:off x="12783960" y="6399360"/>
            <a:ext cx="1590840" cy="1097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06524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the</a:t>
            </a:r>
            <a:r>
              <a:rPr b="0" lang="de-DE" sz="3600" spc="-1" strike="noStrike">
                <a:solidFill>
                  <a:srgbClr val="050606"/>
                </a:solidFill>
                <a:latin typeface="Arial"/>
              </a:rPr>
              <a:t>	</a:t>
            </a:r>
            <a:r>
              <a:rPr b="0" lang="de-DE" sz="3600" spc="-1" strike="noStrike">
                <a:solidFill>
                  <a:srgbClr val="050606"/>
                </a:solidFill>
                <a:latin typeface="Arial"/>
              </a:rPr>
              <a:t>UK</a:t>
            </a:r>
            <a:endParaRPr b="0" lang="en-US" sz="3600" spc="-1" strike="noStrike">
              <a:solidFill>
                <a:srgbClr val="000000"/>
              </a:solidFill>
              <a:latin typeface="Calibri"/>
            </a:endParaRPr>
          </a:p>
        </p:txBody>
      </p:sp>
      <p:sp>
        <p:nvSpPr>
          <p:cNvPr id="204" name="object 8"/>
          <p:cNvSpPr/>
          <p:nvPr/>
        </p:nvSpPr>
        <p:spPr>
          <a:xfrm>
            <a:off x="14627160" y="6399360"/>
            <a:ext cx="15908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before</a:t>
            </a:r>
            <a:endParaRPr b="0" lang="en-US" sz="3600" spc="-1" strike="noStrike">
              <a:solidFill>
                <a:srgbClr val="000000"/>
              </a:solidFill>
              <a:latin typeface="Calibri"/>
            </a:endParaRPr>
          </a:p>
        </p:txBody>
      </p:sp>
      <p:sp>
        <p:nvSpPr>
          <p:cNvPr id="205" name="object 9"/>
          <p:cNvSpPr/>
          <p:nvPr/>
        </p:nvSpPr>
        <p:spPr>
          <a:xfrm>
            <a:off x="9888480" y="7075440"/>
            <a:ext cx="238140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185436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choose</a:t>
            </a:r>
            <a:r>
              <a:rPr b="0" lang="de-DE" sz="3600" spc="-1" strike="noStrike">
                <a:solidFill>
                  <a:srgbClr val="050606"/>
                </a:solidFill>
                <a:latin typeface="Arial"/>
              </a:rPr>
              <a:t>	</a:t>
            </a:r>
            <a:r>
              <a:rPr b="0" lang="de-DE" sz="3600" spc="-1" strike="noStrike">
                <a:solidFill>
                  <a:srgbClr val="050606"/>
                </a:solidFill>
                <a:latin typeface="Arial"/>
              </a:rPr>
              <a:t>to</a:t>
            </a:r>
            <a:endParaRPr b="0" lang="en-US" sz="3600" spc="-1" strike="noStrike">
              <a:solidFill>
                <a:srgbClr val="000000"/>
              </a:solidFill>
              <a:latin typeface="Calibri"/>
            </a:endParaRPr>
          </a:p>
        </p:txBody>
      </p:sp>
      <p:sp>
        <p:nvSpPr>
          <p:cNvPr id="206" name="object 10"/>
          <p:cNvSpPr/>
          <p:nvPr/>
        </p:nvSpPr>
        <p:spPr>
          <a:xfrm>
            <a:off x="12520440" y="7075440"/>
            <a:ext cx="1590840" cy="5490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50606"/>
                </a:solidFill>
                <a:latin typeface="Arial"/>
              </a:rPr>
              <a:t>arrive</a:t>
            </a:r>
            <a:endParaRPr b="0" lang="en-US" sz="3600" spc="-1" strike="noStrike">
              <a:solidFill>
                <a:srgbClr val="000000"/>
              </a:solidFill>
              <a:latin typeface="Calibri"/>
            </a:endParaRPr>
          </a:p>
        </p:txBody>
      </p:sp>
      <p:sp>
        <p:nvSpPr>
          <p:cNvPr id="207" name="object 11"/>
          <p:cNvSpPr/>
          <p:nvPr/>
        </p:nvSpPr>
        <p:spPr>
          <a:xfrm>
            <a:off x="14363640" y="7075440"/>
            <a:ext cx="2908440" cy="1349640"/>
          </a:xfrm>
          <a:prstGeom prst="rect">
            <a:avLst/>
          </a:prstGeom>
          <a:noFill/>
          <a:ln w="0">
            <a:noFill/>
          </a:ln>
        </p:spPr>
        <p:style>
          <a:lnRef idx="0"/>
          <a:fillRef idx="0"/>
          <a:effectRef idx="0"/>
          <a:fontRef idx="minor"/>
        </p:style>
        <p:txBody>
          <a:bodyPr lIns="0" rIns="0" tIns="0" bIns="0" anchor="t">
            <a:spAutoFit/>
          </a:bodyPr>
          <a:p>
            <a:pPr marL="803160" indent="-790560">
              <a:lnSpc>
                <a:spcPct val="123000"/>
              </a:lnSpc>
              <a:tabLst>
                <a:tab algn="l" pos="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50606"/>
                </a:solidFill>
                <a:latin typeface="Arial"/>
              </a:rPr>
              <a:t>at</a:t>
            </a:r>
            <a:r>
              <a:rPr b="0" lang="en-US" sz="3600" spc="-1" strike="noStrike">
                <a:solidFill>
                  <a:srgbClr val="050606"/>
                </a:solidFill>
                <a:latin typeface="Arial"/>
              </a:rPr>
              <a:t>	</a:t>
            </a:r>
            <a:r>
              <a:rPr b="0" lang="en-US" sz="3600" spc="-1" strike="noStrike">
                <a:solidFill>
                  <a:srgbClr val="050606"/>
                </a:solidFill>
                <a:latin typeface="Arial"/>
              </a:rPr>
              <a:t>Heathrow airport.</a:t>
            </a:r>
            <a:endParaRPr b="0" lang="en-US" sz="3600" spc="-1" strike="noStrike">
              <a:solidFill>
                <a:srgbClr val="000000"/>
              </a:solidFill>
              <a:latin typeface="Calibri"/>
            </a:endParaRPr>
          </a:p>
        </p:txBody>
      </p:sp>
      <p:sp>
        <p:nvSpPr>
          <p:cNvPr id="208" name="object 14"/>
          <p:cNvSpPr/>
          <p:nvPr/>
        </p:nvSpPr>
        <p:spPr>
          <a:xfrm>
            <a:off x="10363320" y="9056520"/>
            <a:ext cx="6405480" cy="457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000" spc="-1" strike="noStrike">
                <a:solidFill>
                  <a:srgbClr val="050606"/>
                </a:solidFill>
                <a:latin typeface="Arial"/>
              </a:rPr>
              <a:t>JEWELS AIRPORT TRANSFERS</a:t>
            </a:r>
            <a:endParaRPr b="0" lang="en-US" sz="3000" spc="-1" strike="noStrike">
              <a:solidFill>
                <a:srgbClr val="000000"/>
              </a:solidFill>
              <a:latin typeface="Calibri"/>
            </a:endParaRPr>
          </a:p>
        </p:txBody>
      </p:sp>
      <p:sp>
        <p:nvSpPr>
          <p:cNvPr id="209" name="object 15"/>
          <p:cNvSpPr/>
          <p:nvPr/>
        </p:nvSpPr>
        <p:spPr>
          <a:xfrm>
            <a:off x="1066680" y="4614840"/>
            <a:ext cx="671760" cy="507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16"/>
          <p:cNvSpPr/>
          <p:nvPr/>
        </p:nvSpPr>
        <p:spPr>
          <a:xfrm>
            <a:off x="1968480" y="4614840"/>
            <a:ext cx="676440" cy="53352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bject 17"/>
          <p:cNvSpPr/>
          <p:nvPr/>
        </p:nvSpPr>
        <p:spPr>
          <a:xfrm>
            <a:off x="2874960" y="4643280"/>
            <a:ext cx="95400" cy="505080"/>
          </a:xfrm>
          <a:custGeom>
            <a:avLst/>
            <a:gdLst/>
            <a:ahLst/>
            <a:rect l="l" t="t" r="r" b="b"/>
            <a:pathLst>
              <a:path w="95885" h="504189">
                <a:moveTo>
                  <a:pt x="4577" y="0"/>
                </a:moveTo>
                <a:lnTo>
                  <a:pt x="713" y="57068"/>
                </a:lnTo>
                <a:lnTo>
                  <a:pt x="75" y="105929"/>
                </a:lnTo>
                <a:lnTo>
                  <a:pt x="0" y="137552"/>
                </a:lnTo>
                <a:lnTo>
                  <a:pt x="33" y="154957"/>
                </a:lnTo>
                <a:lnTo>
                  <a:pt x="485" y="204096"/>
                </a:lnTo>
                <a:lnTo>
                  <a:pt x="1327" y="253291"/>
                </a:lnTo>
                <a:lnTo>
                  <a:pt x="2458" y="302485"/>
                </a:lnTo>
                <a:lnTo>
                  <a:pt x="3773" y="351624"/>
                </a:lnTo>
                <a:lnTo>
                  <a:pt x="6229" y="438106"/>
                </a:lnTo>
                <a:lnTo>
                  <a:pt x="6547" y="449513"/>
                </a:lnTo>
                <a:lnTo>
                  <a:pt x="7195" y="473864"/>
                </a:lnTo>
                <a:lnTo>
                  <a:pt x="7800" y="498152"/>
                </a:lnTo>
                <a:lnTo>
                  <a:pt x="8975" y="503943"/>
                </a:lnTo>
                <a:lnTo>
                  <a:pt x="12556" y="503943"/>
                </a:lnTo>
                <a:lnTo>
                  <a:pt x="13539" y="502754"/>
                </a:lnTo>
                <a:lnTo>
                  <a:pt x="17349" y="502420"/>
                </a:lnTo>
                <a:lnTo>
                  <a:pt x="16867" y="475482"/>
                </a:lnTo>
                <a:lnTo>
                  <a:pt x="17356" y="463082"/>
                </a:lnTo>
                <a:lnTo>
                  <a:pt x="19278" y="451975"/>
                </a:lnTo>
                <a:lnTo>
                  <a:pt x="19278" y="447342"/>
                </a:lnTo>
                <a:lnTo>
                  <a:pt x="31333" y="447342"/>
                </a:lnTo>
                <a:lnTo>
                  <a:pt x="33212" y="432230"/>
                </a:lnTo>
                <a:lnTo>
                  <a:pt x="43674" y="432230"/>
                </a:lnTo>
                <a:lnTo>
                  <a:pt x="50266" y="429696"/>
                </a:lnTo>
                <a:lnTo>
                  <a:pt x="51689" y="416409"/>
                </a:lnTo>
                <a:lnTo>
                  <a:pt x="53800" y="405452"/>
                </a:lnTo>
                <a:lnTo>
                  <a:pt x="56272" y="401595"/>
                </a:lnTo>
                <a:lnTo>
                  <a:pt x="95802" y="401595"/>
                </a:lnTo>
                <a:lnTo>
                  <a:pt x="95791" y="393716"/>
                </a:lnTo>
                <a:lnTo>
                  <a:pt x="95110" y="344517"/>
                </a:lnTo>
                <a:lnTo>
                  <a:pt x="93488" y="306208"/>
                </a:lnTo>
                <a:lnTo>
                  <a:pt x="90371" y="266711"/>
                </a:lnTo>
                <a:lnTo>
                  <a:pt x="87220" y="239728"/>
                </a:lnTo>
                <a:lnTo>
                  <a:pt x="86427" y="227467"/>
                </a:lnTo>
                <a:lnTo>
                  <a:pt x="86057" y="214913"/>
                </a:lnTo>
                <a:lnTo>
                  <a:pt x="86003" y="202141"/>
                </a:lnTo>
                <a:lnTo>
                  <a:pt x="86162" y="189223"/>
                </a:lnTo>
                <a:lnTo>
                  <a:pt x="86692" y="163241"/>
                </a:lnTo>
                <a:lnTo>
                  <a:pt x="86853" y="150323"/>
                </a:lnTo>
                <a:lnTo>
                  <a:pt x="86804" y="137552"/>
                </a:lnTo>
                <a:lnTo>
                  <a:pt x="86441" y="124999"/>
                </a:lnTo>
                <a:lnTo>
                  <a:pt x="85657" y="112740"/>
                </a:lnTo>
                <a:lnTo>
                  <a:pt x="84347" y="100845"/>
                </a:lnTo>
                <a:lnTo>
                  <a:pt x="84240" y="89659"/>
                </a:lnTo>
                <a:lnTo>
                  <a:pt x="85270" y="76402"/>
                </a:lnTo>
                <a:lnTo>
                  <a:pt x="84898" y="63973"/>
                </a:lnTo>
                <a:lnTo>
                  <a:pt x="84534" y="63202"/>
                </a:lnTo>
                <a:lnTo>
                  <a:pt x="78813" y="63202"/>
                </a:lnTo>
                <a:lnTo>
                  <a:pt x="78176" y="54637"/>
                </a:lnTo>
                <a:lnTo>
                  <a:pt x="70939" y="54637"/>
                </a:lnTo>
                <a:lnTo>
                  <a:pt x="64642" y="47462"/>
                </a:lnTo>
                <a:lnTo>
                  <a:pt x="65500" y="34402"/>
                </a:lnTo>
                <a:lnTo>
                  <a:pt x="65429" y="31533"/>
                </a:lnTo>
                <a:lnTo>
                  <a:pt x="46043" y="31533"/>
                </a:lnTo>
                <a:lnTo>
                  <a:pt x="46043" y="25217"/>
                </a:lnTo>
                <a:lnTo>
                  <a:pt x="34210" y="25217"/>
                </a:lnTo>
                <a:lnTo>
                  <a:pt x="27283" y="13063"/>
                </a:lnTo>
                <a:lnTo>
                  <a:pt x="15420" y="13063"/>
                </a:lnTo>
                <a:lnTo>
                  <a:pt x="13423" y="8991"/>
                </a:lnTo>
                <a:lnTo>
                  <a:pt x="8642" y="1339"/>
                </a:lnTo>
                <a:lnTo>
                  <a:pt x="4577" y="0"/>
                </a:lnTo>
                <a:close/>
              </a:path>
              <a:path w="95885" h="504189">
                <a:moveTo>
                  <a:pt x="31333" y="447342"/>
                </a:moveTo>
                <a:lnTo>
                  <a:pt x="19278" y="447342"/>
                </a:lnTo>
                <a:lnTo>
                  <a:pt x="26898" y="456577"/>
                </a:lnTo>
                <a:lnTo>
                  <a:pt x="30757" y="451975"/>
                </a:lnTo>
                <a:lnTo>
                  <a:pt x="31333" y="447342"/>
                </a:lnTo>
                <a:close/>
              </a:path>
              <a:path w="95885" h="504189">
                <a:moveTo>
                  <a:pt x="81722" y="424238"/>
                </a:moveTo>
                <a:lnTo>
                  <a:pt x="63270" y="424238"/>
                </a:lnTo>
                <a:lnTo>
                  <a:pt x="59460" y="438106"/>
                </a:lnTo>
                <a:lnTo>
                  <a:pt x="65424" y="438091"/>
                </a:lnTo>
                <a:lnTo>
                  <a:pt x="75535" y="435086"/>
                </a:lnTo>
                <a:lnTo>
                  <a:pt x="81722" y="424238"/>
                </a:lnTo>
                <a:close/>
              </a:path>
              <a:path w="95885" h="504189">
                <a:moveTo>
                  <a:pt x="43674" y="432230"/>
                </a:moveTo>
                <a:lnTo>
                  <a:pt x="33212" y="432230"/>
                </a:lnTo>
                <a:lnTo>
                  <a:pt x="41015" y="433251"/>
                </a:lnTo>
                <a:lnTo>
                  <a:pt x="43674" y="432230"/>
                </a:lnTo>
                <a:close/>
              </a:path>
              <a:path w="95885" h="504189">
                <a:moveTo>
                  <a:pt x="95802" y="401595"/>
                </a:moveTo>
                <a:lnTo>
                  <a:pt x="56272" y="401595"/>
                </a:lnTo>
                <a:lnTo>
                  <a:pt x="58041" y="407037"/>
                </a:lnTo>
                <a:lnTo>
                  <a:pt x="59105" y="417533"/>
                </a:lnTo>
                <a:lnTo>
                  <a:pt x="59460" y="428840"/>
                </a:lnTo>
                <a:lnTo>
                  <a:pt x="63270" y="424238"/>
                </a:lnTo>
                <a:lnTo>
                  <a:pt x="81722" y="424238"/>
                </a:lnTo>
                <a:lnTo>
                  <a:pt x="84347" y="419635"/>
                </a:lnTo>
                <a:lnTo>
                  <a:pt x="86228" y="415002"/>
                </a:lnTo>
                <a:lnTo>
                  <a:pt x="95820" y="415002"/>
                </a:lnTo>
                <a:lnTo>
                  <a:pt x="95802" y="401595"/>
                </a:lnTo>
                <a:close/>
              </a:path>
              <a:path w="95885" h="504189">
                <a:moveTo>
                  <a:pt x="95820" y="415002"/>
                </a:moveTo>
                <a:lnTo>
                  <a:pt x="86228" y="415002"/>
                </a:lnTo>
                <a:lnTo>
                  <a:pt x="91967" y="419635"/>
                </a:lnTo>
                <a:lnTo>
                  <a:pt x="95823" y="417498"/>
                </a:lnTo>
                <a:lnTo>
                  <a:pt x="95820" y="415002"/>
                </a:lnTo>
                <a:close/>
              </a:path>
              <a:path w="95885" h="504189">
                <a:moveTo>
                  <a:pt x="80488" y="54637"/>
                </a:moveTo>
                <a:lnTo>
                  <a:pt x="78813" y="63202"/>
                </a:lnTo>
                <a:lnTo>
                  <a:pt x="84534" y="63202"/>
                </a:lnTo>
                <a:lnTo>
                  <a:pt x="80488" y="54637"/>
                </a:lnTo>
                <a:close/>
              </a:path>
              <a:path w="95885" h="504189">
                <a:moveTo>
                  <a:pt x="78608" y="26931"/>
                </a:moveTo>
                <a:lnTo>
                  <a:pt x="72820" y="26931"/>
                </a:lnTo>
                <a:lnTo>
                  <a:pt x="71152" y="28962"/>
                </a:lnTo>
                <a:lnTo>
                  <a:pt x="71758" y="42265"/>
                </a:lnTo>
                <a:lnTo>
                  <a:pt x="70939" y="54637"/>
                </a:lnTo>
                <a:lnTo>
                  <a:pt x="78176" y="54637"/>
                </a:lnTo>
                <a:lnTo>
                  <a:pt x="77914" y="51112"/>
                </a:lnTo>
                <a:lnTo>
                  <a:pt x="78785" y="39025"/>
                </a:lnTo>
                <a:lnTo>
                  <a:pt x="78608" y="26931"/>
                </a:lnTo>
                <a:close/>
              </a:path>
              <a:path w="95885" h="504189">
                <a:moveTo>
                  <a:pt x="65200" y="22298"/>
                </a:moveTo>
                <a:lnTo>
                  <a:pt x="55604" y="22298"/>
                </a:lnTo>
                <a:lnTo>
                  <a:pt x="55604" y="31533"/>
                </a:lnTo>
                <a:lnTo>
                  <a:pt x="65429" y="31533"/>
                </a:lnTo>
                <a:lnTo>
                  <a:pt x="65200" y="22298"/>
                </a:lnTo>
                <a:close/>
              </a:path>
              <a:path w="95885" h="504189">
                <a:moveTo>
                  <a:pt x="38377" y="17665"/>
                </a:moveTo>
                <a:lnTo>
                  <a:pt x="36493" y="22298"/>
                </a:lnTo>
                <a:lnTo>
                  <a:pt x="34210" y="25217"/>
                </a:lnTo>
                <a:lnTo>
                  <a:pt x="46043" y="25217"/>
                </a:lnTo>
                <a:lnTo>
                  <a:pt x="46043" y="22298"/>
                </a:lnTo>
                <a:lnTo>
                  <a:pt x="42233" y="22298"/>
                </a:lnTo>
                <a:lnTo>
                  <a:pt x="38377" y="17665"/>
                </a:lnTo>
                <a:close/>
              </a:path>
              <a:path w="95885" h="504189">
                <a:moveTo>
                  <a:pt x="19278" y="8430"/>
                </a:moveTo>
                <a:lnTo>
                  <a:pt x="21159" y="13063"/>
                </a:lnTo>
                <a:lnTo>
                  <a:pt x="27283" y="13063"/>
                </a:lnTo>
                <a:lnTo>
                  <a:pt x="27034" y="12625"/>
                </a:lnTo>
                <a:lnTo>
                  <a:pt x="19278" y="843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2" name="object 18"/>
          <p:cNvSpPr/>
          <p:nvPr/>
        </p:nvSpPr>
        <p:spPr>
          <a:xfrm>
            <a:off x="1801800" y="4614840"/>
            <a:ext cx="96840" cy="503280"/>
          </a:xfrm>
          <a:custGeom>
            <a:avLst/>
            <a:gdLst/>
            <a:ahLst/>
            <a:rect l="l" t="t" r="r" b="b"/>
            <a:pathLst>
              <a:path w="95885" h="504189">
                <a:moveTo>
                  <a:pt x="93921" y="490789"/>
                </a:moveTo>
                <a:lnTo>
                  <a:pt x="80415" y="490789"/>
                </a:lnTo>
                <a:lnTo>
                  <a:pt x="82419" y="494904"/>
                </a:lnTo>
                <a:lnTo>
                  <a:pt x="87198" y="502556"/>
                </a:lnTo>
                <a:lnTo>
                  <a:pt x="91257" y="503885"/>
                </a:lnTo>
                <a:lnTo>
                  <a:pt x="93774" y="495452"/>
                </a:lnTo>
                <a:lnTo>
                  <a:pt x="93921" y="490789"/>
                </a:lnTo>
                <a:close/>
              </a:path>
              <a:path w="95885" h="504189">
                <a:moveTo>
                  <a:pt x="94302" y="478654"/>
                </a:moveTo>
                <a:lnTo>
                  <a:pt x="61622" y="478654"/>
                </a:lnTo>
                <a:lnTo>
                  <a:pt x="68801" y="491249"/>
                </a:lnTo>
                <a:lnTo>
                  <a:pt x="76559" y="495452"/>
                </a:lnTo>
                <a:lnTo>
                  <a:pt x="74675" y="490789"/>
                </a:lnTo>
                <a:lnTo>
                  <a:pt x="93921" y="490789"/>
                </a:lnTo>
                <a:lnTo>
                  <a:pt x="94302" y="478654"/>
                </a:lnTo>
                <a:close/>
              </a:path>
              <a:path w="95885" h="504189">
                <a:moveTo>
                  <a:pt x="94500" y="472348"/>
                </a:moveTo>
                <a:lnTo>
                  <a:pt x="49779" y="472348"/>
                </a:lnTo>
                <a:lnTo>
                  <a:pt x="49779" y="481584"/>
                </a:lnTo>
                <a:lnTo>
                  <a:pt x="53589" y="481584"/>
                </a:lnTo>
                <a:lnTo>
                  <a:pt x="57448" y="486186"/>
                </a:lnTo>
                <a:lnTo>
                  <a:pt x="59341" y="481584"/>
                </a:lnTo>
                <a:lnTo>
                  <a:pt x="61622" y="478654"/>
                </a:lnTo>
                <a:lnTo>
                  <a:pt x="94302" y="478654"/>
                </a:lnTo>
                <a:lnTo>
                  <a:pt x="94500" y="472348"/>
                </a:lnTo>
                <a:close/>
              </a:path>
              <a:path w="95885" h="504189">
                <a:moveTo>
                  <a:pt x="95055" y="449245"/>
                </a:moveTo>
                <a:lnTo>
                  <a:pt x="24896" y="449245"/>
                </a:lnTo>
                <a:lnTo>
                  <a:pt x="31186" y="456424"/>
                </a:lnTo>
                <a:lnTo>
                  <a:pt x="30312" y="469481"/>
                </a:lnTo>
                <a:lnTo>
                  <a:pt x="30635" y="481584"/>
                </a:lnTo>
                <a:lnTo>
                  <a:pt x="40184" y="481584"/>
                </a:lnTo>
                <a:lnTo>
                  <a:pt x="40184" y="472348"/>
                </a:lnTo>
                <a:lnTo>
                  <a:pt x="94500" y="472348"/>
                </a:lnTo>
                <a:lnTo>
                  <a:pt x="94537" y="471164"/>
                </a:lnTo>
                <a:lnTo>
                  <a:pt x="95055" y="449245"/>
                </a:lnTo>
                <a:close/>
              </a:path>
              <a:path w="95885" h="504189">
                <a:moveTo>
                  <a:pt x="95213" y="440716"/>
                </a:moveTo>
                <a:lnTo>
                  <a:pt x="16997" y="440716"/>
                </a:lnTo>
                <a:lnTo>
                  <a:pt x="17897" y="452794"/>
                </a:lnTo>
                <a:lnTo>
                  <a:pt x="17029" y="464869"/>
                </a:lnTo>
                <a:lnTo>
                  <a:pt x="17230" y="476951"/>
                </a:lnTo>
                <a:lnTo>
                  <a:pt x="22969" y="476951"/>
                </a:lnTo>
                <a:lnTo>
                  <a:pt x="24677" y="474908"/>
                </a:lnTo>
                <a:lnTo>
                  <a:pt x="24057" y="461599"/>
                </a:lnTo>
                <a:lnTo>
                  <a:pt x="24896" y="449245"/>
                </a:lnTo>
                <a:lnTo>
                  <a:pt x="95055" y="449245"/>
                </a:lnTo>
                <a:lnTo>
                  <a:pt x="95112" y="446814"/>
                </a:lnTo>
                <a:lnTo>
                  <a:pt x="95213" y="440716"/>
                </a:lnTo>
                <a:close/>
              </a:path>
              <a:path w="95885" h="504189">
                <a:moveTo>
                  <a:pt x="3822" y="84307"/>
                </a:moveTo>
                <a:lnTo>
                  <a:pt x="0" y="86418"/>
                </a:lnTo>
                <a:lnTo>
                  <a:pt x="31" y="110192"/>
                </a:lnTo>
                <a:lnTo>
                  <a:pt x="97" y="122286"/>
                </a:lnTo>
                <a:lnTo>
                  <a:pt x="1117" y="172022"/>
                </a:lnTo>
                <a:lnTo>
                  <a:pt x="3185" y="210732"/>
                </a:lnTo>
                <a:lnTo>
                  <a:pt x="6912" y="250627"/>
                </a:lnTo>
                <a:lnTo>
                  <a:pt x="8607" y="264186"/>
                </a:lnTo>
                <a:lnTo>
                  <a:pt x="9403" y="276449"/>
                </a:lnTo>
                <a:lnTo>
                  <a:pt x="9775" y="289004"/>
                </a:lnTo>
                <a:lnTo>
                  <a:pt x="9830" y="301779"/>
                </a:lnTo>
                <a:lnTo>
                  <a:pt x="9673" y="314699"/>
                </a:lnTo>
                <a:lnTo>
                  <a:pt x="9145" y="340685"/>
                </a:lnTo>
                <a:lnTo>
                  <a:pt x="8984" y="353603"/>
                </a:lnTo>
                <a:lnTo>
                  <a:pt x="9033" y="366374"/>
                </a:lnTo>
                <a:lnTo>
                  <a:pt x="9397" y="378924"/>
                </a:lnTo>
                <a:lnTo>
                  <a:pt x="10181" y="391179"/>
                </a:lnTo>
                <a:lnTo>
                  <a:pt x="11490" y="403067"/>
                </a:lnTo>
                <a:lnTo>
                  <a:pt x="11599" y="414202"/>
                </a:lnTo>
                <a:lnTo>
                  <a:pt x="10562" y="427460"/>
                </a:lnTo>
                <a:lnTo>
                  <a:pt x="10917" y="439900"/>
                </a:lnTo>
                <a:lnTo>
                  <a:pt x="15300" y="449245"/>
                </a:lnTo>
                <a:lnTo>
                  <a:pt x="16997" y="440716"/>
                </a:lnTo>
                <a:lnTo>
                  <a:pt x="95213" y="440716"/>
                </a:lnTo>
                <a:lnTo>
                  <a:pt x="95513" y="422409"/>
                </a:lnTo>
                <a:lnTo>
                  <a:pt x="95752" y="397955"/>
                </a:lnTo>
                <a:lnTo>
                  <a:pt x="95821" y="378924"/>
                </a:lnTo>
                <a:lnTo>
                  <a:pt x="95795" y="348930"/>
                </a:lnTo>
                <a:lnTo>
                  <a:pt x="95345" y="299794"/>
                </a:lnTo>
                <a:lnTo>
                  <a:pt x="94504" y="250603"/>
                </a:lnTo>
                <a:lnTo>
                  <a:pt x="93375" y="201410"/>
                </a:lnTo>
                <a:lnTo>
                  <a:pt x="92061" y="152271"/>
                </a:lnTo>
                <a:lnTo>
                  <a:pt x="90640" y="102307"/>
                </a:lnTo>
                <a:lnTo>
                  <a:pt x="39564" y="102307"/>
                </a:lnTo>
                <a:lnTo>
                  <a:pt x="37795" y="96871"/>
                </a:lnTo>
                <a:lnTo>
                  <a:pt x="36988" y="88910"/>
                </a:lnTo>
                <a:lnTo>
                  <a:pt x="9561" y="88910"/>
                </a:lnTo>
                <a:lnTo>
                  <a:pt x="3822" y="84307"/>
                </a:lnTo>
                <a:close/>
              </a:path>
              <a:path w="95885" h="504189">
                <a:moveTo>
                  <a:pt x="54821" y="70646"/>
                </a:moveTo>
                <a:lnTo>
                  <a:pt x="45558" y="74195"/>
                </a:lnTo>
                <a:lnTo>
                  <a:pt x="44141" y="87492"/>
                </a:lnTo>
                <a:lnTo>
                  <a:pt x="42033" y="98435"/>
                </a:lnTo>
                <a:lnTo>
                  <a:pt x="39564" y="102307"/>
                </a:lnTo>
                <a:lnTo>
                  <a:pt x="90640" y="102307"/>
                </a:lnTo>
                <a:lnTo>
                  <a:pt x="89769" y="71650"/>
                </a:lnTo>
                <a:lnTo>
                  <a:pt x="62639" y="71650"/>
                </a:lnTo>
                <a:lnTo>
                  <a:pt x="54821" y="70646"/>
                </a:lnTo>
                <a:close/>
              </a:path>
              <a:path w="95885" h="504189">
                <a:moveTo>
                  <a:pt x="36374" y="65806"/>
                </a:moveTo>
                <a:lnTo>
                  <a:pt x="30398" y="65822"/>
                </a:lnTo>
                <a:lnTo>
                  <a:pt x="20295" y="68836"/>
                </a:lnTo>
                <a:lnTo>
                  <a:pt x="11490" y="84307"/>
                </a:lnTo>
                <a:lnTo>
                  <a:pt x="9561" y="88910"/>
                </a:lnTo>
                <a:lnTo>
                  <a:pt x="36988" y="88910"/>
                </a:lnTo>
                <a:lnTo>
                  <a:pt x="36730" y="86369"/>
                </a:lnTo>
                <a:lnTo>
                  <a:pt x="36520" y="79675"/>
                </a:lnTo>
                <a:lnTo>
                  <a:pt x="32564" y="79675"/>
                </a:lnTo>
                <a:lnTo>
                  <a:pt x="36374" y="65806"/>
                </a:lnTo>
                <a:close/>
              </a:path>
              <a:path w="95885" h="504189">
                <a:moveTo>
                  <a:pt x="36374" y="75042"/>
                </a:moveTo>
                <a:lnTo>
                  <a:pt x="32564" y="79675"/>
                </a:lnTo>
                <a:lnTo>
                  <a:pt x="36520" y="79675"/>
                </a:lnTo>
                <a:lnTo>
                  <a:pt x="36374" y="75042"/>
                </a:lnTo>
                <a:close/>
              </a:path>
              <a:path w="95885" h="504189">
                <a:moveTo>
                  <a:pt x="68927" y="47335"/>
                </a:moveTo>
                <a:lnTo>
                  <a:pt x="65080" y="51938"/>
                </a:lnTo>
                <a:lnTo>
                  <a:pt x="62639" y="71650"/>
                </a:lnTo>
                <a:lnTo>
                  <a:pt x="89769" y="71650"/>
                </a:lnTo>
                <a:lnTo>
                  <a:pt x="89349" y="56571"/>
                </a:lnTo>
                <a:lnTo>
                  <a:pt x="76559" y="56571"/>
                </a:lnTo>
                <a:lnTo>
                  <a:pt x="68927" y="47335"/>
                </a:lnTo>
                <a:close/>
              </a:path>
              <a:path w="95885" h="504189">
                <a:moveTo>
                  <a:pt x="86864" y="0"/>
                </a:moveTo>
                <a:lnTo>
                  <a:pt x="83241" y="0"/>
                </a:lnTo>
                <a:lnTo>
                  <a:pt x="82295" y="1128"/>
                </a:lnTo>
                <a:lnTo>
                  <a:pt x="78486" y="1494"/>
                </a:lnTo>
                <a:lnTo>
                  <a:pt x="78734" y="15184"/>
                </a:lnTo>
                <a:lnTo>
                  <a:pt x="78968" y="28442"/>
                </a:lnTo>
                <a:lnTo>
                  <a:pt x="78480" y="40837"/>
                </a:lnTo>
                <a:lnTo>
                  <a:pt x="76559" y="51938"/>
                </a:lnTo>
                <a:lnTo>
                  <a:pt x="76559" y="56571"/>
                </a:lnTo>
                <a:lnTo>
                  <a:pt x="89349" y="56571"/>
                </a:lnTo>
                <a:lnTo>
                  <a:pt x="88640" y="30022"/>
                </a:lnTo>
                <a:lnTo>
                  <a:pt x="88035" y="5730"/>
                </a:lnTo>
                <a:lnTo>
                  <a:pt x="8686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3" name="object 19"/>
          <p:cNvSpPr/>
          <p:nvPr/>
        </p:nvSpPr>
        <p:spPr>
          <a:xfrm>
            <a:off x="2709720" y="4614840"/>
            <a:ext cx="95400" cy="503280"/>
          </a:xfrm>
          <a:custGeom>
            <a:avLst/>
            <a:gdLst/>
            <a:ahLst/>
            <a:rect l="l" t="t" r="r" b="b"/>
            <a:pathLst>
              <a:path w="95885" h="504189">
                <a:moveTo>
                  <a:pt x="93918" y="490789"/>
                </a:moveTo>
                <a:lnTo>
                  <a:pt x="80366" y="490789"/>
                </a:lnTo>
                <a:lnTo>
                  <a:pt x="82413" y="494903"/>
                </a:lnTo>
                <a:lnTo>
                  <a:pt x="87180" y="502556"/>
                </a:lnTo>
                <a:lnTo>
                  <a:pt x="91235" y="503885"/>
                </a:lnTo>
                <a:lnTo>
                  <a:pt x="93771" y="495452"/>
                </a:lnTo>
                <a:lnTo>
                  <a:pt x="93918" y="490789"/>
                </a:lnTo>
                <a:close/>
              </a:path>
              <a:path w="95885" h="504189">
                <a:moveTo>
                  <a:pt x="94298" y="478659"/>
                </a:moveTo>
                <a:lnTo>
                  <a:pt x="61616" y="478659"/>
                </a:lnTo>
                <a:lnTo>
                  <a:pt x="68798" y="491250"/>
                </a:lnTo>
                <a:lnTo>
                  <a:pt x="76556" y="495452"/>
                </a:lnTo>
                <a:lnTo>
                  <a:pt x="74627" y="490789"/>
                </a:lnTo>
                <a:lnTo>
                  <a:pt x="93918" y="490789"/>
                </a:lnTo>
                <a:lnTo>
                  <a:pt x="94298" y="478659"/>
                </a:lnTo>
                <a:close/>
              </a:path>
              <a:path w="95885" h="504189">
                <a:moveTo>
                  <a:pt x="94497" y="472348"/>
                </a:moveTo>
                <a:lnTo>
                  <a:pt x="49731" y="472348"/>
                </a:lnTo>
                <a:lnTo>
                  <a:pt x="49731" y="481584"/>
                </a:lnTo>
                <a:lnTo>
                  <a:pt x="53589" y="481584"/>
                </a:lnTo>
                <a:lnTo>
                  <a:pt x="57399" y="486186"/>
                </a:lnTo>
                <a:lnTo>
                  <a:pt x="59329" y="481584"/>
                </a:lnTo>
                <a:lnTo>
                  <a:pt x="61616" y="478659"/>
                </a:lnTo>
                <a:lnTo>
                  <a:pt x="94298" y="478659"/>
                </a:lnTo>
                <a:lnTo>
                  <a:pt x="94497" y="472348"/>
                </a:lnTo>
                <a:close/>
              </a:path>
              <a:path w="95885" h="504189">
                <a:moveTo>
                  <a:pt x="95051" y="449245"/>
                </a:moveTo>
                <a:lnTo>
                  <a:pt x="24896" y="449245"/>
                </a:lnTo>
                <a:lnTo>
                  <a:pt x="31144" y="456407"/>
                </a:lnTo>
                <a:lnTo>
                  <a:pt x="30286" y="469472"/>
                </a:lnTo>
                <a:lnTo>
                  <a:pt x="30586" y="481584"/>
                </a:lnTo>
                <a:lnTo>
                  <a:pt x="40181" y="481584"/>
                </a:lnTo>
                <a:lnTo>
                  <a:pt x="40181" y="472348"/>
                </a:lnTo>
                <a:lnTo>
                  <a:pt x="94497" y="472348"/>
                </a:lnTo>
                <a:lnTo>
                  <a:pt x="94534" y="471164"/>
                </a:lnTo>
                <a:lnTo>
                  <a:pt x="95051" y="449245"/>
                </a:lnTo>
                <a:close/>
              </a:path>
              <a:path w="95885" h="504189">
                <a:moveTo>
                  <a:pt x="95208" y="440692"/>
                </a:moveTo>
                <a:lnTo>
                  <a:pt x="16976" y="440692"/>
                </a:lnTo>
                <a:lnTo>
                  <a:pt x="17875" y="452778"/>
                </a:lnTo>
                <a:lnTo>
                  <a:pt x="17018" y="464861"/>
                </a:lnTo>
                <a:lnTo>
                  <a:pt x="17227" y="476951"/>
                </a:lnTo>
                <a:lnTo>
                  <a:pt x="22966" y="476951"/>
                </a:lnTo>
                <a:lnTo>
                  <a:pt x="24677" y="474907"/>
                </a:lnTo>
                <a:lnTo>
                  <a:pt x="24056" y="461599"/>
                </a:lnTo>
                <a:lnTo>
                  <a:pt x="24896" y="449245"/>
                </a:lnTo>
                <a:lnTo>
                  <a:pt x="95051" y="449245"/>
                </a:lnTo>
                <a:lnTo>
                  <a:pt x="95108" y="446814"/>
                </a:lnTo>
                <a:lnTo>
                  <a:pt x="95208" y="440692"/>
                </a:lnTo>
                <a:close/>
              </a:path>
              <a:path w="95885" h="504189">
                <a:moveTo>
                  <a:pt x="3822" y="84307"/>
                </a:moveTo>
                <a:lnTo>
                  <a:pt x="0" y="86418"/>
                </a:lnTo>
                <a:lnTo>
                  <a:pt x="31" y="110192"/>
                </a:lnTo>
                <a:lnTo>
                  <a:pt x="96" y="122286"/>
                </a:lnTo>
                <a:lnTo>
                  <a:pt x="1115" y="172022"/>
                </a:lnTo>
                <a:lnTo>
                  <a:pt x="3180" y="210732"/>
                </a:lnTo>
                <a:lnTo>
                  <a:pt x="6902" y="250627"/>
                </a:lnTo>
                <a:lnTo>
                  <a:pt x="8596" y="264186"/>
                </a:lnTo>
                <a:lnTo>
                  <a:pt x="9381" y="276449"/>
                </a:lnTo>
                <a:lnTo>
                  <a:pt x="9746" y="289004"/>
                </a:lnTo>
                <a:lnTo>
                  <a:pt x="9795" y="301779"/>
                </a:lnTo>
                <a:lnTo>
                  <a:pt x="9635" y="314699"/>
                </a:lnTo>
                <a:lnTo>
                  <a:pt x="9106" y="340685"/>
                </a:lnTo>
                <a:lnTo>
                  <a:pt x="8948" y="353603"/>
                </a:lnTo>
                <a:lnTo>
                  <a:pt x="9002" y="366374"/>
                </a:lnTo>
                <a:lnTo>
                  <a:pt x="9373" y="378924"/>
                </a:lnTo>
                <a:lnTo>
                  <a:pt x="10166" y="391179"/>
                </a:lnTo>
                <a:lnTo>
                  <a:pt x="11487" y="403067"/>
                </a:lnTo>
                <a:lnTo>
                  <a:pt x="11576" y="414179"/>
                </a:lnTo>
                <a:lnTo>
                  <a:pt x="10538" y="427444"/>
                </a:lnTo>
                <a:lnTo>
                  <a:pt x="10901" y="439893"/>
                </a:lnTo>
                <a:lnTo>
                  <a:pt x="15297" y="449245"/>
                </a:lnTo>
                <a:lnTo>
                  <a:pt x="16976" y="440692"/>
                </a:lnTo>
                <a:lnTo>
                  <a:pt x="95208" y="440692"/>
                </a:lnTo>
                <a:lnTo>
                  <a:pt x="95507" y="422409"/>
                </a:lnTo>
                <a:lnTo>
                  <a:pt x="95744" y="397955"/>
                </a:lnTo>
                <a:lnTo>
                  <a:pt x="95812" y="378924"/>
                </a:lnTo>
                <a:lnTo>
                  <a:pt x="95783" y="348930"/>
                </a:lnTo>
                <a:lnTo>
                  <a:pt x="95329" y="299794"/>
                </a:lnTo>
                <a:lnTo>
                  <a:pt x="94484" y="250603"/>
                </a:lnTo>
                <a:lnTo>
                  <a:pt x="93353" y="201410"/>
                </a:lnTo>
                <a:lnTo>
                  <a:pt x="92039" y="152271"/>
                </a:lnTo>
                <a:lnTo>
                  <a:pt x="90621" y="102307"/>
                </a:lnTo>
                <a:lnTo>
                  <a:pt x="39515" y="102307"/>
                </a:lnTo>
                <a:lnTo>
                  <a:pt x="37746" y="96871"/>
                </a:lnTo>
                <a:lnTo>
                  <a:pt x="36939" y="88910"/>
                </a:lnTo>
                <a:lnTo>
                  <a:pt x="9558" y="88910"/>
                </a:lnTo>
                <a:lnTo>
                  <a:pt x="3822" y="84307"/>
                </a:lnTo>
                <a:close/>
              </a:path>
              <a:path w="95885" h="504189">
                <a:moveTo>
                  <a:pt x="54804" y="70648"/>
                </a:moveTo>
                <a:lnTo>
                  <a:pt x="45530" y="74209"/>
                </a:lnTo>
                <a:lnTo>
                  <a:pt x="44095" y="87500"/>
                </a:lnTo>
                <a:lnTo>
                  <a:pt x="41984" y="98435"/>
                </a:lnTo>
                <a:lnTo>
                  <a:pt x="39515" y="102307"/>
                </a:lnTo>
                <a:lnTo>
                  <a:pt x="90621" y="102307"/>
                </a:lnTo>
                <a:lnTo>
                  <a:pt x="89754" y="71653"/>
                </a:lnTo>
                <a:lnTo>
                  <a:pt x="62619" y="71653"/>
                </a:lnTo>
                <a:lnTo>
                  <a:pt x="54804" y="70648"/>
                </a:lnTo>
                <a:close/>
              </a:path>
              <a:path w="95885" h="504189">
                <a:moveTo>
                  <a:pt x="36326" y="65806"/>
                </a:moveTo>
                <a:lnTo>
                  <a:pt x="30387" y="65821"/>
                </a:lnTo>
                <a:lnTo>
                  <a:pt x="20300" y="68827"/>
                </a:lnTo>
                <a:lnTo>
                  <a:pt x="11487" y="84307"/>
                </a:lnTo>
                <a:lnTo>
                  <a:pt x="9558" y="88910"/>
                </a:lnTo>
                <a:lnTo>
                  <a:pt x="36939" y="88910"/>
                </a:lnTo>
                <a:lnTo>
                  <a:pt x="36681" y="86369"/>
                </a:lnTo>
                <a:lnTo>
                  <a:pt x="36471" y="79675"/>
                </a:lnTo>
                <a:lnTo>
                  <a:pt x="32516" y="79675"/>
                </a:lnTo>
                <a:lnTo>
                  <a:pt x="36326" y="65806"/>
                </a:lnTo>
                <a:close/>
              </a:path>
              <a:path w="95885" h="504189">
                <a:moveTo>
                  <a:pt x="36326" y="75042"/>
                </a:moveTo>
                <a:lnTo>
                  <a:pt x="32516" y="79675"/>
                </a:lnTo>
                <a:lnTo>
                  <a:pt x="36471" y="79675"/>
                </a:lnTo>
                <a:lnTo>
                  <a:pt x="36326" y="75042"/>
                </a:lnTo>
                <a:close/>
              </a:path>
              <a:path w="95885" h="504189">
                <a:moveTo>
                  <a:pt x="68887" y="47335"/>
                </a:moveTo>
                <a:lnTo>
                  <a:pt x="65077" y="51938"/>
                </a:lnTo>
                <a:lnTo>
                  <a:pt x="62619" y="71653"/>
                </a:lnTo>
                <a:lnTo>
                  <a:pt x="89754" y="71653"/>
                </a:lnTo>
                <a:lnTo>
                  <a:pt x="89337" y="56571"/>
                </a:lnTo>
                <a:lnTo>
                  <a:pt x="76556" y="56571"/>
                </a:lnTo>
                <a:lnTo>
                  <a:pt x="68887" y="47335"/>
                </a:lnTo>
                <a:close/>
              </a:path>
              <a:path w="95885" h="504189">
                <a:moveTo>
                  <a:pt x="86834" y="0"/>
                </a:moveTo>
                <a:lnTo>
                  <a:pt x="83229" y="0"/>
                </a:lnTo>
                <a:lnTo>
                  <a:pt x="82295" y="1128"/>
                </a:lnTo>
                <a:lnTo>
                  <a:pt x="78486" y="1483"/>
                </a:lnTo>
                <a:lnTo>
                  <a:pt x="78727" y="15175"/>
                </a:lnTo>
                <a:lnTo>
                  <a:pt x="78949" y="28437"/>
                </a:lnTo>
                <a:lnTo>
                  <a:pt x="78458" y="40835"/>
                </a:lnTo>
                <a:lnTo>
                  <a:pt x="76556" y="51938"/>
                </a:lnTo>
                <a:lnTo>
                  <a:pt x="76556" y="56571"/>
                </a:lnTo>
                <a:lnTo>
                  <a:pt x="89337" y="56571"/>
                </a:lnTo>
                <a:lnTo>
                  <a:pt x="88633" y="30022"/>
                </a:lnTo>
                <a:lnTo>
                  <a:pt x="88035" y="5730"/>
                </a:lnTo>
                <a:lnTo>
                  <a:pt x="86834" y="0"/>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20"/>
          <p:cNvSpPr/>
          <p:nvPr/>
        </p:nvSpPr>
        <p:spPr>
          <a:xfrm>
            <a:off x="2836800" y="0"/>
            <a:ext cx="2419560" cy="173988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bject 21"/>
          <p:cNvSpPr/>
          <p:nvPr/>
        </p:nvSpPr>
        <p:spPr>
          <a:xfrm>
            <a:off x="1927080" y="9879120"/>
            <a:ext cx="2124360" cy="407880"/>
          </a:xfrm>
          <a:custGeom>
            <a:avLst/>
            <a:gdLst/>
            <a:ahLst/>
            <a:rect l="l" t="t" r="r" b="b"/>
            <a:pathLst>
              <a:path w="2124075" h="408304">
                <a:moveTo>
                  <a:pt x="814041" y="125895"/>
                </a:moveTo>
                <a:lnTo>
                  <a:pt x="773052" y="136590"/>
                </a:lnTo>
                <a:lnTo>
                  <a:pt x="740920" y="157545"/>
                </a:lnTo>
                <a:lnTo>
                  <a:pt x="718724" y="177867"/>
                </a:lnTo>
                <a:lnTo>
                  <a:pt x="709393" y="186681"/>
                </a:lnTo>
                <a:lnTo>
                  <a:pt x="662170" y="259782"/>
                </a:lnTo>
                <a:lnTo>
                  <a:pt x="607552" y="354040"/>
                </a:lnTo>
                <a:lnTo>
                  <a:pt x="576835" y="407708"/>
                </a:lnTo>
                <a:lnTo>
                  <a:pt x="693109" y="407708"/>
                </a:lnTo>
                <a:lnTo>
                  <a:pt x="699438" y="397283"/>
                </a:lnTo>
                <a:lnTo>
                  <a:pt x="705899" y="386918"/>
                </a:lnTo>
                <a:lnTo>
                  <a:pt x="726671" y="354885"/>
                </a:lnTo>
                <a:lnTo>
                  <a:pt x="756818" y="309906"/>
                </a:lnTo>
                <a:lnTo>
                  <a:pt x="787908" y="271039"/>
                </a:lnTo>
                <a:lnTo>
                  <a:pt x="817215" y="246368"/>
                </a:lnTo>
                <a:lnTo>
                  <a:pt x="854479" y="227197"/>
                </a:lnTo>
                <a:lnTo>
                  <a:pt x="940801" y="227197"/>
                </a:lnTo>
                <a:lnTo>
                  <a:pt x="939048" y="223567"/>
                </a:lnTo>
                <a:lnTo>
                  <a:pt x="910226" y="180262"/>
                </a:lnTo>
                <a:lnTo>
                  <a:pt x="882025" y="152282"/>
                </a:lnTo>
                <a:lnTo>
                  <a:pt x="843656" y="130355"/>
                </a:lnTo>
                <a:lnTo>
                  <a:pt x="824008" y="126214"/>
                </a:lnTo>
                <a:lnTo>
                  <a:pt x="814041" y="125895"/>
                </a:lnTo>
                <a:close/>
              </a:path>
              <a:path w="2124075" h="408304">
                <a:moveTo>
                  <a:pt x="940801" y="227197"/>
                </a:moveTo>
                <a:lnTo>
                  <a:pt x="854479" y="227197"/>
                </a:lnTo>
                <a:lnTo>
                  <a:pt x="857457" y="238567"/>
                </a:lnTo>
                <a:lnTo>
                  <a:pt x="863425" y="261258"/>
                </a:lnTo>
                <a:lnTo>
                  <a:pt x="866461" y="272878"/>
                </a:lnTo>
                <a:lnTo>
                  <a:pt x="875930" y="310135"/>
                </a:lnTo>
                <a:lnTo>
                  <a:pt x="882670" y="338060"/>
                </a:lnTo>
                <a:lnTo>
                  <a:pt x="885752" y="350081"/>
                </a:lnTo>
                <a:lnTo>
                  <a:pt x="888822" y="362126"/>
                </a:lnTo>
                <a:lnTo>
                  <a:pt x="891885" y="374197"/>
                </a:lnTo>
                <a:lnTo>
                  <a:pt x="900364" y="407708"/>
                </a:lnTo>
                <a:lnTo>
                  <a:pt x="997137" y="407708"/>
                </a:lnTo>
                <a:lnTo>
                  <a:pt x="988497" y="369767"/>
                </a:lnTo>
                <a:lnTo>
                  <a:pt x="978331" y="332342"/>
                </a:lnTo>
                <a:lnTo>
                  <a:pt x="967084" y="295496"/>
                </a:lnTo>
                <a:lnTo>
                  <a:pt x="954440" y="258699"/>
                </a:lnTo>
                <a:lnTo>
                  <a:pt x="944567" y="234993"/>
                </a:lnTo>
                <a:lnTo>
                  <a:pt x="940801" y="227197"/>
                </a:lnTo>
                <a:close/>
              </a:path>
              <a:path w="2124075" h="408304">
                <a:moveTo>
                  <a:pt x="234438" y="121028"/>
                </a:moveTo>
                <a:lnTo>
                  <a:pt x="187722" y="133522"/>
                </a:lnTo>
                <a:lnTo>
                  <a:pt x="154975" y="158683"/>
                </a:lnTo>
                <a:lnTo>
                  <a:pt x="127884" y="186194"/>
                </a:lnTo>
                <a:lnTo>
                  <a:pt x="103833" y="215960"/>
                </a:lnTo>
                <a:lnTo>
                  <a:pt x="82225" y="247460"/>
                </a:lnTo>
                <a:lnTo>
                  <a:pt x="62467" y="280174"/>
                </a:lnTo>
                <a:lnTo>
                  <a:pt x="43964" y="313581"/>
                </a:lnTo>
                <a:lnTo>
                  <a:pt x="17527" y="366430"/>
                </a:lnTo>
                <a:lnTo>
                  <a:pt x="0" y="407708"/>
                </a:lnTo>
                <a:lnTo>
                  <a:pt x="115984" y="407708"/>
                </a:lnTo>
                <a:lnTo>
                  <a:pt x="140846" y="363333"/>
                </a:lnTo>
                <a:lnTo>
                  <a:pt x="147697" y="350951"/>
                </a:lnTo>
                <a:lnTo>
                  <a:pt x="154347" y="340103"/>
                </a:lnTo>
                <a:lnTo>
                  <a:pt x="184181" y="299567"/>
                </a:lnTo>
                <a:lnTo>
                  <a:pt x="219947" y="263745"/>
                </a:lnTo>
                <a:lnTo>
                  <a:pt x="251267" y="240085"/>
                </a:lnTo>
                <a:lnTo>
                  <a:pt x="274523" y="225884"/>
                </a:lnTo>
                <a:lnTo>
                  <a:pt x="371011" y="225884"/>
                </a:lnTo>
                <a:lnTo>
                  <a:pt x="366518" y="218211"/>
                </a:lnTo>
                <a:lnTo>
                  <a:pt x="336010" y="178180"/>
                </a:lnTo>
                <a:lnTo>
                  <a:pt x="306713" y="152508"/>
                </a:lnTo>
                <a:lnTo>
                  <a:pt x="270759" y="131404"/>
                </a:lnTo>
                <a:lnTo>
                  <a:pt x="245727" y="122482"/>
                </a:lnTo>
                <a:lnTo>
                  <a:pt x="234438" y="121028"/>
                </a:lnTo>
                <a:close/>
              </a:path>
              <a:path w="2124075" h="408304">
                <a:moveTo>
                  <a:pt x="371011" y="225884"/>
                </a:moveTo>
                <a:lnTo>
                  <a:pt x="274523" y="225884"/>
                </a:lnTo>
                <a:lnTo>
                  <a:pt x="279628" y="237771"/>
                </a:lnTo>
                <a:lnTo>
                  <a:pt x="289755" y="260749"/>
                </a:lnTo>
                <a:lnTo>
                  <a:pt x="294649" y="272113"/>
                </a:lnTo>
                <a:lnTo>
                  <a:pt x="311605" y="319930"/>
                </a:lnTo>
                <a:lnTo>
                  <a:pt x="323901" y="367152"/>
                </a:lnTo>
                <a:lnTo>
                  <a:pt x="334217" y="407708"/>
                </a:lnTo>
                <a:lnTo>
                  <a:pt x="432938" y="407708"/>
                </a:lnTo>
                <a:lnTo>
                  <a:pt x="430523" y="398329"/>
                </a:lnTo>
                <a:lnTo>
                  <a:pt x="424487" y="374549"/>
                </a:lnTo>
                <a:lnTo>
                  <a:pt x="421404" y="362550"/>
                </a:lnTo>
                <a:lnTo>
                  <a:pt x="407635" y="313706"/>
                </a:lnTo>
                <a:lnTo>
                  <a:pt x="394603" y="276020"/>
                </a:lnTo>
                <a:lnTo>
                  <a:pt x="378801" y="240208"/>
                </a:lnTo>
                <a:lnTo>
                  <a:pt x="372875" y="229067"/>
                </a:lnTo>
                <a:lnTo>
                  <a:pt x="371011" y="225884"/>
                </a:lnTo>
                <a:close/>
              </a:path>
              <a:path w="2124075" h="408304">
                <a:moveTo>
                  <a:pt x="1365541" y="94443"/>
                </a:moveTo>
                <a:lnTo>
                  <a:pt x="1320443" y="111027"/>
                </a:lnTo>
                <a:lnTo>
                  <a:pt x="1281987" y="144456"/>
                </a:lnTo>
                <a:lnTo>
                  <a:pt x="1246262" y="179307"/>
                </a:lnTo>
                <a:lnTo>
                  <a:pt x="1219753" y="208925"/>
                </a:lnTo>
                <a:lnTo>
                  <a:pt x="1195260" y="241307"/>
                </a:lnTo>
                <a:lnTo>
                  <a:pt x="1167458" y="283651"/>
                </a:lnTo>
                <a:lnTo>
                  <a:pt x="1147502" y="316233"/>
                </a:lnTo>
                <a:lnTo>
                  <a:pt x="1095985" y="404248"/>
                </a:lnTo>
                <a:lnTo>
                  <a:pt x="1093948" y="407708"/>
                </a:lnTo>
                <a:lnTo>
                  <a:pt x="1218301" y="407708"/>
                </a:lnTo>
                <a:lnTo>
                  <a:pt x="1218916" y="406621"/>
                </a:lnTo>
                <a:lnTo>
                  <a:pt x="1226591" y="393455"/>
                </a:lnTo>
                <a:lnTo>
                  <a:pt x="1250939" y="353993"/>
                </a:lnTo>
                <a:lnTo>
                  <a:pt x="1277380" y="314443"/>
                </a:lnTo>
                <a:lnTo>
                  <a:pt x="1304463" y="278206"/>
                </a:lnTo>
                <a:lnTo>
                  <a:pt x="1330651" y="250520"/>
                </a:lnTo>
                <a:lnTo>
                  <a:pt x="1376458" y="206531"/>
                </a:lnTo>
                <a:lnTo>
                  <a:pt x="1385508" y="197622"/>
                </a:lnTo>
                <a:lnTo>
                  <a:pt x="1480880" y="197622"/>
                </a:lnTo>
                <a:lnTo>
                  <a:pt x="1480704" y="197208"/>
                </a:lnTo>
                <a:lnTo>
                  <a:pt x="1454078" y="154164"/>
                </a:lnTo>
                <a:lnTo>
                  <a:pt x="1426880" y="123929"/>
                </a:lnTo>
                <a:lnTo>
                  <a:pt x="1386555" y="97352"/>
                </a:lnTo>
                <a:lnTo>
                  <a:pt x="1376162" y="95024"/>
                </a:lnTo>
                <a:lnTo>
                  <a:pt x="1365541" y="94443"/>
                </a:lnTo>
                <a:close/>
              </a:path>
              <a:path w="2124075" h="408304">
                <a:moveTo>
                  <a:pt x="1480880" y="197622"/>
                </a:moveTo>
                <a:lnTo>
                  <a:pt x="1385508" y="197622"/>
                </a:lnTo>
                <a:lnTo>
                  <a:pt x="1389928" y="199110"/>
                </a:lnTo>
                <a:lnTo>
                  <a:pt x="1392884" y="202063"/>
                </a:lnTo>
                <a:lnTo>
                  <a:pt x="1406876" y="245211"/>
                </a:lnTo>
                <a:lnTo>
                  <a:pt x="1411514" y="285441"/>
                </a:lnTo>
                <a:lnTo>
                  <a:pt x="1418250" y="349442"/>
                </a:lnTo>
                <a:lnTo>
                  <a:pt x="1420648" y="372366"/>
                </a:lnTo>
                <a:lnTo>
                  <a:pt x="1421989" y="385063"/>
                </a:lnTo>
                <a:lnTo>
                  <a:pt x="1423356" y="397870"/>
                </a:lnTo>
                <a:lnTo>
                  <a:pt x="1424419" y="407708"/>
                </a:lnTo>
                <a:lnTo>
                  <a:pt x="1519081" y="407708"/>
                </a:lnTo>
                <a:lnTo>
                  <a:pt x="1518006" y="400474"/>
                </a:lnTo>
                <a:lnTo>
                  <a:pt x="1516132" y="387782"/>
                </a:lnTo>
                <a:lnTo>
                  <a:pt x="1510541" y="349442"/>
                </a:lnTo>
                <a:lnTo>
                  <a:pt x="1504956" y="310655"/>
                </a:lnTo>
                <a:lnTo>
                  <a:pt x="1495524" y="244847"/>
                </a:lnTo>
                <a:lnTo>
                  <a:pt x="1492973" y="232419"/>
                </a:lnTo>
                <a:lnTo>
                  <a:pt x="1489644" y="220353"/>
                </a:lnTo>
                <a:lnTo>
                  <a:pt x="1485550" y="208624"/>
                </a:lnTo>
                <a:lnTo>
                  <a:pt x="1480880" y="197622"/>
                </a:lnTo>
                <a:close/>
              </a:path>
              <a:path w="2124075" h="408304">
                <a:moveTo>
                  <a:pt x="1982688" y="0"/>
                </a:moveTo>
                <a:lnTo>
                  <a:pt x="1931516" y="9594"/>
                </a:lnTo>
                <a:lnTo>
                  <a:pt x="1893670" y="27550"/>
                </a:lnTo>
                <a:lnTo>
                  <a:pt x="1861856" y="49424"/>
                </a:lnTo>
                <a:lnTo>
                  <a:pt x="1833154" y="74880"/>
                </a:lnTo>
                <a:lnTo>
                  <a:pt x="1807112" y="103153"/>
                </a:lnTo>
                <a:lnTo>
                  <a:pt x="1783280" y="133479"/>
                </a:lnTo>
                <a:lnTo>
                  <a:pt x="1761205" y="165094"/>
                </a:lnTo>
                <a:lnTo>
                  <a:pt x="1734266" y="207316"/>
                </a:lnTo>
                <a:lnTo>
                  <a:pt x="1707862" y="250160"/>
                </a:lnTo>
                <a:lnTo>
                  <a:pt x="1673023" y="308294"/>
                </a:lnTo>
                <a:lnTo>
                  <a:pt x="1614382" y="407708"/>
                </a:lnTo>
                <a:lnTo>
                  <a:pt x="1729076" y="407708"/>
                </a:lnTo>
                <a:lnTo>
                  <a:pt x="1730383" y="405137"/>
                </a:lnTo>
                <a:lnTo>
                  <a:pt x="1736664" y="393838"/>
                </a:lnTo>
                <a:lnTo>
                  <a:pt x="1743480" y="382769"/>
                </a:lnTo>
                <a:lnTo>
                  <a:pt x="1750920" y="371981"/>
                </a:lnTo>
                <a:lnTo>
                  <a:pt x="1759075" y="361525"/>
                </a:lnTo>
                <a:lnTo>
                  <a:pt x="1766775" y="351374"/>
                </a:lnTo>
                <a:lnTo>
                  <a:pt x="1787671" y="319495"/>
                </a:lnTo>
                <a:lnTo>
                  <a:pt x="1813060" y="275417"/>
                </a:lnTo>
                <a:lnTo>
                  <a:pt x="1819443" y="264430"/>
                </a:lnTo>
                <a:lnTo>
                  <a:pt x="1847267" y="222019"/>
                </a:lnTo>
                <a:lnTo>
                  <a:pt x="1872546" y="193140"/>
                </a:lnTo>
                <a:lnTo>
                  <a:pt x="1892572" y="175988"/>
                </a:lnTo>
                <a:lnTo>
                  <a:pt x="1901125" y="168846"/>
                </a:lnTo>
                <a:lnTo>
                  <a:pt x="1938411" y="137447"/>
                </a:lnTo>
                <a:lnTo>
                  <a:pt x="1976410" y="116081"/>
                </a:lnTo>
                <a:lnTo>
                  <a:pt x="1987469" y="113429"/>
                </a:lnTo>
                <a:lnTo>
                  <a:pt x="2081657" y="113429"/>
                </a:lnTo>
                <a:lnTo>
                  <a:pt x="2079655" y="107297"/>
                </a:lnTo>
                <a:lnTo>
                  <a:pt x="2065928" y="70660"/>
                </a:lnTo>
                <a:lnTo>
                  <a:pt x="2047156" y="35709"/>
                </a:lnTo>
                <a:lnTo>
                  <a:pt x="2013857" y="7026"/>
                </a:lnTo>
                <a:lnTo>
                  <a:pt x="1993720" y="976"/>
                </a:lnTo>
                <a:lnTo>
                  <a:pt x="1982688" y="0"/>
                </a:lnTo>
                <a:close/>
              </a:path>
              <a:path w="2124075" h="408304">
                <a:moveTo>
                  <a:pt x="2081657" y="113429"/>
                </a:moveTo>
                <a:lnTo>
                  <a:pt x="1987469" y="113429"/>
                </a:lnTo>
                <a:lnTo>
                  <a:pt x="1996577" y="113764"/>
                </a:lnTo>
                <a:lnTo>
                  <a:pt x="2003941" y="117182"/>
                </a:lnTo>
                <a:lnTo>
                  <a:pt x="2009767" y="123780"/>
                </a:lnTo>
                <a:lnTo>
                  <a:pt x="2014260" y="133655"/>
                </a:lnTo>
                <a:lnTo>
                  <a:pt x="2017626" y="146902"/>
                </a:lnTo>
                <a:lnTo>
                  <a:pt x="2020071" y="163618"/>
                </a:lnTo>
                <a:lnTo>
                  <a:pt x="2020071" y="173964"/>
                </a:lnTo>
                <a:lnTo>
                  <a:pt x="2021987" y="193493"/>
                </a:lnTo>
                <a:lnTo>
                  <a:pt x="2023768" y="213042"/>
                </a:lnTo>
                <a:lnTo>
                  <a:pt x="2025456" y="232608"/>
                </a:lnTo>
                <a:lnTo>
                  <a:pt x="2027093" y="252188"/>
                </a:lnTo>
                <a:lnTo>
                  <a:pt x="2028723" y="271780"/>
                </a:lnTo>
                <a:lnTo>
                  <a:pt x="2030387" y="291381"/>
                </a:lnTo>
                <a:lnTo>
                  <a:pt x="2033989" y="330601"/>
                </a:lnTo>
                <a:lnTo>
                  <a:pt x="2038239" y="369828"/>
                </a:lnTo>
                <a:lnTo>
                  <a:pt x="2043290" y="407708"/>
                </a:lnTo>
                <a:lnTo>
                  <a:pt x="2124076" y="407708"/>
                </a:lnTo>
                <a:lnTo>
                  <a:pt x="2122979" y="396911"/>
                </a:lnTo>
                <a:lnTo>
                  <a:pt x="2121284" y="378948"/>
                </a:lnTo>
                <a:lnTo>
                  <a:pt x="2116681" y="324247"/>
                </a:lnTo>
                <a:lnTo>
                  <a:pt x="2112345" y="268226"/>
                </a:lnTo>
                <a:lnTo>
                  <a:pt x="2111118" y="255622"/>
                </a:lnTo>
                <a:lnTo>
                  <a:pt x="2104293" y="205669"/>
                </a:lnTo>
                <a:lnTo>
                  <a:pt x="2093989" y="156298"/>
                </a:lnTo>
                <a:lnTo>
                  <a:pt x="2083646" y="119524"/>
                </a:lnTo>
                <a:lnTo>
                  <a:pt x="2081657" y="113429"/>
                </a:lnTo>
                <a:close/>
              </a:path>
            </a:pathLst>
          </a:custGeom>
          <a:solidFill>
            <a:srgbClr val="050606"/>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6" name="object 22"/>
          <p:cNvSpPr/>
          <p:nvPr/>
        </p:nvSpPr>
        <p:spPr>
          <a:xfrm>
            <a:off x="0" y="10088640"/>
            <a:ext cx="1319040" cy="1983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23T11:23:21Z</dcterms:created>
  <dc:creator>Online2PDF.com</dc:creator>
  <dc:description/>
  <dc:language>en-US</dc:language>
  <cp:lastModifiedBy>Dell</cp:lastModifiedBy>
  <dcterms:modified xsi:type="dcterms:W3CDTF">2019-05-23T15:09:36Z</dcterms:modified>
  <cp:revision>15</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9-05-23T00:00:00Z</vt:filetime>
  </property>
  <property fmtid="{D5CDD505-2E9C-101B-9397-08002B2CF9AE}" pid="3" name="LastSaved">
    <vt:filetime>2019-05-23T00:00:00Z</vt:filetime>
  </property>
</Properties>
</file>