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25D-F9EE-4CB6-A496-0460F069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DB3-0889-4F34-96F9-849E33F4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285-09D3-4A1E-B8AB-D45CDA16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A85-A1F8-4D2A-BC1E-002C622E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5A2-F819-4231-9EE2-EC873F84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257-2507-4E8C-AB19-DD5B016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DB8-5722-4FFC-94FA-45F199F0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C5B-6664-4F9B-867E-C004630C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433-B89B-4F27-8681-764FB615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582-7965-45EE-B4B7-9CB42ED0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992-53C0-4047-80CD-30D9BA76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7D4-7C36-48FF-B4D8-648D5BD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C053-1EBC-4066-A8D8-3A633B63F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ppsfun.de/start.htm" TargetMode="External"/><Relationship Id="rId2" Type="http://schemas.openxmlformats.org/officeDocument/2006/relationships/hyperlink" Target="http://www.ppsfun.de/start.htm" TargetMode="External"/><Relationship Id="rId3" Type="http://schemas.openxmlformats.org/officeDocument/2006/relationships/image" Target="../media/image27.png"/><Relationship Id="rId4" Type="http://schemas.openxmlformats.org/officeDocument/2006/relationships/hyperlink" Target="http://www.ppsfun.de/start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5335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Nimm Dir einen Moment Zeit, einige wichtige Regeln zu lerne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01" descr=""/>
          <p:cNvPicPr/>
          <p:nvPr/>
        </p:nvPicPr>
        <p:blipFill>
          <a:blip r:embed="rId1"/>
          <a:stretch/>
        </p:blipFill>
        <p:spPr>
          <a:xfrm>
            <a:off x="2216160" y="1943280"/>
            <a:ext cx="4711680" cy="36194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317" descr=""/>
          <p:cNvPicPr/>
          <p:nvPr/>
        </p:nvPicPr>
        <p:blipFill>
          <a:blip r:embed="rId1"/>
          <a:stretch/>
        </p:blipFill>
        <p:spPr>
          <a:xfrm>
            <a:off x="2438280" y="2143080"/>
            <a:ext cx="4286520" cy="31910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914400" y="914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Triff Dich mit Leuten, die anders sind als D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377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2692440" cy="40384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666880" y="5335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Bleib ruhi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376" descr=""/>
          <p:cNvPicPr/>
          <p:nvPr/>
        </p:nvPicPr>
        <p:blipFill>
          <a:blip r:embed="rId1"/>
          <a:stretch/>
        </p:blipFill>
        <p:spPr>
          <a:xfrm>
            <a:off x="3200400" y="1457280"/>
            <a:ext cx="2743200" cy="45626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0" y="380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auch wenn die Lage hoffnungslos ersche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361" descr=""/>
          <p:cNvPicPr/>
          <p:nvPr/>
        </p:nvPicPr>
        <p:blipFill>
          <a:blip r:embed="rId1"/>
          <a:stretch/>
        </p:blipFill>
        <p:spPr>
          <a:xfrm>
            <a:off x="1905120" y="1760400"/>
            <a:ext cx="5410080" cy="37260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676520" y="5335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Ein kleines Nickerche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323" descr=""/>
          <p:cNvPicPr/>
          <p:nvPr/>
        </p:nvPicPr>
        <p:blipFill>
          <a:blip r:embed="rId1"/>
          <a:stretch/>
        </p:blipFill>
        <p:spPr>
          <a:xfrm>
            <a:off x="2416320" y="1371600"/>
            <a:ext cx="4276440" cy="49528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05120" y="533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Entspanne Di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330" descr=""/>
          <p:cNvPicPr/>
          <p:nvPr/>
        </p:nvPicPr>
        <p:blipFill>
          <a:blip r:embed="rId1"/>
          <a:stretch/>
        </p:blipFill>
        <p:spPr>
          <a:xfrm>
            <a:off x="2641680" y="1676520"/>
            <a:ext cx="3835440" cy="41148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81080" y="6858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Halte den Kopf ho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335" descr=""/>
          <p:cNvPicPr/>
          <p:nvPr/>
        </p:nvPicPr>
        <p:blipFill>
          <a:blip r:embed="rId1"/>
          <a:stretch/>
        </p:blipFill>
        <p:spPr>
          <a:xfrm>
            <a:off x="2362320" y="1835280"/>
            <a:ext cx="4572000" cy="381132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Lass Dich mit teuren Geschenken verwöh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337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057480" cy="45720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37160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Es gibt keinen Grund, sich zu versteck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355" descr=""/>
          <p:cNvPicPr/>
          <p:nvPr/>
        </p:nvPicPr>
        <p:blipFill>
          <a:blip r:embed="rId1"/>
          <a:stretch/>
        </p:blipFill>
        <p:spPr>
          <a:xfrm>
            <a:off x="3048120" y="1865160"/>
            <a:ext cx="3120840" cy="445932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4572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Es gibt immer jemand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der Dich mehr liebt, als Du denk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344" descr=""/>
          <p:cNvPicPr/>
          <p:nvPr/>
        </p:nvPicPr>
        <p:blipFill>
          <a:blip r:embed="rId1"/>
          <a:stretch/>
        </p:blipFill>
        <p:spPr>
          <a:xfrm>
            <a:off x="3200400" y="1647720"/>
            <a:ext cx="2971800" cy="40672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828800" y="5335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Alles wird g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242" descr=""/>
          <p:cNvPicPr/>
          <p:nvPr/>
        </p:nvPicPr>
        <p:blipFill>
          <a:blip r:embed="rId1"/>
          <a:stretch/>
        </p:blipFill>
        <p:spPr>
          <a:xfrm>
            <a:off x="1676520" y="2448000"/>
            <a:ext cx="5638680" cy="32446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Versuche immer, einem Freund in Not zu helfen.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346" descr=""/>
          <p:cNvPicPr/>
          <p:nvPr/>
        </p:nvPicPr>
        <p:blipFill>
          <a:blip r:embed="rId1"/>
          <a:stretch/>
        </p:blipFill>
        <p:spPr>
          <a:xfrm>
            <a:off x="1828800" y="1812960"/>
            <a:ext cx="5334120" cy="39974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981080" y="8380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Aber sei auch mal ausgelass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353" descr=""/>
          <p:cNvPicPr/>
          <p:nvPr/>
        </p:nvPicPr>
        <p:blipFill>
          <a:blip r:embed="rId1"/>
          <a:stretch/>
        </p:blipFill>
        <p:spPr>
          <a:xfrm>
            <a:off x="2362320" y="1866960"/>
            <a:ext cx="4419360" cy="415296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990720" y="6858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Und sei immer für eine Überraschung g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348" descr=""/>
          <p:cNvPicPr/>
          <p:nvPr/>
        </p:nvPicPr>
        <p:blipFill>
          <a:blip r:embed="rId1"/>
          <a:stretch/>
        </p:blipFill>
        <p:spPr>
          <a:xfrm>
            <a:off x="3362400" y="1571760"/>
            <a:ext cx="2419200" cy="421956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438280" y="609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Bete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374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629400" cy="46274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Liebe jemanden von ganzen Herz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350" descr=""/>
          <p:cNvPicPr/>
          <p:nvPr/>
        </p:nvPicPr>
        <p:blipFill>
          <a:blip r:embed="rId1"/>
          <a:stretch/>
        </p:blipFill>
        <p:spPr>
          <a:xfrm>
            <a:off x="2819520" y="2022480"/>
            <a:ext cx="3962160" cy="33116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5909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Genieße den Sonnta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375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8229600" cy="431496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Und liebe Deine Freunde - egal, wie sie s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351" descr=""/>
          <p:cNvPicPr/>
          <p:nvPr/>
        </p:nvPicPr>
        <p:blipFill>
          <a:blip r:embed="rId1"/>
          <a:stretch/>
        </p:blipFill>
        <p:spPr>
          <a:xfrm>
            <a:off x="3376440" y="2400480"/>
            <a:ext cx="2262240" cy="39240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81080" y="380880"/>
            <a:ext cx="518184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Und zu guter Letz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99ff"/>
                </a:solidFill>
                <a:latin typeface="Times New Roman"/>
              </a:rPr>
              <a:t>Gib alle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" action="ppaction://hlinkshowjump?jump=nextslide"/>
            <a:hlinkClick r:id="rId1"/>
          </p:cNvPr>
          <p:cNvSpPr/>
          <p:nvPr/>
        </p:nvSpPr>
        <p:spPr>
          <a:xfrm>
            <a:off x="2819520" y="1676520"/>
            <a:ext cx="3504960" cy="35049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endpic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62240" y="1709640"/>
            <a:ext cx="2819520" cy="343872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rId4"/>
          </p:cNvPr>
          <p:cNvSpPr/>
          <p:nvPr/>
        </p:nvSpPr>
        <p:spPr>
          <a:xfrm>
            <a:off x="6934320" y="63244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ppsfun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249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3133800" cy="47246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066680" y="3049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Denk dr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An einem schlechten Tag bist Du nicht alle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371" descr=""/>
          <p:cNvPicPr/>
          <p:nvPr/>
        </p:nvPicPr>
        <p:blipFill>
          <a:blip r:embed="rId1"/>
          <a:stretch/>
        </p:blipFill>
        <p:spPr>
          <a:xfrm>
            <a:off x="1828800" y="2076480"/>
            <a:ext cx="5486400" cy="412416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Mindestens einmal am Tag die Augen schließen und lächel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230" descr=""/>
          <p:cNvPicPr/>
          <p:nvPr/>
        </p:nvPicPr>
        <p:blipFill>
          <a:blip r:embed="rId1"/>
          <a:stretch/>
        </p:blipFill>
        <p:spPr>
          <a:xfrm>
            <a:off x="2362320" y="2181240"/>
            <a:ext cx="4762440" cy="33814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523880" y="990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Halte Dich an gute Freun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272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476520" cy="43718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44792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Immer lach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78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901960" cy="43290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762120" y="38088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Kümmer Dich nicht um Dein Gewicht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das ist nur eine Zah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300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62800" cy="36194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371600" y="8380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Umgebe Dich mit Dingen, die Du lieb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314" descr=""/>
          <p:cNvPicPr/>
          <p:nvPr/>
        </p:nvPicPr>
        <p:blipFill>
          <a:blip r:embed="rId1"/>
          <a:stretch/>
        </p:blipFill>
        <p:spPr>
          <a:xfrm>
            <a:off x="3524400" y="1981080"/>
            <a:ext cx="2266920" cy="38102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523880" y="6094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Das Glas ist immer halb vol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0:36:55Z</dcterms:created>
  <dc:creator>?</dc:creator>
  <dc:description>Download von PPSFun.de</dc:description>
  <dc:language>en-US</dc:language>
  <cp:lastModifiedBy>f</cp:lastModifiedBy>
  <dcterms:modified xsi:type="dcterms:W3CDTF">2002-09-14T01:04:53Z</dcterms:modified>
  <cp:revision>20</cp:revision>
  <dc:subject/>
  <dc:title>Lebensregeln</dc:title>
</cp:coreProperties>
</file>