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5414-391B-429F-A3A5-BEF93FEE61A0}" type="slidenum">
              <a:rPr b="0" lang="vi-V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1464-0F32-4287-A857-91A5D9B8DB8C}" type="slidenum">
              <a:rPr b="0" lang="vi-VN"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2E225-1218-49FB-8BD2-A77371CD4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7728D-F2AB-4D1C-A7CF-E065BA93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12816-4EDB-4E7C-861B-EBAF97B19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FE0AA-4557-400C-A048-4056F3370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A22E0-3C55-4F3E-B989-E41C2D11D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968E7-F1DE-4AB4-9EF2-137BEEB93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24143-3428-48BB-B989-190F28BF5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6503D-D7B0-49B7-B548-C77CEFC0B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E5369-E0BE-4DA7-AD7D-BB0402729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33E76-425D-4B3E-81DB-24E63EE24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3B356-C9D4-4341-B554-860E0D512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32B9-6B82-4001-9B82-342363A1C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8786-17E9-4B28-8A7F-28AAF7524304}" type="slidenum">
              <a:rPr b="0" lang="vi-V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 THẬN CẤP</a:t>
            </a:r>
            <a:br>
              <a:rPr sz="4400"/>
            </a:br>
            <a:r>
              <a:rPr b="0" i="1" lang="en-US" sz="3600" spc="-1" strike="noStrike">
                <a:solidFill>
                  <a:srgbClr val="000000"/>
                </a:solidFill>
                <a:latin typeface="Arial"/>
              </a:rPr>
              <a:t>Bài giảng Y6</a:t>
            </a:r>
            <a:endParaRPr b="0" lang="en-US" sz="3600" spc="-1" strike="noStrike">
              <a:solidFill>
                <a:srgbClr val="000000"/>
              </a:solidFill>
              <a:latin typeface="Arial"/>
            </a:endParaRPr>
          </a:p>
        </p:txBody>
      </p:sp>
      <p:sp>
        <p:nvSpPr>
          <p:cNvPr id="49" name="PlaceHolder 2"/>
          <p:cNvSpPr>
            <a:spLocks noGrp="1"/>
          </p:cNvSpPr>
          <p:nvPr>
            <p:ph type="subTitle"/>
          </p:nvPr>
        </p:nvSpPr>
        <p:spPr>
          <a:xfrm>
            <a:off x="12952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 HOÀNG THỊ DIỄM THÚ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 THẬN CẤP SAU THẬ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R=HP-(OP+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R=HP-(OP+</a:t>
            </a:r>
            <a:r>
              <a:rPr b="0" lang="en-US" sz="3200" spc="-1" strike="noStrike">
                <a:solidFill>
                  <a:srgbClr val="ff0000"/>
                </a:solidFill>
                <a:latin typeface="Arial"/>
              </a:rPr>
              <a:t>IP</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2. CHẨN ĐOÁN</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BIỆ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UYÊN NHÂ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1. CHẨN ĐOÁN PHÂN BIỆT</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y thận mạn:</a:t>
            </a:r>
            <a:r>
              <a:rPr b="0" lang="en-US" sz="2800" spc="-1" strike="noStrike">
                <a:solidFill>
                  <a:srgbClr val="000000"/>
                </a:solidFill>
                <a:latin typeface="Arial"/>
              </a:rPr>
              <a:t> trẻ thường bị cao huyết áp, chậm tăng trưởng trầm trọng cả cân nặng lẫn chiều cao, thận teo nhỏ trên siêu âm.</a:t>
            </a:r>
            <a:endParaRPr b="0" lang="en-US" sz="2800" spc="-1" strike="noStrike">
              <a:solidFill>
                <a:srgbClr val="000000"/>
              </a:solidFill>
              <a:latin typeface="Arial"/>
            </a:endParaRPr>
          </a:p>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ợt cấp của suy thận mạn</a:t>
            </a:r>
            <a:r>
              <a:rPr b="0" lang="en-US" sz="2800" spc="-1" strike="noStrike">
                <a:solidFill>
                  <a:srgbClr val="000000"/>
                </a:solidFill>
                <a:latin typeface="Arial"/>
              </a:rPr>
              <a:t>: suy thận mạn có thể đã được biết trước, có những yếu tố thuận lợi khởi phát một đợt cấp như sốt, tiêu chảy.</a:t>
            </a:r>
            <a:endParaRPr b="0" lang="en-US" sz="2800" spc="-1" strike="noStrike">
              <a:solidFill>
                <a:srgbClr val="000000"/>
              </a:solidFill>
              <a:latin typeface="Arial"/>
            </a:endParaRPr>
          </a:p>
          <a:p>
            <a:pPr marL="609480" indent="-60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y thận trước thận (STTrT) và suy thận tại</a:t>
            </a:r>
            <a:r>
              <a:rPr b="0" lang="en-US" sz="2800" spc="-1" strike="noStrike">
                <a:solidFill>
                  <a:srgbClr val="000000"/>
                </a:solidFill>
                <a:latin typeface="Arial"/>
              </a:rPr>
              <a:t> thận do hoại tử ống thận cấp (HTOTC): dựa vào xét nghiệm sa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2. CHẨN ĐOÁN XÁC ĐỊNH</a:t>
            </a:r>
            <a:br>
              <a:rPr sz="4000"/>
            </a:b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Tình huống chẩn đoá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HIEÅU NIEÄU HOAËC VOÂ NIEÄ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HOÄI CHÖÙNG TAÊNG UREÂ HUYEÁT: roái loïan tri giaùc, co giaät, vieâm maøng ngoøai ti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BEÄNH CAÛNH CUÛA CAÙC BIEÁN CHÖÙNG: taêng Kali, Haï Canci maù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BEÄNH CAÛNH CUÛA BEÄNH GOÁC GAÂY RA STC l</a:t>
            </a:r>
            <a:r>
              <a:rPr b="0" lang="en-US" sz="2800" spc="-1" strike="noStrike">
                <a:solidFill>
                  <a:srgbClr val="000000"/>
                </a:solidFill>
                <a:latin typeface="Arial"/>
              </a:rPr>
              <a:t>âm sàng</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Các tình huống chẩn đoán  </a:t>
            </a:r>
            <a:endParaRPr b="0" lang="en-US" sz="4000" spc="-1" strike="noStrike">
              <a:solidFill>
                <a:srgbClr val="000000"/>
              </a:solidFill>
              <a:latin typeface="Arial"/>
            </a:endParaRPr>
          </a:p>
        </p:txBody>
      </p:sp>
      <p:sp>
        <p:nvSpPr>
          <p:cNvPr id="108" name="PlaceHolder 2"/>
          <p:cNvSpPr>
            <a:spLocks noGrp="1"/>
          </p:cNvSpPr>
          <p:nvPr>
            <p:ph/>
          </p:nvPr>
        </p:nvSpPr>
        <p:spPr>
          <a:xfrm>
            <a:off x="380880" y="1523880"/>
            <a:ext cx="8229600" cy="4525920"/>
          </a:xfrm>
          <a:prstGeom prst="rect">
            <a:avLst/>
          </a:prstGeom>
          <a:noFill/>
          <a:ln w="0">
            <a:noFill/>
          </a:ln>
        </p:spPr>
        <p:txBody>
          <a:bodyPr anchor="t">
            <a:normAutofit fontScale="90000"/>
          </a:bodyPr>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nước tiểu (50%)</a:t>
            </a:r>
            <a:endParaRPr b="0" lang="en-US" sz="2400" spc="-1" strike="noStrike">
              <a:solidFill>
                <a:srgbClr val="000000"/>
              </a:solidFill>
              <a:latin typeface="Arial"/>
            </a:endParaRPr>
          </a:p>
          <a:p>
            <a:pPr lvl="2" marL="1371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ệnh nền đưa đến suy thận trước thận: tiêu chảy mất nước, sốt nhiễm trùng, sốt rét, ói nhiều…</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ệnh nền đưa đến suy thận tại thận: tiểu máu, phù, cao huyết áp trong viêm cầu thận…hoặc các bệnh gây suy thận trước thận điều trị muộn </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ội chứng urê huyết cao: ói, co giật, rối loạn tri giác, xuất huyết da niêm, xuất huyết tiêu hóa.</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ấu hiệu quá tải tuần hoàn: phù, cao huyết áp, có thể có biến chứng suy tim, phù phổỉ cấp.</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an chuyển hóa: thở nhanh, sâu, môi đỏ.</a:t>
            </a:r>
            <a:endParaRPr b="0" lang="en-US" sz="2400" spc="-1" strike="noStrike">
              <a:solidFill>
                <a:srgbClr val="000000"/>
              </a:solidFill>
              <a:latin typeface="Arial"/>
            </a:endParaRPr>
          </a:p>
          <a:p>
            <a:pPr lvl="1" marL="1051560" indent="-640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u máu: thường gặp trong sốt rét, hội chứng urê huyết tán huyết, nhiễm trùng huyết và suy thận cấp ở trẻ sơ s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IÊU HIỆN LÂM SÀNG</a:t>
            </a:r>
            <a:endParaRPr b="0" lang="en-US" sz="4400" spc="-1" strike="noStrike">
              <a:solidFill>
                <a:srgbClr val="000000"/>
              </a:solidFill>
              <a:latin typeface="Arial"/>
            </a:endParaRPr>
          </a:p>
        </p:txBody>
      </p:sp>
      <p:graphicFrame>
        <p:nvGraphicFramePr>
          <p:cNvPr id="110" name="Object 3"/>
          <p:cNvGraphicFramePr/>
          <p:nvPr/>
        </p:nvGraphicFramePr>
        <p:xfrm>
          <a:off x="463680" y="1447920"/>
          <a:ext cx="8215200" cy="5581440"/>
        </p:xfrm>
        <a:graphic>
          <a:graphicData uri="http://schemas.openxmlformats.org/presentationml/2006/ole">
            <p:oleObj r:id="rId1" spid="">
              <p:embed/>
              <p:pic>
                <p:nvPicPr>
                  <p:cNvPr id="111" name="Object 3" descr=""/>
                  <p:cNvPicPr/>
                  <p:nvPr/>
                </p:nvPicPr>
                <p:blipFill>
                  <a:blip r:embed="rId2"/>
                  <a:stretch/>
                </p:blipFill>
                <p:spPr>
                  <a:xfrm>
                    <a:off x="463680" y="1447920"/>
                    <a:ext cx="8215200" cy="55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2. Xét nghiệm</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lvl="1" marL="980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ê, Créatinine máu tăng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 đồ máu : Na cao hoặc thấp, Kali máu thường tăng cao trừ khi có tiêu chảy , Ca máu giảm, Phosphore máu tăng</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í máu: toan chuyển hóa</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yết đồ thiếu máu đẳng sắc đẳng bào</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ổng phân tích nước tiểu tìm đạm niệu dương trong bệnh cầu thậ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
          <p:cNvGraphicFramePr/>
          <p:nvPr/>
        </p:nvGraphicFramePr>
        <p:xfrm>
          <a:off x="457200" y="1600200"/>
          <a:ext cx="8229600" cy="4525920"/>
        </p:xfrm>
        <a:graphic>
          <a:graphicData uri="http://schemas.openxmlformats.org/drawingml/2006/table">
            <a:tbl>
              <a:tblPr/>
              <a:tblGrid>
                <a:gridCol w="4114800"/>
                <a:gridCol w="4114800"/>
              </a:tblGrid>
              <a:tr h="1717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Age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Normal serum Creatinine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mg/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lt; 1 week ol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8-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1 week- 1year ol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1-5 years ol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gt; 5 years ol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바탕"/>
                        </a:rPr>
                        <a:t>7-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 đồ niệu, Urê, Créatinine niệu trên một mẫu nước tiểu (trước khi dùng lợi tiể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êu âm thận càng sớm càng tốt để loại trừ suy thận sau thậ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quang phổi xác định dấu hiệu quá tải tuần hoà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G tìm các biểu hiện tăng Kali máu: sóng T cao nhọn,  PR kéo dài, loạn nhịp thấ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ẬN LÂM SÀNG</a:t>
            </a:r>
            <a:endParaRPr b="0" lang="en-US" sz="4400" spc="-1" strike="noStrike">
              <a:solidFill>
                <a:srgbClr val="000000"/>
              </a:solidFill>
              <a:latin typeface="Arial"/>
            </a:endParaRPr>
          </a:p>
        </p:txBody>
      </p:sp>
      <p:graphicFrame>
        <p:nvGraphicFramePr>
          <p:cNvPr id="118" name="Object 3"/>
          <p:cNvGraphicFramePr/>
          <p:nvPr/>
        </p:nvGraphicFramePr>
        <p:xfrm>
          <a:off x="609480" y="1066680"/>
          <a:ext cx="8215560" cy="5486400"/>
        </p:xfrm>
        <a:graphic>
          <a:graphicData uri="http://schemas.openxmlformats.org/presentationml/2006/ole">
            <p:oleObj r:id="rId1" spid="">
              <p:embed/>
              <p:pic>
                <p:nvPicPr>
                  <p:cNvPr id="119" name="Object 3" descr=""/>
                  <p:cNvPicPr/>
                  <p:nvPr/>
                </p:nvPicPr>
                <p:blipFill>
                  <a:blip r:embed="rId2"/>
                  <a:stretch/>
                </p:blipFill>
                <p:spPr>
                  <a:xfrm>
                    <a:off x="609480" y="1066680"/>
                    <a:ext cx="821556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I-Times"/>
              </a:rPr>
              <a:t>YEÂU CAÀU</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Phaân bieät ñöôïc caùc theå suy thaän</a:t>
            </a:r>
            <a:endParaRPr b="0" lang="en-US" sz="3200" spc="-1" strike="noStrike">
              <a:solidFill>
                <a:srgbClr val="000000"/>
              </a:solidFill>
              <a:latin typeface="Arial"/>
            </a:endParaRPr>
          </a:p>
          <a:p>
            <a:pPr marL="609480" indent="-609480">
              <a:lnSpc>
                <a:spcPct val="100000"/>
              </a:lnSpc>
              <a:spcBef>
                <a:spcPts val="799"/>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Nguyeân nhaân STC</a:t>
            </a:r>
            <a:endParaRPr b="0" lang="en-US" sz="3200" spc="-1" strike="noStrike">
              <a:solidFill>
                <a:srgbClr val="000000"/>
              </a:solidFill>
              <a:latin typeface="Arial"/>
            </a:endParaRPr>
          </a:p>
          <a:p>
            <a:pPr marL="609480" indent="-609480">
              <a:lnSpc>
                <a:spcPct val="100000"/>
              </a:lnSpc>
              <a:spcBef>
                <a:spcPts val="799"/>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Xöû trí STC</a:t>
            </a:r>
            <a:endParaRPr b="0" lang="en-US" sz="3200" spc="-1" strike="noStrike">
              <a:solidFill>
                <a:srgbClr val="000000"/>
              </a:solidFill>
              <a:latin typeface="Arial"/>
            </a:endParaRPr>
          </a:p>
          <a:p>
            <a:pPr marL="609480" indent="-609480">
              <a:lnSpc>
                <a:spcPct val="100000"/>
              </a:lnSpc>
              <a:spcBef>
                <a:spcPts val="799"/>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Nguyeân taéc cuûa caùc phöông phaùp loïc maù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SÁNH STCtrt và HTOTC</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22" name=""/>
          <p:cNvGraphicFramePr/>
          <p:nvPr/>
        </p:nvGraphicFramePr>
        <p:xfrm>
          <a:off x="914400" y="1676520"/>
          <a:ext cx="7620120" cy="3809880"/>
        </p:xfrm>
        <a:graphic>
          <a:graphicData uri="http://schemas.openxmlformats.org/drawingml/2006/table">
            <a:tbl>
              <a:tblPr/>
              <a:tblGrid>
                <a:gridCol w="3035160"/>
                <a:gridCol w="2787840"/>
                <a:gridCol w="1797120"/>
              </a:tblGrid>
              <a:tr h="1201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STTr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HTO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Áp lực thẩm thấu nước tiể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Osm/kg H2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400- 500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sơsinh &lt;3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t; 3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Na /U mmol/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t; 20  ( sơ sinh &lt; 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gt; 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Fe N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lt; 1% (sơ sinh 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gt; 2%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Rectangle 81"/>
          <p:cNvSpPr/>
          <p:nvPr/>
        </p:nvSpPr>
        <p:spPr>
          <a:xfrm>
            <a:off x="1447920" y="5851440"/>
            <a:ext cx="5333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Fe Na= ( UNa/ Pcr)/ ( PNa/ U C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uy thận cấp trước thận</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ạt kéo dài.</a:t>
            </a:r>
            <a:endParaRPr b="0" lang="en-US" sz="24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thể tích tuần hoàn do bất cứ nguyên nhân nào, nặng hoặc kéo dài (sau mổ, nhiễm trùng, sốt rét, phỏng nặng, tiêu chảy cấp, mất máu…).</a:t>
            </a:r>
            <a:endParaRPr b="0" lang="en-US" sz="24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áp lực ổ bụng gây chèn ép mạch máu thận (báng bụng, u bụng).</a:t>
            </a:r>
            <a:endParaRPr b="0" lang="en-US" sz="2400" spc="-1" strike="noStrike">
              <a:solidFill>
                <a:srgbClr val="000000"/>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Đặc điểm:</a:t>
            </a:r>
            <a:endParaRPr b="0" lang="en-US" sz="28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ường có dấu mất nước và CVP thấp &lt; 4 cm H2O.</a:t>
            </a:r>
            <a:endParaRPr b="0" lang="en-US" sz="24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ri niệu &lt; 20 mEq/l- Urê niệu/Urê máu &gt; 10- Osmolarité niệu/máu &gt; 2.</a:t>
            </a:r>
            <a:endParaRPr b="0" lang="en-US" sz="2400" spc="-1" strike="noStrike">
              <a:solidFill>
                <a:srgbClr val="000000"/>
              </a:solidFill>
              <a:latin typeface="Arial"/>
            </a:endParaRPr>
          </a:p>
          <a:p>
            <a:pPr lvl="1" marL="1168560" indent="-71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ậu cải thiện sau khi  làm test nước, bù dị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oại tử ống thận cấp</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suy thận cấp trước thận kéo dài</a:t>
            </a:r>
            <a:endParaRPr b="0" lang="en-US" sz="2800" spc="-1" strike="noStrike">
              <a:solidFill>
                <a:srgbClr val="000000"/>
              </a:solidFill>
              <a:latin typeface="Arial"/>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Đặc điểm sinh học:</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ri niệu &gt; 20 mEq/l- Urê niệu/Urê máu &lt; 10- Osmolarité niệu/máu &lt; 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đáp ứng với test bù dịch</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y thận nặng với rối loạn nội môi nặng, thiếu máu. Nếu qua được giai đoạn cấp, chức năng thận có thể phục hồi về sau trong đa số trường hợ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 THẬN CẤP TẠI THẬN</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cầu thận: viêm cầu thận tiến triển nh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mạch máu: hội chứng tán huyết urê huyết, thuyên tắc mạch máu thậ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êm thận kẽ cấp: thường do dị ứng,độc tố,  nhiễm trùng, vô că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i tử ống thận cấ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 THẬN CẤP SAU THẬN</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Do taéc ngheõn ñöôøng tieåu hai beân hoaëc treân beänh nhaân chæ coù moät thaän neân gaây suy thaän caáp.</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Thöôøng sôø thaáy khoái thaän 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Löôïng nöôùc tieåu luùc nhieàu luùc í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2.3. CHẨN ĐOÁN NGUYÊN NHÂN</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a và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ổ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ệnh cảnh lâm sà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ểu hiện sinh họ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hẩn đoán nguyên nhân- theo tuổi</a:t>
            </a:r>
            <a:endParaRPr b="0" lang="en-US" sz="4000" spc="-1" strike="noStrike">
              <a:solidFill>
                <a:srgbClr val="000000"/>
              </a:solidFill>
              <a:latin typeface="Arial"/>
            </a:endParaRPr>
          </a:p>
        </p:txBody>
      </p:sp>
      <p:sp>
        <p:nvSpPr>
          <p:cNvPr id="135" name="PlaceHolder 2"/>
          <p:cNvSpPr>
            <a:spLocks noGrp="1"/>
          </p:cNvSpPr>
          <p:nvPr>
            <p:ph/>
          </p:nvPr>
        </p:nvSpPr>
        <p:spPr>
          <a:xfrm>
            <a:off x="457200" y="1219320"/>
            <a:ext cx="8229600" cy="4525920"/>
          </a:xfrm>
          <a:prstGeom prst="rect">
            <a:avLst/>
          </a:prstGeom>
          <a:noFill/>
          <a:ln w="0">
            <a:noFill/>
          </a:ln>
        </p:spPr>
        <p:txBody>
          <a:bodyPr anchor="t">
            <a:normAutofit fontScale="83000"/>
          </a:bodyPr>
          <a:p>
            <a:pPr marL="284400" indent="-2844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SÔ SINH:</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ngaït</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huyeân taéc maïch maùu thaän</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aùc thuoác duøng ôû meï: AINS, IEC, thuoác ñoái khaùng receptor angiotensin 2 </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im baåm sinh , phaãu thuaät tim vôùi THNCT laøm taêng theâm nguy cô STC</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aát caû caùc nguyeân nhaân sau thaän +++</a:t>
            </a:r>
            <a:endParaRPr b="0" lang="en-US" sz="2400" spc="-1" strike="noStrike">
              <a:solidFill>
                <a:srgbClr val="000000"/>
              </a:solidFill>
              <a:latin typeface="Arial"/>
            </a:endParaRPr>
          </a:p>
          <a:p>
            <a:pPr marL="284400" indent="-2844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TREÛ &lt; 3 TUOÅI</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maát nöôùc</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hoäi chöùng ureâ huyeát taùn huyeát</a:t>
            </a:r>
            <a:endParaRPr b="0" lang="en-US" sz="2400" spc="-1" strike="noStrike">
              <a:solidFill>
                <a:srgbClr val="000000"/>
              </a:solidFill>
              <a:latin typeface="Arial"/>
            </a:endParaRPr>
          </a:p>
          <a:p>
            <a:pPr marL="284400" indent="-2844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TREÛ &gt; 3T</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aùc beänh caàu thaän</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Vieâm oáng thaän  dò öùng do thuoác</a:t>
            </a:r>
            <a:endParaRPr b="0" lang="en-US" sz="2400" spc="-1" strike="noStrike">
              <a:solidFill>
                <a:srgbClr val="000000"/>
              </a:solidFill>
              <a:latin typeface="Arial"/>
            </a:endParaRPr>
          </a:p>
          <a:p>
            <a:pPr lvl="1" marL="616680" indent="-2372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Vieâm oáng thaän do ñoäc to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578880" indent="-578880">
              <a:lnSpc>
                <a:spcPct val="100000"/>
              </a:lnSpc>
              <a:spcBef>
                <a:spcPts val="700"/>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Times"/>
              </a:rPr>
              <a:t>Hoäi chöùng ureâ huyeát taùn huyeát</a:t>
            </a:r>
            <a:r>
              <a:rPr b="1" i="1" lang="en-US" sz="2800" spc="-1" strike="noStrike">
                <a:solidFill>
                  <a:srgbClr val="000000"/>
                </a:solidFill>
                <a:latin typeface="VNI-Times"/>
              </a:rPr>
              <a:t> </a:t>
            </a:r>
            <a:endParaRPr b="0" lang="en-US" sz="28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heå ñieån hình thöôøng gaëp ôû treû &lt; 3 tuoåi vôùi tieàn trieäu laø caùc trieäu chöùng tieâu hoùa</a:t>
            </a:r>
            <a:endParaRPr b="0" lang="en-US" sz="24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I-Times"/>
              </a:rPr>
              <a:t>do nhieãm Ecoli serotype 0157:H7 tieát verotoxine . </a:t>
            </a:r>
            <a:r>
              <a:rPr b="0" lang="en-US" sz="2400" spc="-1" strike="noStrike">
                <a:solidFill>
                  <a:srgbClr val="000000"/>
                </a:solidFill>
                <a:latin typeface="VNI-Times"/>
              </a:rPr>
              <a:t>Coù theå do Pneumocoques hoaëc Shigella</a:t>
            </a:r>
            <a:endParaRPr b="0" lang="en-US" sz="24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STC vôùi 50% voâ nieäu</a:t>
            </a:r>
            <a:endParaRPr b="0" lang="en-US" sz="24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höôøng keøm tieåu maùu, thieáu maùu naëng , giaûm tieåu caàu thoùang qua </a:t>
            </a:r>
            <a:endParaRPr b="0" lang="en-US" sz="2400" spc="-1" strike="noStrike">
              <a:solidFill>
                <a:srgbClr val="000000"/>
              </a:solidFill>
              <a:latin typeface="Arial"/>
            </a:endParaRPr>
          </a:p>
          <a:p>
            <a:pPr lvl="1" marL="941040" indent="-506520">
              <a:lnSpc>
                <a:spcPct val="10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rieäu chöùng nôi khaùc: thaàn kinh trung öông, tuïy, tieâu hoù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566640">
              <a:lnSpc>
                <a:spcPct val="90000"/>
              </a:lnSpc>
              <a:spcBef>
                <a:spcPts val="700"/>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Times"/>
              </a:rPr>
              <a:t>Vieâm caàu thaän caáp haäu nhieãm lieân caàu</a:t>
            </a:r>
            <a:endParaRPr b="0" lang="en-US" sz="28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aàn suaát beänh vaãn coøn cao ôû nhöng nuôùc ñang phaùt trieån</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ieåu maùu ñaïi theå </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luoân keøm öù nöôùc vaø muoái naëng</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Baèng chöùng nhieãm lieân caàu: nhieãm truøng da hoaëc vieâm hoïng , khaùng theå khaùng lieân caàu taêng khoâng haèng ñònh.</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3, C1q trong maùu giaûm </a:t>
            </a:r>
            <a:endParaRPr b="0" lang="en-US" sz="2400" spc="-1" strike="noStrike">
              <a:solidFill>
                <a:srgbClr val="000000"/>
              </a:solidFill>
              <a:latin typeface="Arial"/>
            </a:endParaRPr>
          </a:p>
          <a:p>
            <a:pPr lvl="1" marL="921240" indent="-496080">
              <a:lnSpc>
                <a:spcPct val="90000"/>
              </a:lnSpc>
              <a:spcBef>
                <a:spcPts val="601"/>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hæ ñònh sinh thieát thaän khi tieán trieån baát thöøôøng vôùi sang thöông ñaëc hieäu laø taêng sinh noâi maïc mao maïch lan toû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NI-Times"/>
              </a:rPr>
              <a:t>Vieâm caàu thaän tieán trienå nhanh</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ureâ vaø creâatinin taêng nhanh trong vaøi ngaøy</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höôøng giaûm ñaïm maùu vaø hoâi chöùng thaän hö</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hieåu nieäu </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Cao huyeát aùp thöôøng coù</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Sinh thieát thaän : taêng sinh lan toûa trong vaø ngoøai mao maïc coù taïo lieà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XÁC ĐỊNH SUY THẬN CẤ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CHẨN ĐOÁ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ĐÁNH GIÁ MỨC Đ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CHỌN LỰA ĐIỀU TR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542160">
              <a:lnSpc>
                <a:spcPct val="90000"/>
              </a:lnSpc>
              <a:spcBef>
                <a:spcPts val="799"/>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NI-Times"/>
              </a:rPr>
              <a:t>Ong ñoát</a:t>
            </a:r>
            <a:endParaRPr b="0" lang="en-US" sz="3200" spc="-1" strike="noStrike">
              <a:solidFill>
                <a:srgbClr val="000000"/>
              </a:solidFill>
              <a:latin typeface="Arial"/>
            </a:endParaRPr>
          </a:p>
          <a:p>
            <a:pPr marL="542160" indent="-5421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a:t>
            </a:r>
            <a:r>
              <a:rPr b="0" lang="en-US" sz="3200" spc="-1" strike="noStrike">
                <a:solidFill>
                  <a:srgbClr val="000000"/>
                </a:solidFill>
                <a:latin typeface="VNI-Times"/>
              </a:rPr>
              <a:t>- STC coù lieân quan ñeán soá muûi ñoát </a:t>
            </a:r>
            <a:endParaRPr b="0" lang="en-US" sz="3200" spc="-1" strike="noStrike">
              <a:solidFill>
                <a:srgbClr val="000000"/>
              </a:solidFill>
              <a:latin typeface="Arial"/>
            </a:endParaRPr>
          </a:p>
          <a:p>
            <a:pPr marL="542160" indent="-5421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a:t>
            </a:r>
            <a:r>
              <a:rPr b="0" lang="en-US" sz="3200" spc="-1" strike="noStrike">
                <a:solidFill>
                  <a:srgbClr val="000000"/>
                </a:solidFill>
                <a:latin typeface="VNI-Times"/>
              </a:rPr>
              <a:t>- suy thaän caáp tieán trieån coù theå do nguyeân nhaân tröôùc thaän hay taïi thaän vôùi sang thöông oáng thaän moâ keõ chieám öu theá</a:t>
            </a:r>
            <a:endParaRPr b="0" lang="en-US" sz="3200" spc="-1" strike="noStrike">
              <a:solidFill>
                <a:srgbClr val="000000"/>
              </a:solidFill>
              <a:latin typeface="Arial"/>
            </a:endParaRPr>
          </a:p>
          <a:p>
            <a:pPr marL="542160" indent="-5421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thöôøng keøm toån thöông ña cô quan: gan, maùu,…</a:t>
            </a:r>
            <a:endParaRPr b="0" lang="en-US" sz="3200" spc="-1" strike="noStrike">
              <a:solidFill>
                <a:srgbClr val="000000"/>
              </a:solidFill>
              <a:latin typeface="Arial"/>
            </a:endParaRPr>
          </a:p>
          <a:p>
            <a:pPr marL="542160" indent="-5421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ñaùp öùng toát vôùi loïc maùu vaø hoài phuïc hoøan toø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554400" indent="-554400">
              <a:lnSpc>
                <a:spcPct val="100000"/>
              </a:lnSpc>
              <a:spcBef>
                <a:spcPts val="799"/>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NI-Times"/>
              </a:rPr>
              <a:t>Soát reùt naëng</a:t>
            </a:r>
            <a:endParaRPr b="0" lang="en-US" sz="3200" spc="-1" strike="noStrike">
              <a:solidFill>
                <a:srgbClr val="000000"/>
              </a:solidFill>
              <a:latin typeface="Arial"/>
            </a:endParaRPr>
          </a:p>
          <a:p>
            <a:pPr lvl="1" marL="901440" indent="-48528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STC  chæ gaëp ôû theå SR naëng do P.Falciparum</a:t>
            </a:r>
            <a:endParaRPr b="0" lang="en-US" sz="2800" spc="-1" strike="noStrike">
              <a:solidFill>
                <a:srgbClr val="000000"/>
              </a:solidFill>
              <a:latin typeface="Arial"/>
            </a:endParaRPr>
          </a:p>
          <a:p>
            <a:pPr lvl="1" marL="901440" indent="-48528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höôøng keøm toån thöông ña cô quan</a:t>
            </a:r>
            <a:endParaRPr b="0" lang="en-US" sz="2800" spc="-1" strike="noStrike">
              <a:solidFill>
                <a:srgbClr val="000000"/>
              </a:solidFill>
              <a:latin typeface="Arial"/>
            </a:endParaRPr>
          </a:p>
          <a:p>
            <a:pPr lvl="1" marL="901440" indent="-48528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ieân löôïng khoâng hoøan toøan tuøy thuoäc vaøo STC. Chæ ñònh loïc maùu sôùm coù theå caûi thieän tieân löôïng vì ngöôøi ta cho raèng loïc maùu coù theå loïai boû caùc cytokine laø taùc nhaân tham gia vaøo   vieäc gaây toån thöông ña cô quan trong soát reùt naë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3. ĐIỀU TRỊ</a:t>
            </a:r>
            <a:br>
              <a:rPr sz="4400"/>
            </a:br>
            <a:endParaRPr b="0" lang="en-US" sz="4400" spc="-1" strike="noStrike">
              <a:solidFill>
                <a:srgbClr val="000000"/>
              </a:solidFill>
              <a:latin typeface="Arial"/>
            </a:endParaRPr>
          </a:p>
        </p:txBody>
      </p:sp>
      <p:sp>
        <p:nvSpPr>
          <p:cNvPr id="147" name="PlaceHolder 2"/>
          <p:cNvSpPr>
            <a:spLocks noGrp="1"/>
          </p:cNvSpPr>
          <p:nvPr>
            <p:ph/>
          </p:nvPr>
        </p:nvSpPr>
        <p:spPr>
          <a:xfrm>
            <a:off x="457200" y="1143000"/>
            <a:ext cx="8229600" cy="4983120"/>
          </a:xfrm>
          <a:prstGeom prst="rect">
            <a:avLst/>
          </a:prstGeom>
          <a:noFill/>
          <a:ln w="0">
            <a:noFill/>
          </a:ln>
        </p:spPr>
        <p:txBody>
          <a:bodyPr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ng khi chờ xét nghiệm để phân loại nguyên nhân suy thận cấp </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ại tuyến cơ sở:</a:t>
            </a:r>
            <a:endParaRPr b="0" lang="en-US" sz="32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ạm ngưng các loại dịch truyền.</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t ống thông tiểu.</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ánh giá tình trạng quá tải tuần hoàn, đo CVP nếu cần.</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ập bilan nước xuất nhập mỗi giờ</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ưng các thuốc gây độc thận: kháng sinh nhóm Aminoglycosid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Điều trị  suy thận cấp trước thận</a:t>
            </a:r>
            <a:br>
              <a:rPr sz="4000"/>
            </a:b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ù dịch tích cực nhưng rất cẩn thận nếu suy thận cấp đã diễn tiến lâu và có nguy cơ trở thành suy thận cấp tại thận, do đó cần phân biệt STTrT và HTOTC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nướ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ỉ định: Những bệnh nhân có dấu mất nước và/hoặc có những bệnh lý dẫn đến mất nước ngoại bào (tiêu chảy, tiểu đường, hội chứng thận hư, sốt ré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est nöôùc aâm chöùng toû ñaõ coù hoïai töû oáng thaän caáp, tuy nhieân khoâng coù nghóa laø töôùi maùu thaän ñaõ ñuû.</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Dung dòch söû duïng : NaCl 9%   10- 20 ml/kg/giô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ĐIỀU TRỊ BẢO TỒ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Neáu test nöôùc aâm caàn haïn cheá dòch nhaäp.  Löôïng dòch nhaäp / ngaøy= xuaát + nöôùc maát khoâng nhaän bieát ( 30 – 40 ml/kg/ ngaøy. Theâm 10% cho moåi ñoä soát, thôû maùy, loàng aá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1. Lôïi tieåu</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 </a:t>
            </a:r>
            <a:r>
              <a:rPr b="0" lang="en-US" sz="2400" spc="-1" strike="noStrike">
                <a:solidFill>
                  <a:srgbClr val="000000"/>
                </a:solidFill>
                <a:latin typeface="VNI-Times"/>
              </a:rPr>
              <a:t>Furosemid coù taùc duïng chuyeå STC theå khoâng coù nöôùc tieuå thaønh theå coù nöôùc tieåu, nhôø vaäy, ñieàu trò seõ deå daøng hôn.</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ô cheá : giaûm taéc ngheõn trong loøng oáng vaø öùc cheá Na K+ adenosine triphhosphatase </a:t>
            </a:r>
            <a:r>
              <a:rPr b="0" lang="en-US" sz="2400" spc="-1" strike="noStrike">
                <a:solidFill>
                  <a:srgbClr val="000000"/>
                </a:solidFill>
                <a:latin typeface="Wingdings"/>
                <a:ea typeface="Wingdings"/>
              </a:rPr>
              <a:t></a:t>
            </a:r>
            <a:r>
              <a:rPr b="0" lang="en-US" sz="2400" spc="-1" strike="noStrike">
                <a:solidFill>
                  <a:srgbClr val="000000"/>
                </a:solidFill>
                <a:latin typeface="VNI-Times"/>
              </a:rPr>
              <a:t>   giaûm tieâu thuï O2 ôû oáng thaän.</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a:t>
            </a:r>
            <a:r>
              <a:rPr b="0" lang="en-US" sz="2400" spc="-1" strike="noStrike">
                <a:solidFill>
                  <a:srgbClr val="000000"/>
                </a:solidFill>
                <a:latin typeface="VNI-Times"/>
              </a:rPr>
              <a:t>- Lieàu 1- 5 mg/ kg/ lieàu  toái ña  8 mg/kg/ ngaøy  tieâm maïch chaäm hoaëc truyeàn tónh maïch lieân tuïc.</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Löu yù : </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Ñoäc thính giaùc</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hæ söû duïng khi khoâng coù daáu thieáu nöôùc treân laâm saøng</a:t>
            </a:r>
            <a:endParaRPr b="0" lang="en-US" sz="2400" spc="-1" strike="noStrike">
              <a:solidFill>
                <a:srgbClr val="000000"/>
              </a:solidFill>
              <a:latin typeface="Arial"/>
            </a:endParaRPr>
          </a:p>
          <a:p>
            <a:pPr marL="548280" indent="-548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Ngöng ngay neáu sau 2 lieàu beänh nhaân vaãn khoâng tieå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Times"/>
              </a:rPr>
              <a:t>2. Thuoác vaän maïch</a:t>
            </a:r>
            <a:endParaRPr b="0" lang="en-US" sz="2800" spc="-1" strike="noStrike">
              <a:solidFill>
                <a:srgbClr val="000000"/>
              </a:solidFill>
              <a:latin typeface="Arial"/>
            </a:endParaRPr>
          </a:p>
          <a:p>
            <a:pPr lvl="1" marL="698400" indent="-26856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Dopamine lieàu 0,5- 1  µg/ kg/phuùt laøm taêng töôùi maùu thaän nhôø ñoù caûi thieän löôïng nöôùc tieåu. Tuy nhieân , cho ñeán nay khoâng coù nghieân cöùu naøo chöùng minh vieäc söû duïng Dopamine laøm giaûm nhu caàu loïc maùu vaø caûi thieän tæ leä soáng coøn. Taùc duïng phuï cuûa Dopamine laø laøm taêng nhòp tim.</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Fenoldopam mesylate laø moät Dopamine choïn loïc  treân thuï theå dopaminergic tyùp 1 ( vaän maïch thaän choïn loïc) ñang ñöôïc nghieân cöùu.</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Anaritide ( atrial natriuretic peptid) laøm taêng GFR qua cô cheâ laøm zanõ tieuå ñoäng maïch ñeán vaø co tieå u ñoäng maïch ra, nghieân cöùu treân 500 ngöôøi lôùn  (RCT) caûi thieän tæ leä soáng coøn ôû nhoùm coù thieåu nieäu vaø khoâng treân nhoùm khoâng thieåu nieäu. Caàn coù nhieàu n/c hôn.</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huoác khgaùc: öùc cheá toång hôïp NO, endotheline, anti TNF… coøn ñang nghieân cöù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Times"/>
              </a:rPr>
              <a:t>3. Dinh döôõng</a:t>
            </a:r>
            <a:endParaRPr b="0" lang="en-US" sz="2800" spc="-1" strike="noStrike">
              <a:solidFill>
                <a:srgbClr val="000000"/>
              </a:solidFill>
              <a:latin typeface="Arial"/>
            </a:endParaRPr>
          </a:p>
          <a:p>
            <a:pPr marL="312120" indent="-31212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STC luoân ñi keøm vôùi dò hoùa neân suy dinh döôõng raát nhanh, laøm beänh seõ chaäm hoài phuïc, vì vaäy dinh döôõng laø moät phaàn ñieàu trò quan troïng khoâng theå thieáu trong chieán löôïc ñieàu trò STC.</a:t>
            </a:r>
            <a:endParaRPr b="0" lang="en-US" sz="2800" spc="-1" strike="noStrike">
              <a:solidFill>
                <a:srgbClr val="000000"/>
              </a:solidFill>
              <a:latin typeface="Arial"/>
            </a:endParaRPr>
          </a:p>
          <a:p>
            <a:pPr marL="312120" indent="-31212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ñöôøng mieäng neáu khoâng toån thöông oáng tieâu hoùa</a:t>
            </a:r>
            <a:endParaRPr b="0" lang="en-US" sz="2800" spc="-1" strike="noStrike">
              <a:solidFill>
                <a:srgbClr val="000000"/>
              </a:solidFill>
              <a:latin typeface="Arial"/>
            </a:endParaRPr>
          </a:p>
          <a:p>
            <a:pPr marL="312120" indent="-31212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thaønh phaàn: ñaïm giaù trò sinh hoïc cao ( 0,5 – 1 g/kg/ngaøy), thaáp phospho vaø Kali; naêng löôïng ít nhaát 45 -55 kcl/ kg/ ngaøy. Möùc naøy seõ ñöôïc nôùi roäng hôn neáu coù coù loïc maù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4. Cao huyeát aùp ( CHA)</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thöôøng do quaù taûi muoái nöôùc, doâi khi do taêng reânin trong caùc beänh caàu thaän</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neáu khoâng khoáng cheá toát seõ du9a ñeán bieán chöùng co giaät, suy tim, xuaát huyeát naõo</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hæ ñònh ñieàu trò khi huyeát aùp &gt; 97,5 percentile. Ñieàu trò caáp cöùu khi HA &gt; 30 mmHg treân &gt; 97,5 percentile</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Bieän phaùp haï aùp toát nhaát trong STC laø loïc maùu. Beân caïnh ñoù coù theå söû duïng moät soá thuoác trong ñieàu trò baûo toàn.</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Nifedipine   daïng uoáng hoaëc döôùi löôõi coù theå söû  duïng  haï aùp an toøan cho treû &gt; 3 thaùng neáu toân troïng quy taéc taêng lieàu töø töø [ 7] 0,25 – 1mg/kg/ngaøy</a:t>
            </a:r>
            <a:endParaRPr b="0" lang="en-US" sz="2400" spc="-1" strike="noStrike">
              <a:solidFill>
                <a:srgbClr val="000000"/>
              </a:solidFill>
              <a:latin typeface="Arial"/>
            </a:endParaRPr>
          </a:p>
          <a:p>
            <a:pPr marL="305280" indent="-3052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ÔÛ treû nhoû truyeàn tónh maïch Niacardipine 0,5 – 3 µg  /kg/phuù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1. XÁC ĐỊNH SUY THẬN CẤP</a:t>
            </a:r>
            <a:br>
              <a:rPr sz="4400"/>
            </a:br>
            <a:endParaRPr b="0" lang="en-US" sz="4400" spc="-1" strike="noStrike">
              <a:solidFill>
                <a:srgbClr val="000000"/>
              </a:solidFill>
              <a:latin typeface="Arial"/>
            </a:endParaRPr>
          </a:p>
        </p:txBody>
      </p:sp>
      <p:sp>
        <p:nvSpPr>
          <p:cNvPr id="55" name="PlaceHolder 2"/>
          <p:cNvSpPr>
            <a:spLocks noGrp="1"/>
          </p:cNvSpPr>
          <p:nvPr>
            <p:ph/>
          </p:nvPr>
        </p:nvSpPr>
        <p:spPr>
          <a:xfrm>
            <a:off x="380880" y="1143000"/>
            <a:ext cx="8229600" cy="5486400"/>
          </a:xfrm>
          <a:prstGeom prst="rect">
            <a:avLst/>
          </a:prstGeom>
          <a:noFill/>
          <a:ln w="0">
            <a:noFill/>
          </a:ln>
        </p:spPr>
        <p:txBody>
          <a:bodyPr anchor="t">
            <a:normAutofit/>
          </a:bodyPr>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BƯỚC 1</a:t>
            </a:r>
            <a:r>
              <a:rPr b="0" lang="en-US" sz="2400" spc="-1" strike="noStrike">
                <a:solidFill>
                  <a:srgbClr val="990000"/>
                </a:solidFill>
                <a:latin typeface="Arial"/>
              </a:rPr>
              <a:t>: Phân biệt thiểu niệu, vô niệu và bí tiểu.</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ểu niệu: lượng nước tiểu &lt; 1 ml/ kg/giờ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ô niệu: lượng nước tiểu ≤  0,3 ml/ kg/giờ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í tiểu: cầu bàng quang, có nhiều  nước tiểu khi đặt ống thông tiểu.</a:t>
            </a:r>
            <a:endParaRPr b="0" lang="en-US" sz="2400" spc="-1" strike="noStrike">
              <a:solidFill>
                <a:srgbClr val="000000"/>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BƯỚC 2</a:t>
            </a:r>
            <a:r>
              <a:rPr b="0" lang="en-US" sz="2400" spc="-1" strike="noStrike">
                <a:solidFill>
                  <a:srgbClr val="990000"/>
                </a:solidFill>
                <a:latin typeface="Arial"/>
              </a:rPr>
              <a:t>: Xác định suy thận khi Créatinine máu tăng</a:t>
            </a:r>
            <a:r>
              <a:rPr b="0" lang="en-US" sz="2400" spc="-1" strike="noStrike">
                <a:solidFill>
                  <a:srgbClr val="000000"/>
                </a:solidFill>
                <a:latin typeface="Arial"/>
              </a:rPr>
              <a:t>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ơ sinh &lt; 5 ngày tuổi</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t; 10 mg/l.</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gày – 2 tuổ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t; 6 mg/l.</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6 tuổ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t; 10 mg/l.</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ên 6 tuổ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t; 12 mg/l.</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ặc Creatinine tăng 3 mg/ l/ ngày</a:t>
            </a:r>
            <a:endParaRPr b="0" lang="en-US" sz="2400" spc="-1" strike="noStrike">
              <a:solidFill>
                <a:srgbClr val="000000"/>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ưu ý : có 50% trường hợp  suy thận cấp thể không thiểu niệu)</a:t>
            </a:r>
            <a:endParaRPr b="0" lang="en-US" sz="2400" spc="-1" strike="noStrike">
              <a:solidFill>
                <a:srgbClr val="000000"/>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BƯỚC 3</a:t>
            </a:r>
            <a:r>
              <a:rPr b="0" lang="en-US" sz="2400" spc="-1" strike="noStrike">
                <a:solidFill>
                  <a:srgbClr val="990000"/>
                </a:solidFill>
                <a:latin typeface="Arial"/>
              </a:rPr>
              <a:t>: Xác định nguyên nhân : trước thận, tại thận, sau th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5. Ñieàu trò taêng Kali maùu</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aêng Kali maùu laø moät bieán chöùng ñe doïa töû vong </a:t>
            </a: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NI-Times"/>
              </a:rPr>
              <a:t>CÔ CHEÁ ÑIEÀU HOØA KALI</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K la ion öu theá cuûa noäi baøo (140-150 mEq/l) ; Kali toøan cô theå laø 50 mEq/ kg</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K nhaäp: 1,5-2,5 mEq/kg/ng</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K xuaát = nhaäp 95% qua thaân, coøn laïi qua oáng tieâu hoùa. Phaàn Kali / nu7o71c tieåu laø K baøi tieát chuû ñoäng ôû oáng thaän xa  vaø oáng goùp  döôùi taùc duïng cuûa Aldosterone chöù khoâng phaûi  % K khoâng taùi haáp thu</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Neáu khoâng tieåu: K taêng 0,5mEq /l ngaøy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Ñieàu hoøa taêng Kali caáp thôøi khoâng do thaän maø do Insulin vaø epnephrine ( ñua K vaøo teá baøo)</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Toan maùu laøm taêng Kali vì taêng di chuyeån Kali maùu ra ngoïai baøo ( 0, 3-0,5 mEq K taêng cho 0,1 pH giaû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04920" y="685800"/>
            <a:ext cx="8229600" cy="5364000"/>
          </a:xfrm>
          <a:prstGeom prst="rect">
            <a:avLst/>
          </a:prstGeom>
          <a:noFill/>
          <a:ln w="0">
            <a:noFill/>
          </a:ln>
        </p:spPr>
        <p:txBody>
          <a:bodyPr anchor="t">
            <a:normAutofit fontScale="85000"/>
          </a:bodyPr>
          <a:p>
            <a:pPr marL="291600" indent="-291600">
              <a:lnSpc>
                <a:spcPct val="80000"/>
              </a:lnSpc>
              <a:spcBef>
                <a:spcPts val="601"/>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Times"/>
              </a:rPr>
              <a:t>Yeáu toá laøm taêng K trong STC :</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Oáng thaän xa bò toån thöông neân khoâng baøi tieát kali ñöôïc</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oan </a:t>
            </a:r>
            <a:endParaRPr b="0" lang="en-US" sz="2400" spc="-1" strike="noStrike">
              <a:solidFill>
                <a:srgbClr val="000000"/>
              </a:solidFill>
              <a:latin typeface="Arial"/>
            </a:endParaRPr>
          </a:p>
          <a:p>
            <a:pPr lvl="1" marL="631440" indent="-24264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Beänh goác laøm taêng kali: taùn huyeát, huûy cô, nhieãm truøng..</a:t>
            </a:r>
            <a:endParaRPr b="0" lang="en-US" sz="2400" spc="-1" strike="noStrike">
              <a:solidFill>
                <a:srgbClr val="000000"/>
              </a:solidFill>
              <a:latin typeface="Arial"/>
            </a:endParaRPr>
          </a:p>
          <a:p>
            <a:pPr lvl="1" marL="63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Times"/>
              </a:rPr>
              <a:t>Vaán ñeà ñieän theá nghæ</a:t>
            </a:r>
            <a:r>
              <a:rPr b="0" lang="en-US" sz="2400" spc="-1" strike="noStrike">
                <a:solidFill>
                  <a:srgbClr val="000000"/>
                </a:solidFill>
                <a:latin typeface="VNI-Times"/>
              </a:rPr>
              <a:t>: caùc teá baøo coù tính kích thích cao nhö cô tim co 1tính thaám cao vôùi K vaø thaáp vôùi Na. K maùu cao laøm chuyeån ñieän theá nghæ veà ngöôõng kích thích neân teá baøo deã bò kích thích hôn. Ca laøm oån ñònh ngöôõng kích thích vaø la 2böôùc ñieàu trò caáp cöùu ñaàu tieânBieåu hieän ECG </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 5: soùng T nhoïn hình leàu</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6 T cao nhoïn</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7  PR keùo daøi, St loõm T cao</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 8  loïan nhòp thaát</a:t>
            </a:r>
            <a:endParaRPr b="0" lang="en-US" sz="2400" spc="-1" strike="noStrike">
              <a:solidFill>
                <a:srgbClr val="000000"/>
              </a:solidFill>
              <a:latin typeface="Arial"/>
            </a:endParaRPr>
          </a:p>
          <a:p>
            <a:pPr marL="291600" indent="-29160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 9 rung thaá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rPr>
              <a:t> </a:t>
            </a:r>
            <a:r>
              <a:rPr b="0" lang="en-US" sz="3200" spc="-1" strike="noStrike">
                <a:solidFill>
                  <a:srgbClr val="ff0000"/>
                </a:solidFill>
                <a:latin typeface="VNI-Times"/>
              </a:rPr>
              <a:t>Ñieàu trò caáp cöùu: K ≥ 7 mEq/l</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CaCl2 10% pha loõang 0,2- 0,3 ml/kg tieâm maïch chaäm</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Insuline 1 ñv/ 4g Glucose ( 8g sô sinh) truyeàn tónh maïch 1-2 ml/kg/ lieàu </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Salbutamol khí dung ( 2mg: &lt; 25 kg; 5 mg &gt; 25 kg) hoaëc truyeàn tónh maïch  20 phuùt ( 4 µg/kg) cô cheá kích thích bôm Na-K  ñöa K vaøo trong teá baøo</a:t>
            </a:r>
            <a:endParaRPr b="0" lang="en-US" sz="2800" spc="-1" strike="noStrike">
              <a:solidFill>
                <a:srgbClr val="000000"/>
              </a:solidFill>
              <a:latin typeface="Arial"/>
            </a:endParaRPr>
          </a:p>
          <a:p>
            <a:pPr marL="318960" indent="-318960">
              <a:lnSpc>
                <a:spcPct val="90000"/>
              </a:lnSpc>
              <a:spcBef>
                <a:spcPts val="799"/>
              </a:spcBef>
              <a:buClr>
                <a:srgbClr val="ff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Times"/>
              </a:rPr>
              <a:t>Ñieàu trò duy trìvôùi</a:t>
            </a:r>
            <a:r>
              <a:rPr b="0" lang="en-US" sz="3200" spc="-1" strike="noStrike">
                <a:solidFill>
                  <a:srgbClr val="000000"/>
                </a:solidFill>
                <a:latin typeface="VNI-Times"/>
              </a:rPr>
              <a:t> Kayexalate 1- 2g/kg/ ngaøy v aø cheá ñoä aên ít k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6. Toan chuyeån hoù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oan do taêng taïo vaø maát khaû naêng baøi tieát H+, maát khaû naêng taùi haáp thu HCO3 _</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Haäu quaû: öùc cheá cô tim </a:t>
            </a:r>
            <a:r>
              <a:rPr b="0" lang="en-US" sz="2000" spc="-1" strike="noStrike">
                <a:solidFill>
                  <a:srgbClr val="000000"/>
                </a:solidFill>
                <a:latin typeface="Wingdings"/>
                <a:ea typeface="Wingdings"/>
              </a:rPr>
              <a:t></a:t>
            </a:r>
            <a:r>
              <a:rPr b="0" lang="en-US" sz="2000" spc="-1" strike="noStrike">
                <a:solidFill>
                  <a:srgbClr val="000000"/>
                </a:solidFill>
                <a:latin typeface="VNI-Times"/>
              </a:rPr>
              <a:t> giaûm huyeát aùp, loïan nhòp; laøm naëng theâm tình traïng taêng Kali maùu; co thaét tónh maïch maïc treo; phuø phoåi tonå thöô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ính theo t CO2, ñích  buø ôû laàn ñaàu tieân laø 1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a:t>
            </a:r>
            <a:r>
              <a:rPr b="0" lang="en-US" sz="2000" spc="-1" strike="noStrike">
                <a:solidFill>
                  <a:srgbClr val="000000"/>
                </a:solidFill>
                <a:latin typeface="VNI-Times"/>
              </a:rPr>
              <a:t>0,3* P* ( 15 – t CO 2) buø 50% trong 1 giôø, coøn laïi traûi ñeàu treân 4 giô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thöû laïi khí maùi sau 2 – 4 giôø ñeå buø tieápñeå ñích cuoái cuøng ñaït pH &gt; 7,2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dòch buø : NaHCO3 7,4% pha loõa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 caån thaän: quaù taûi, haï Canci maùu neân ñieàu chænh toan logic nhaát laø loïc maù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VNI-Times"/>
              </a:rPr>
              <a:t>7. Haï canci maùu</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ô cheá: taêng phosphat, cöôøng PTH, huûy côneân laéng ñoïng Ca trong cô</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Ñieàu trò: tieâm tónh maïch chaäm Canci khi coù tetani. </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ñieàu trò duy trì: carbonat Canci: 50 200 mg/kg/ngaùy+ Vitamine D 3 0,25- 0,5 µg / ngaøy</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Times"/>
              </a:rPr>
              <a:t>   </a:t>
            </a:r>
            <a:r>
              <a:rPr b="1" i="1" lang="en-US" sz="2400" spc="-1" strike="noStrike">
                <a:solidFill>
                  <a:srgbClr val="000000"/>
                </a:solidFill>
                <a:latin typeface="VNI-Times"/>
              </a:rPr>
              <a:t>8. Haï Na maùu </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cô cheá: pha loõang, tieáp tuïc maát Na qua nöôùc tieåu</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ñieàu trò: </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tröøng hôïp 1: haïn cheá nöôùc</a:t>
            </a:r>
            <a:endParaRPr b="0" lang="en-US" sz="2400" spc="-1" strike="noStrike">
              <a:solidFill>
                <a:srgbClr val="000000"/>
              </a:solidFill>
              <a:latin typeface="Arial"/>
            </a:endParaRPr>
          </a:p>
          <a:p>
            <a:pPr marL="322200" indent="-32220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 tröôøng hôïp 2: cung caáp Na döôi1 daïng Na HCO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Times"/>
              </a:rPr>
              <a:t>9. Thieáu maùu </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khi caàn truyeàn maùu neân löu yù: quaù taûi, choïn hoàng caàu cuøng nhoùm co 1taùch loïc baïch caàu. Toát nhaát neân truyeàn maùu cuøng luùc loïcm aùu</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Khi STC keùo daøi neân ñaët vaán ñeà EPO.</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Times"/>
              </a:rPr>
              <a:t>10. Bieän phaùp khaùc</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traùnh caùc thuoác gaây ñoäc thaän</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baûo veä heä tónh maïch caùnh tay khoâng thuaän</a:t>
            </a:r>
            <a:endParaRPr b="0" lang="en-US" sz="2800" spc="-1" strike="noStrike">
              <a:solidFill>
                <a:srgbClr val="000000"/>
              </a:solidFill>
              <a:latin typeface="Arial"/>
            </a:endParaRPr>
          </a:p>
          <a:p>
            <a:pPr marL="301680" indent="-301680">
              <a:lnSpc>
                <a:spcPct val="10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ñieàu trò loeùt daï daøy do stress : Cimetidin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NI-Times"/>
              </a:rPr>
              <a:t>LOÏC MAÙU</a:t>
            </a:r>
            <a:br>
              <a:rPr sz="4000"/>
            </a:br>
            <a:endParaRPr b="0" lang="en-US" sz="4000" spc="-1" strike="noStrike">
              <a:solidFill>
                <a:srgbClr val="000000"/>
              </a:solidFill>
              <a:latin typeface="Arial"/>
            </a:endParaRPr>
          </a:p>
        </p:txBody>
      </p:sp>
      <p:sp>
        <p:nvSpPr>
          <p:cNvPr id="175" name="PlaceHolder 2"/>
          <p:cNvSpPr>
            <a:spLocks noGrp="1"/>
          </p:cNvSpPr>
          <p:nvPr>
            <p:ph/>
          </p:nvPr>
        </p:nvSpPr>
        <p:spPr>
          <a:xfrm>
            <a:off x="457200" y="914040"/>
            <a:ext cx="8229600" cy="5211720"/>
          </a:xfrm>
          <a:prstGeom prst="rect">
            <a:avLst/>
          </a:prstGeom>
          <a:noFill/>
          <a:ln w="0">
            <a:noFill/>
          </a:ln>
        </p:spPr>
        <p:txBody>
          <a:bodyPr anchor="t">
            <a:normAutofit fontScale="99000"/>
          </a:bodyPr>
          <a:p>
            <a:pPr marL="452520" indent="-45252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Times"/>
              </a:rPr>
              <a:t>CÔ CHEÁ</a:t>
            </a:r>
            <a:endParaRPr b="0" lang="en-US" sz="2400" spc="-1" strike="noStrike">
              <a:solidFill>
                <a:srgbClr val="000000"/>
              </a:solidFill>
              <a:latin typeface="Arial"/>
            </a:endParaRPr>
          </a:p>
          <a:p>
            <a:pPr lvl="1" marL="829440" indent="-376920">
              <a:lnSpc>
                <a:spcPct val="9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khueách taùn ( diffusion) : caùc  chaát hoøa tan, ion, thuoác, chaát coù troïng löôïng phaân töû lôùn ( hemofiltration)</a:t>
            </a:r>
            <a:endParaRPr b="0" lang="en-US" sz="2000" spc="-1" strike="noStrike">
              <a:solidFill>
                <a:srgbClr val="000000"/>
              </a:solidFill>
              <a:latin typeface="Arial"/>
            </a:endParaRPr>
          </a:p>
          <a:p>
            <a:pPr lvl="1" marL="829440" indent="-376920">
              <a:lnSpc>
                <a:spcPct val="90000"/>
              </a:lnSpc>
              <a:spcBef>
                <a:spcPts val="4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Times"/>
              </a:rPr>
              <a:t>Sieâu loïc ( convection, ultrafiltration): nöôùc ( keùo theo ion)</a:t>
            </a:r>
            <a:endParaRPr b="0" lang="en-US" sz="2000" spc="-1" strike="noStrike">
              <a:solidFill>
                <a:srgbClr val="000000"/>
              </a:solidFill>
              <a:latin typeface="Arial"/>
            </a:endParaRPr>
          </a:p>
          <a:p>
            <a:pPr lvl="1" marL="82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nSpc>
                <a:spcPct val="90000"/>
              </a:lnSpc>
              <a:spcBef>
                <a:spcPts val="60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Times"/>
              </a:rPr>
              <a:t>CHÆ ÑÒNH</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K maùu &gt; 7 khoâng ñaùp öùng ñieàu trò noäi</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Ureâ &gt; 2,5 g/L hoaë coù hoäi chöùng taêng ureâ huyeát naëng</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Quaù taûi khoâng theå ñieàu trò noäi</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Toan chuyeån hoùa khoâng theå ñieàu trò noäi</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Na &lt; 110 hoaëc &gt; 170</a:t>
            </a:r>
            <a:endParaRPr b="0" lang="en-US" sz="2400" spc="-1" strike="noStrike">
              <a:solidFill>
                <a:srgbClr val="000000"/>
              </a:solidFill>
              <a:latin typeface="Arial"/>
            </a:endParaRPr>
          </a:p>
          <a:p>
            <a:pPr marL="452520" indent="-452520">
              <a:lnSpc>
                <a:spcPct val="90000"/>
              </a:lnSpc>
              <a:spcBef>
                <a:spcPts val="601"/>
              </a:spcBef>
              <a:buClr>
                <a:srgbClr val="000000"/>
              </a:buClr>
              <a:buFont typeface="VNI-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Times"/>
              </a:rPr>
              <a:t>Caàn loïc maùu ñeå nuoâi aên , truyeàn maùu hoaëc loïc caùc chaát khaù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7" name=""/>
          <p:cNvGraphicFramePr/>
          <p:nvPr/>
        </p:nvGraphicFramePr>
        <p:xfrm>
          <a:off x="457200" y="380880"/>
          <a:ext cx="8229600" cy="5973840"/>
        </p:xfrm>
        <a:graphic>
          <a:graphicData uri="http://schemas.openxmlformats.org/drawingml/2006/table">
            <a:tbl>
              <a:tblPr/>
              <a:tblGrid>
                <a:gridCol w="2571840"/>
                <a:gridCol w="1800000"/>
                <a:gridCol w="1800360"/>
                <a:gridCol w="2057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PP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T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LML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73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UOÅ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Moïi tuoå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uøy thuoäc trangthieát b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Moïi tuoå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HI HUYEÁT ÑOÄNG KHOÂNG OÅ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où theå laøm ñöôï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hoâng the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où the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HAÄU PHAÃ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HI COÙ ROÁI LOÏAN ÑOÂNG MAÙ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Ô CHE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Diffus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onve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Diffus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U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Diffus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U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ÑOÄ LOÏC CREAT (ML/PH/ M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10 -2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100- 150 neáu loïc moåi ngaø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AÙC CHAÁ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ÑÖÔØNG THÖÏC HIEÄ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T phuùc maï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BIEÁN CHÖÙ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HÔØI GI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ngaé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TRANG THIEÁT B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Nheï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ON NGÖÔØ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KHAÙ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7f3a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Caàn hoã trôï hoâ haáp cho treû nho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ede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ea typeface="Times New Roman"/>
                        </a:rPr>
                        <a:t>Ngay caû khi chöa STC: HC ly giaûi u, nhiemã truøng huyeát, tröôùc gheùp g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d0b1"/>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0" y="838080"/>
            <a:ext cx="9144000" cy="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685440" y="533520"/>
            <a:ext cx="8077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Verdana"/>
              </a:rPr>
              <a:t>Factors associated with mortality </a:t>
            </a:r>
            <a:r>
              <a:rPr b="1" lang="fr-FR" sz="2800" spc="-1" strike="noStrike">
                <a:solidFill>
                  <a:srgbClr val="000099"/>
                </a:solidFill>
                <a:latin typeface="Verdana"/>
              </a:rPr>
              <a:t>	</a:t>
            </a:r>
            <a:r>
              <a:rPr b="1" lang="fr-FR" sz="2800" spc="-1" strike="noStrike">
                <a:solidFill>
                  <a:srgbClr val="000099"/>
                </a:solidFill>
                <a:latin typeface="Verdana"/>
              </a:rPr>
              <a:t>	</a:t>
            </a:r>
            <a:br>
              <a:rPr sz="900"/>
            </a:br>
            <a:r>
              <a:rPr b="1" lang="fr-FR" sz="900" spc="-1" strike="noStrike">
                <a:solidFill>
                  <a:srgbClr val="000099"/>
                </a:solidFill>
                <a:latin typeface="Verdana"/>
              </a:rPr>
              <a:t>	</a:t>
            </a:r>
            <a:r>
              <a:rPr b="1" lang="fr-FR" sz="900" spc="-1" strike="noStrike">
                <a:solidFill>
                  <a:srgbClr val="000099"/>
                </a:solidFill>
                <a:latin typeface="Verdana"/>
              </a:rPr>
              <a:t>	</a:t>
            </a:r>
            <a:r>
              <a:rPr b="1" lang="fr-FR" sz="900" spc="-1" strike="noStrike">
                <a:solidFill>
                  <a:srgbClr val="000099"/>
                </a:solidFill>
                <a:latin typeface="Verdana"/>
              </a:rPr>
              <a:t>	</a:t>
            </a:r>
            <a:r>
              <a:rPr b="1" lang="fr-FR" sz="900" spc="-1" strike="noStrike">
                <a:solidFill>
                  <a:srgbClr val="000099"/>
                </a:solidFill>
                <a:latin typeface="Verdana"/>
              </a:rPr>
              <a:t>	</a:t>
            </a:r>
            <a:r>
              <a:rPr b="1" lang="fr-FR" sz="900" spc="-1" strike="noStrike">
                <a:solidFill>
                  <a:srgbClr val="000099"/>
                </a:solidFill>
                <a:latin typeface="Verdana"/>
              </a:rPr>
              <a:t>	</a:t>
            </a:r>
            <a:endParaRPr b="0" lang="en-US" sz="900" spc="-1" strike="noStrike">
              <a:solidFill>
                <a:srgbClr val="000000"/>
              </a:solidFill>
              <a:latin typeface="Arial"/>
            </a:endParaRPr>
          </a:p>
        </p:txBody>
      </p:sp>
      <p:sp>
        <p:nvSpPr>
          <p:cNvPr id="180" name="PlaceHolder 2"/>
          <p:cNvSpPr>
            <a:spLocks noGrp="1"/>
          </p:cNvSpPr>
          <p:nvPr>
            <p:ph/>
          </p:nvPr>
        </p:nvSpPr>
        <p:spPr>
          <a:xfrm>
            <a:off x="571320" y="1676520"/>
            <a:ext cx="8001000" cy="4952880"/>
          </a:xfrm>
          <a:prstGeom prst="rect">
            <a:avLst/>
          </a:prstGeom>
          <a:noFill/>
          <a:ln w="0">
            <a:noFill/>
          </a:ln>
        </p:spPr>
        <p:txBody>
          <a:bodyPr anchor="t">
            <a:normAutofit fontScale="98000"/>
          </a:bodyPr>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Age &lt; 1 yr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Symons </a:t>
            </a:r>
            <a:r>
              <a:rPr b="1" i="1" lang="fr-FR" sz="1400" spc="-1" strike="noStrike">
                <a:solidFill>
                  <a:srgbClr val="000000"/>
                </a:solidFill>
                <a:latin typeface="Arial Narrow"/>
              </a:rPr>
              <a:t>J Am Soc Nephrol</a:t>
            </a:r>
            <a:r>
              <a:rPr b="1" lang="fr-FR" sz="1400" spc="-1" strike="noStrike">
                <a:solidFill>
                  <a:srgbClr val="000000"/>
                </a:solidFill>
                <a:latin typeface="Arial Narrow"/>
              </a:rPr>
              <a:t> 2007</a:t>
            </a:r>
            <a:endParaRPr b="0" lang="en-US" sz="1400" spc="-1" strike="noStrike">
              <a:solidFill>
                <a:srgbClr val="000000"/>
              </a:solidFill>
              <a:latin typeface="Arial"/>
            </a:endParaRPr>
          </a:p>
          <a:p>
            <a:pPr marL="597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Loza </a:t>
            </a:r>
            <a:r>
              <a:rPr b="1" i="1" lang="fr-FR" sz="1400" spc="-1" strike="noStrike">
                <a:solidFill>
                  <a:srgbClr val="000000"/>
                </a:solidFill>
                <a:latin typeface="Arial Narrow"/>
              </a:rPr>
              <a:t>Pediatr Nephrol</a:t>
            </a:r>
            <a:r>
              <a:rPr b="1" lang="fr-FR" sz="1400" spc="-1" strike="noStrike">
                <a:solidFill>
                  <a:srgbClr val="000000"/>
                </a:solidFill>
                <a:latin typeface="Arial Narrow"/>
              </a:rPr>
              <a:t> 2006</a:t>
            </a: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BW &lt; 10 kg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Symons </a:t>
            </a:r>
            <a:r>
              <a:rPr b="1" i="1" lang="fr-FR" sz="1400" spc="-1" strike="noStrike">
                <a:solidFill>
                  <a:srgbClr val="000000"/>
                </a:solidFill>
                <a:latin typeface="Arial Narrow"/>
              </a:rPr>
              <a:t>J Am Soc Nephrol</a:t>
            </a:r>
            <a:r>
              <a:rPr b="1" lang="fr-FR" sz="1400" spc="-1" strike="noStrike">
                <a:solidFill>
                  <a:srgbClr val="000000"/>
                </a:solidFill>
                <a:latin typeface="Arial Narrow"/>
              </a:rPr>
              <a:t> 2007</a:t>
            </a:r>
            <a:endParaRPr b="0" lang="en-US" sz="1400" spc="-1" strike="noStrike">
              <a:solidFill>
                <a:srgbClr val="000000"/>
              </a:solidFill>
              <a:latin typeface="Arial"/>
            </a:endParaRPr>
          </a:p>
          <a:p>
            <a:pPr marL="5972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Fluid overload &gt; 10%</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Gillespie </a:t>
            </a:r>
            <a:r>
              <a:rPr b="1" i="1" lang="fr-FR" sz="1400" spc="-1" strike="noStrike">
                <a:solidFill>
                  <a:srgbClr val="000000"/>
                </a:solidFill>
                <a:latin typeface="Arial Narrow"/>
              </a:rPr>
              <a:t>Pediatr Nephrol</a:t>
            </a:r>
            <a:r>
              <a:rPr b="1" lang="fr-FR" sz="1400" spc="-1" strike="noStrike">
                <a:solidFill>
                  <a:srgbClr val="000000"/>
                </a:solidFill>
                <a:latin typeface="Arial Narrow"/>
              </a:rPr>
              <a:t> 2004</a:t>
            </a:r>
            <a:endParaRPr b="0" lang="en-US" sz="1400" spc="-1" strike="noStrike">
              <a:solidFill>
                <a:srgbClr val="000000"/>
              </a:solidFill>
              <a:latin typeface="Arial"/>
            </a:endParaRPr>
          </a:p>
          <a:p>
            <a:pPr marL="5972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	</a:t>
            </a:r>
            <a:r>
              <a:rPr b="1" lang="fr-FR" sz="1400" spc="-1" strike="noStrike">
                <a:solidFill>
                  <a:srgbClr val="000000"/>
                </a:solidFill>
                <a:latin typeface="Arial Narrow"/>
              </a:rPr>
              <a:t>Goldstein </a:t>
            </a:r>
            <a:r>
              <a:rPr b="1" i="1" lang="fr-FR" sz="1400" spc="-1" strike="noStrike">
                <a:solidFill>
                  <a:srgbClr val="000000"/>
                </a:solidFill>
                <a:latin typeface="Arial Narrow"/>
              </a:rPr>
              <a:t>Kidney Int</a:t>
            </a:r>
            <a:r>
              <a:rPr b="1" lang="fr-FR" sz="1400" spc="-1" strike="noStrike">
                <a:solidFill>
                  <a:srgbClr val="000000"/>
                </a:solidFill>
                <a:latin typeface="Arial Narrow"/>
              </a:rPr>
              <a:t> 2005</a:t>
            </a: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Oliguria</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Loza </a:t>
            </a:r>
            <a:r>
              <a:rPr b="1" i="1" lang="fr-FR" sz="1400" spc="-1" strike="noStrike">
                <a:solidFill>
                  <a:srgbClr val="000000"/>
                </a:solidFill>
                <a:latin typeface="Arial Narrow"/>
              </a:rPr>
              <a:t>Pediatr Nephrol</a:t>
            </a:r>
            <a:r>
              <a:rPr b="1" lang="fr-FR" sz="1400" spc="-1" strike="noStrike">
                <a:solidFill>
                  <a:srgbClr val="000000"/>
                </a:solidFill>
                <a:latin typeface="Arial Narrow"/>
              </a:rPr>
              <a:t> 2006</a:t>
            </a:r>
            <a:endParaRPr b="0" lang="en-US" sz="1400" spc="-1" strike="noStrike">
              <a:solidFill>
                <a:srgbClr val="000000"/>
              </a:solidFill>
              <a:latin typeface="Arial"/>
            </a:endParaRPr>
          </a:p>
          <a:p>
            <a:pPr marL="5972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Sepsis</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Loza </a:t>
            </a:r>
            <a:r>
              <a:rPr b="1" i="1" lang="fr-FR" sz="1400" spc="-1" strike="noStrike">
                <a:solidFill>
                  <a:srgbClr val="000000"/>
                </a:solidFill>
                <a:latin typeface="Arial Narrow"/>
              </a:rPr>
              <a:t>Pediatr Nephrol</a:t>
            </a:r>
            <a:r>
              <a:rPr b="1" lang="fr-FR" sz="1400" spc="-1" strike="noStrike">
                <a:solidFill>
                  <a:srgbClr val="000000"/>
                </a:solidFill>
                <a:latin typeface="Arial Narrow"/>
              </a:rPr>
              <a:t> 2006</a:t>
            </a:r>
            <a:endParaRPr b="0" lang="en-US" sz="1400" spc="-1" strike="noStrike">
              <a:solidFill>
                <a:srgbClr val="000000"/>
              </a:solidFill>
              <a:latin typeface="Arial"/>
            </a:endParaRPr>
          </a:p>
          <a:p>
            <a:pPr marL="5972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High PRISM-2 score</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Goldstein </a:t>
            </a:r>
            <a:r>
              <a:rPr b="1" i="1" lang="fr-FR" sz="1400" spc="-1" strike="noStrike">
                <a:solidFill>
                  <a:srgbClr val="000000"/>
                </a:solidFill>
                <a:latin typeface="Arial Narrow"/>
              </a:rPr>
              <a:t>Kidney Int</a:t>
            </a:r>
            <a:r>
              <a:rPr b="1" lang="fr-FR" sz="1400" spc="-1" strike="noStrike">
                <a:solidFill>
                  <a:srgbClr val="000000"/>
                </a:solidFill>
                <a:latin typeface="Arial Narrow"/>
              </a:rPr>
              <a:t> 2005</a:t>
            </a:r>
            <a:endParaRPr b="0" lang="en-US" sz="1400" spc="-1" strike="noStrike">
              <a:solidFill>
                <a:srgbClr val="000000"/>
              </a:solidFill>
              <a:latin typeface="Arial"/>
            </a:endParaRPr>
          </a:p>
          <a:p>
            <a:pPr marL="5972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597240">
              <a:lnSpc>
                <a:spcPct val="10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High Central Venous Pressure</a:t>
            </a:r>
            <a:r>
              <a:rPr b="1" lang="fr-FR" sz="2400" spc="-1" strike="noStrike">
                <a:solidFill>
                  <a:srgbClr val="000000"/>
                </a:solidFill>
                <a:latin typeface="Arial Narrow"/>
              </a:rPr>
              <a:t>	</a:t>
            </a:r>
            <a:r>
              <a:rPr b="1" lang="fr-FR" sz="2400" spc="-1" strike="noStrike">
                <a:solidFill>
                  <a:srgbClr val="000000"/>
                </a:solidFill>
                <a:latin typeface="Arial Narrow"/>
              </a:rPr>
              <a:t>	</a:t>
            </a:r>
            <a:r>
              <a:rPr b="1" lang="fr-FR" sz="1400" spc="-1" strike="noStrike">
                <a:solidFill>
                  <a:srgbClr val="000000"/>
                </a:solidFill>
                <a:latin typeface="Arial Narrow"/>
              </a:rPr>
              <a:t>Goldstein </a:t>
            </a:r>
            <a:r>
              <a:rPr b="1" i="1" lang="fr-FR" sz="1400" spc="-1" strike="noStrike">
                <a:solidFill>
                  <a:srgbClr val="000000"/>
                </a:solidFill>
                <a:latin typeface="Arial Narrow"/>
              </a:rPr>
              <a:t>Kidney Int</a:t>
            </a:r>
            <a:r>
              <a:rPr b="1" lang="fr-FR" sz="1400" spc="-1" strike="noStrike">
                <a:solidFill>
                  <a:srgbClr val="000000"/>
                </a:solidFill>
                <a:latin typeface="Arial Narrow"/>
              </a:rPr>
              <a: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ình huống 1:</a:t>
            </a:r>
            <a:br>
              <a:rPr sz="4000"/>
            </a:b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ẻ 3 tuổi, bị tiêu chảy 6 lần/ngày phân nước trong 3 ngày. Trẻ nhập viện trong bệnh cảnh mất nước C, mạch 189l/p, HA không đo được; không có nước tiể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6" name="Group 2"/>
          <p:cNvGrpSpPr/>
          <p:nvPr/>
        </p:nvGrpSpPr>
        <p:grpSpPr>
          <a:xfrm>
            <a:off x="177840" y="863640"/>
            <a:ext cx="6471720" cy="5994360"/>
            <a:chOff x="177840" y="863640"/>
            <a:chExt cx="6471720" cy="5994360"/>
          </a:xfrm>
        </p:grpSpPr>
        <p:sp>
          <p:nvSpPr>
            <p:cNvPr id="57" name="Text Box 3"/>
            <p:cNvSpPr/>
            <p:nvPr/>
          </p:nvSpPr>
          <p:spPr>
            <a:xfrm>
              <a:off x="1241640" y="876240"/>
              <a:ext cx="2055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d CCl</a:t>
              </a:r>
              <a:endParaRPr b="0" lang="en-US" sz="2400" spc="-1" strike="noStrike">
                <a:solidFill>
                  <a:srgbClr val="000000"/>
                </a:solidFill>
                <a:latin typeface="Arial"/>
              </a:endParaRPr>
            </a:p>
          </p:txBody>
        </p:sp>
        <p:sp>
          <p:nvSpPr>
            <p:cNvPr id="58" name="Text Box 4"/>
            <p:cNvSpPr/>
            <p:nvPr/>
          </p:nvSpPr>
          <p:spPr>
            <a:xfrm>
              <a:off x="3716280" y="863640"/>
              <a:ext cx="2540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e output criteria</a:t>
              </a:r>
              <a:endParaRPr b="0" lang="en-US" sz="2400" spc="-1" strike="noStrike">
                <a:solidFill>
                  <a:srgbClr val="000000"/>
                </a:solidFill>
                <a:latin typeface="Arial"/>
              </a:endParaRPr>
            </a:p>
          </p:txBody>
        </p:sp>
        <p:sp>
          <p:nvSpPr>
            <p:cNvPr id="59" name="Freeform 5"/>
            <p:cNvSpPr/>
            <p:nvPr/>
          </p:nvSpPr>
          <p:spPr>
            <a:xfrm>
              <a:off x="708120" y="1282680"/>
              <a:ext cx="2980080" cy="1162080"/>
            </a:xfrm>
            <a:custGeom>
              <a:avLst/>
              <a:gdLst>
                <a:gd name="textAreaLeft" fmla="*/ 0 w 2980080"/>
                <a:gd name="textAreaRight" fmla="*/ 2980440 w 2980080"/>
                <a:gd name="textAreaTop" fmla="*/ 0 h 1162080"/>
                <a:gd name="textAreaBottom" fmla="*/ 1162440 h 1162080"/>
              </a:gdLst>
              <a:ahLst/>
              <a:rect l="textAreaLeft" t="textAreaTop" r="textAreaRight" b="textAreaBottom"/>
              <a:pathLst>
                <a:path w="2151" h="750">
                  <a:moveTo>
                    <a:pt x="0" y="0"/>
                  </a:moveTo>
                  <a:lnTo>
                    <a:pt x="2151" y="3"/>
                  </a:lnTo>
                  <a:lnTo>
                    <a:pt x="2151" y="750"/>
                  </a:lnTo>
                  <a:lnTo>
                    <a:pt x="222" y="744"/>
                  </a:lnTo>
                  <a:lnTo>
                    <a:pt x="0" y="0"/>
                  </a:lnTo>
                  <a:close/>
                </a:path>
              </a:pathLst>
            </a:custGeom>
            <a:gradFill rotWithShape="0">
              <a:gsLst>
                <a:gs pos="0">
                  <a:srgbClr val="ffffff"/>
                </a:gs>
                <a:gs pos="100000">
                  <a:srgbClr val="ffcc66"/>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Freeform 6"/>
            <p:cNvSpPr/>
            <p:nvPr/>
          </p:nvSpPr>
          <p:spPr>
            <a:xfrm>
              <a:off x="3679560" y="1282680"/>
              <a:ext cx="2970000" cy="1154160"/>
            </a:xfrm>
            <a:custGeom>
              <a:avLst/>
              <a:gdLst>
                <a:gd name="textAreaLeft" fmla="*/ 0 w 2970000"/>
                <a:gd name="textAreaRight" fmla="*/ 2970360 w 2970000"/>
                <a:gd name="textAreaTop" fmla="*/ 0 h 1154160"/>
                <a:gd name="textAreaBottom" fmla="*/ 1154520 h 1154160"/>
              </a:gdLst>
              <a:ahLst/>
              <a:rect l="textAreaLeft" t="textAreaTop" r="textAreaRight" b="textAreaBottom"/>
              <a:pathLst>
                <a:path w="2145" h="744">
                  <a:moveTo>
                    <a:pt x="6" y="0"/>
                  </a:moveTo>
                  <a:lnTo>
                    <a:pt x="2145" y="0"/>
                  </a:lnTo>
                  <a:lnTo>
                    <a:pt x="1920" y="744"/>
                  </a:lnTo>
                  <a:lnTo>
                    <a:pt x="0" y="744"/>
                  </a:lnTo>
                  <a:lnTo>
                    <a:pt x="6" y="0"/>
                  </a:lnTo>
                  <a:close/>
                </a:path>
              </a:pathLst>
            </a:custGeom>
            <a:gradFill rotWithShape="0">
              <a:gsLst>
                <a:gs pos="0">
                  <a:srgbClr val="ffffff"/>
                </a:gs>
                <a:gs pos="100000">
                  <a:srgbClr val="ffcc66"/>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1" name="Freeform 7"/>
            <p:cNvSpPr/>
            <p:nvPr/>
          </p:nvSpPr>
          <p:spPr>
            <a:xfrm>
              <a:off x="1015920" y="2427120"/>
              <a:ext cx="2663640" cy="935280"/>
            </a:xfrm>
            <a:custGeom>
              <a:avLst/>
              <a:gdLst>
                <a:gd name="textAreaLeft" fmla="*/ 0 w 2663640"/>
                <a:gd name="textAreaRight" fmla="*/ 2664000 w 2663640"/>
                <a:gd name="textAreaTop" fmla="*/ 0 h 935280"/>
                <a:gd name="textAreaBottom" fmla="*/ 935280 h 935280"/>
              </a:gdLst>
              <a:ahLst/>
              <a:rect l="textAreaLeft" t="textAreaTop" r="textAreaRight" b="textAreaBottom"/>
              <a:pathLst>
                <a:path w="1923" h="603">
                  <a:moveTo>
                    <a:pt x="1923" y="12"/>
                  </a:moveTo>
                  <a:lnTo>
                    <a:pt x="1923" y="600"/>
                  </a:lnTo>
                  <a:lnTo>
                    <a:pt x="180" y="603"/>
                  </a:lnTo>
                  <a:lnTo>
                    <a:pt x="0" y="0"/>
                  </a:lnTo>
                  <a:lnTo>
                    <a:pt x="1923" y="12"/>
                  </a:lnTo>
                  <a:close/>
                </a:path>
              </a:pathLst>
            </a:custGeom>
            <a:gradFill rotWithShape="0">
              <a:gsLst>
                <a:gs pos="0">
                  <a:srgbClr val="ffffff"/>
                </a:gs>
                <a:gs pos="100000">
                  <a:srgbClr val="d59c91"/>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 name="Freeform 8"/>
            <p:cNvSpPr/>
            <p:nvPr/>
          </p:nvSpPr>
          <p:spPr>
            <a:xfrm>
              <a:off x="3675600" y="2440080"/>
              <a:ext cx="2662200" cy="922320"/>
            </a:xfrm>
            <a:custGeom>
              <a:avLst/>
              <a:gdLst>
                <a:gd name="textAreaLeft" fmla="*/ 0 w 2662200"/>
                <a:gd name="textAreaRight" fmla="*/ 2662560 w 2662200"/>
                <a:gd name="textAreaTop" fmla="*/ 0 h 922320"/>
                <a:gd name="textAreaBottom" fmla="*/ 922680 h 922320"/>
              </a:gdLst>
              <a:ahLst/>
              <a:rect l="textAreaLeft" t="textAreaTop" r="textAreaRight" b="textAreaBottom"/>
              <a:pathLst>
                <a:path w="1923" h="594">
                  <a:moveTo>
                    <a:pt x="0" y="0"/>
                  </a:moveTo>
                  <a:lnTo>
                    <a:pt x="1923" y="0"/>
                  </a:lnTo>
                  <a:lnTo>
                    <a:pt x="1740" y="594"/>
                  </a:lnTo>
                  <a:lnTo>
                    <a:pt x="0" y="588"/>
                  </a:lnTo>
                  <a:lnTo>
                    <a:pt x="0" y="0"/>
                  </a:lnTo>
                  <a:close/>
                </a:path>
              </a:pathLst>
            </a:custGeom>
            <a:gradFill rotWithShape="0">
              <a:gsLst>
                <a:gs pos="0">
                  <a:srgbClr val="ffffff"/>
                </a:gs>
                <a:gs pos="100000">
                  <a:srgbClr val="d59c91"/>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3" name="Freeform 9"/>
            <p:cNvSpPr/>
            <p:nvPr/>
          </p:nvSpPr>
          <p:spPr>
            <a:xfrm>
              <a:off x="1265400" y="3357720"/>
              <a:ext cx="2418120" cy="1079280"/>
            </a:xfrm>
            <a:custGeom>
              <a:avLst/>
              <a:gdLst>
                <a:gd name="textAreaLeft" fmla="*/ 0 w 2418120"/>
                <a:gd name="textAreaRight" fmla="*/ 2418480 w 2418120"/>
                <a:gd name="textAreaTop" fmla="*/ 0 h 1079280"/>
                <a:gd name="textAreaBottom" fmla="*/ 1079640 h 1079280"/>
              </a:gdLst>
              <a:ahLst/>
              <a:rect l="textAreaLeft" t="textAreaTop" r="textAreaRight" b="textAreaBottom"/>
              <a:pathLst>
                <a:path w="1746" h="696">
                  <a:moveTo>
                    <a:pt x="0" y="0"/>
                  </a:moveTo>
                  <a:lnTo>
                    <a:pt x="201" y="690"/>
                  </a:lnTo>
                  <a:lnTo>
                    <a:pt x="1746" y="696"/>
                  </a:lnTo>
                  <a:lnTo>
                    <a:pt x="1743" y="3"/>
                  </a:lnTo>
                  <a:lnTo>
                    <a:pt x="0" y="0"/>
                  </a:lnTo>
                  <a:close/>
                </a:path>
              </a:pathLst>
            </a:custGeom>
            <a:gradFill rotWithShape="0">
              <a:gsLst>
                <a:gs pos="0">
                  <a:srgbClr val="f5e2ff"/>
                </a:gs>
                <a:gs pos="100000">
                  <a:srgbClr val="cc66ff"/>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4" name="Freeform 10"/>
            <p:cNvSpPr/>
            <p:nvPr/>
          </p:nvSpPr>
          <p:spPr>
            <a:xfrm>
              <a:off x="3679560" y="3357720"/>
              <a:ext cx="2396880" cy="1079280"/>
            </a:xfrm>
            <a:custGeom>
              <a:avLst/>
              <a:gdLst>
                <a:gd name="textAreaLeft" fmla="*/ 0 w 2396880"/>
                <a:gd name="textAreaRight" fmla="*/ 2397240 w 2396880"/>
                <a:gd name="textAreaTop" fmla="*/ 0 h 1079280"/>
                <a:gd name="textAreaBottom" fmla="*/ 1079640 h 1079280"/>
              </a:gdLst>
              <a:ahLst/>
              <a:rect l="textAreaLeft" t="textAreaTop" r="textAreaRight" b="textAreaBottom"/>
              <a:pathLst>
                <a:path w="1731" h="696">
                  <a:moveTo>
                    <a:pt x="1731" y="3"/>
                  </a:moveTo>
                  <a:lnTo>
                    <a:pt x="1524" y="696"/>
                  </a:lnTo>
                  <a:lnTo>
                    <a:pt x="0" y="696"/>
                  </a:lnTo>
                  <a:lnTo>
                    <a:pt x="0" y="0"/>
                  </a:lnTo>
                  <a:lnTo>
                    <a:pt x="1731" y="3"/>
                  </a:lnTo>
                  <a:close/>
                </a:path>
              </a:pathLst>
            </a:custGeom>
            <a:gradFill rotWithShape="0">
              <a:gsLst>
                <a:gs pos="0">
                  <a:srgbClr val="f9ecff"/>
                </a:gs>
                <a:gs pos="100000">
                  <a:srgbClr val="cc66ff"/>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 name="Freeform 11"/>
            <p:cNvSpPr/>
            <p:nvPr/>
          </p:nvSpPr>
          <p:spPr>
            <a:xfrm>
              <a:off x="1546560" y="4432320"/>
              <a:ext cx="4243680" cy="1190520"/>
            </a:xfrm>
            <a:custGeom>
              <a:avLst/>
              <a:gdLst>
                <a:gd name="textAreaLeft" fmla="*/ 0 w 4243680"/>
                <a:gd name="textAreaRight" fmla="*/ 4244040 w 4243680"/>
                <a:gd name="textAreaTop" fmla="*/ 0 h 1190520"/>
                <a:gd name="textAreaBottom" fmla="*/ 1190880 h 1190520"/>
              </a:gdLst>
              <a:ahLst/>
              <a:rect l="textAreaLeft" t="textAreaTop" r="textAreaRight" b="textAreaBottom"/>
              <a:pathLst>
                <a:path w="3064" h="768">
                  <a:moveTo>
                    <a:pt x="0" y="0"/>
                  </a:moveTo>
                  <a:lnTo>
                    <a:pt x="228" y="764"/>
                  </a:lnTo>
                  <a:lnTo>
                    <a:pt x="2844" y="768"/>
                  </a:lnTo>
                  <a:lnTo>
                    <a:pt x="3064" y="4"/>
                  </a:lnTo>
                  <a:lnTo>
                    <a:pt x="0" y="0"/>
                  </a:lnTo>
                  <a:close/>
                </a:path>
              </a:pathLst>
            </a:custGeom>
            <a:gradFill rotWithShape="0">
              <a:gsLst>
                <a:gs pos="0">
                  <a:srgbClr val="e2e2ff"/>
                </a:gs>
                <a:gs pos="100000">
                  <a:srgbClr val="ccccff"/>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 name="Freeform 12"/>
            <p:cNvSpPr/>
            <p:nvPr/>
          </p:nvSpPr>
          <p:spPr>
            <a:xfrm>
              <a:off x="1862640" y="5616720"/>
              <a:ext cx="3617280" cy="1241280"/>
            </a:xfrm>
            <a:custGeom>
              <a:avLst/>
              <a:gdLst>
                <a:gd name="textAreaLeft" fmla="*/ 0 w 3617280"/>
                <a:gd name="textAreaRight" fmla="*/ 3617640 w 3617280"/>
                <a:gd name="textAreaTop" fmla="*/ 0 h 1241280"/>
                <a:gd name="textAreaBottom" fmla="*/ 1241640 h 1241280"/>
              </a:gdLst>
              <a:ahLst/>
              <a:rect l="textAreaLeft" t="textAreaTop" r="textAreaRight" b="textAreaBottom"/>
              <a:pathLst>
                <a:path w="2612" h="800">
                  <a:moveTo>
                    <a:pt x="0" y="0"/>
                  </a:moveTo>
                  <a:lnTo>
                    <a:pt x="236" y="800"/>
                  </a:lnTo>
                  <a:lnTo>
                    <a:pt x="2380" y="800"/>
                  </a:lnTo>
                  <a:lnTo>
                    <a:pt x="2612" y="0"/>
                  </a:lnTo>
                  <a:lnTo>
                    <a:pt x="0" y="0"/>
                  </a:lnTo>
                  <a:close/>
                </a:path>
              </a:pathLst>
            </a:custGeom>
            <a:gradFill rotWithShape="0">
              <a:gsLst>
                <a:gs pos="0">
                  <a:srgbClr val="ffffff"/>
                </a:gs>
                <a:gs pos="100000">
                  <a:srgbClr val="99cc00"/>
                </a:gs>
              </a:gsLst>
              <a:lin ang="1890000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7" name="Text Box 13"/>
            <p:cNvSpPr/>
            <p:nvPr/>
          </p:nvSpPr>
          <p:spPr>
            <a:xfrm>
              <a:off x="177840" y="1758960"/>
              <a:ext cx="68724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a:t>
              </a:r>
              <a:r>
                <a:rPr b="0" lang="en-US" sz="2000" spc="-1" strike="noStrike">
                  <a:solidFill>
                    <a:srgbClr val="ffff99"/>
                  </a:solidFill>
                  <a:latin typeface="Arial"/>
                </a:rPr>
                <a:t>isk</a:t>
              </a:r>
              <a:endParaRPr b="0" lang="en-US" sz="2000" spc="-1" strike="noStrike">
                <a:solidFill>
                  <a:srgbClr val="000000"/>
                </a:solidFill>
                <a:latin typeface="Arial"/>
              </a:endParaRPr>
            </a:p>
          </p:txBody>
        </p:sp>
        <p:sp>
          <p:nvSpPr>
            <p:cNvPr id="68" name="Text Box 14"/>
            <p:cNvSpPr/>
            <p:nvPr/>
          </p:nvSpPr>
          <p:spPr>
            <a:xfrm>
              <a:off x="311760" y="2736720"/>
              <a:ext cx="8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a:t>
              </a:r>
              <a:r>
                <a:rPr b="0" lang="en-US" sz="2000" spc="-1" strike="noStrike">
                  <a:solidFill>
                    <a:srgbClr val="ffff99"/>
                  </a:solidFill>
                  <a:latin typeface="Arial"/>
                </a:rPr>
                <a:t>njury</a:t>
              </a:r>
              <a:endParaRPr b="0" lang="en-US" sz="2000" spc="-1" strike="noStrike">
                <a:solidFill>
                  <a:srgbClr val="000000"/>
                </a:solidFill>
                <a:latin typeface="Arial"/>
              </a:endParaRPr>
            </a:p>
          </p:txBody>
        </p:sp>
        <p:sp>
          <p:nvSpPr>
            <p:cNvPr id="69" name="Text Box 15"/>
            <p:cNvSpPr/>
            <p:nvPr/>
          </p:nvSpPr>
          <p:spPr>
            <a:xfrm>
              <a:off x="486720" y="3743280"/>
              <a:ext cx="100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t>
              </a:r>
              <a:r>
                <a:rPr b="0" lang="en-US" sz="2000" spc="-1" strike="noStrike">
                  <a:solidFill>
                    <a:srgbClr val="ffff99"/>
                  </a:solidFill>
                  <a:latin typeface="Arial"/>
                </a:rPr>
                <a:t>ailure</a:t>
              </a:r>
              <a:endParaRPr b="0" lang="en-US" sz="2000" spc="-1" strike="noStrike">
                <a:solidFill>
                  <a:srgbClr val="000000"/>
                </a:solidFill>
                <a:latin typeface="Arial"/>
              </a:endParaRPr>
            </a:p>
          </p:txBody>
        </p:sp>
        <p:sp>
          <p:nvSpPr>
            <p:cNvPr id="70" name="Text Box 16"/>
            <p:cNvSpPr/>
            <p:nvPr/>
          </p:nvSpPr>
          <p:spPr>
            <a:xfrm>
              <a:off x="1020240" y="4786200"/>
              <a:ext cx="68688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t>
              </a:r>
              <a:r>
                <a:rPr b="0" lang="en-US" sz="2000" spc="-1" strike="noStrike">
                  <a:solidFill>
                    <a:srgbClr val="ffff99"/>
                  </a:solidFill>
                  <a:latin typeface="Arial"/>
                </a:rPr>
                <a:t>oss</a:t>
              </a:r>
              <a:endParaRPr b="0" lang="en-US" sz="2000" spc="-1" strike="noStrike">
                <a:solidFill>
                  <a:srgbClr val="000000"/>
                </a:solidFill>
                <a:latin typeface="Arial"/>
              </a:endParaRPr>
            </a:p>
          </p:txBody>
        </p:sp>
        <p:sp>
          <p:nvSpPr>
            <p:cNvPr id="71" name="Text Box 17"/>
            <p:cNvSpPr/>
            <p:nvPr/>
          </p:nvSpPr>
          <p:spPr>
            <a:xfrm>
              <a:off x="1199160" y="6014880"/>
              <a:ext cx="87444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t>
              </a:r>
              <a:r>
                <a:rPr b="0" lang="en-US" sz="2000" spc="-1" strike="noStrike">
                  <a:solidFill>
                    <a:srgbClr val="ffff99"/>
                  </a:solidFill>
                  <a:latin typeface="Arial"/>
                </a:rPr>
                <a:t>SRD</a:t>
              </a:r>
              <a:endParaRPr b="0" lang="en-US" sz="2000" spc="-1" strike="noStrike">
                <a:solidFill>
                  <a:srgbClr val="000000"/>
                </a:solidFill>
                <a:latin typeface="Arial"/>
              </a:endParaRPr>
            </a:p>
          </p:txBody>
        </p:sp>
        <p:sp>
          <p:nvSpPr>
            <p:cNvPr id="72" name="Text Box 18"/>
            <p:cNvSpPr/>
            <p:nvPr/>
          </p:nvSpPr>
          <p:spPr>
            <a:xfrm>
              <a:off x="1175400" y="1577880"/>
              <a:ext cx="230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Cl decrease by 25%</a:t>
              </a:r>
              <a:endParaRPr b="0" lang="en-US" sz="1600" spc="-1" strike="noStrike">
                <a:solidFill>
                  <a:srgbClr val="000000"/>
                </a:solidFill>
                <a:latin typeface="Arial"/>
              </a:endParaRPr>
            </a:p>
          </p:txBody>
        </p:sp>
        <p:sp>
          <p:nvSpPr>
            <p:cNvPr id="73" name="Text Box 19"/>
            <p:cNvSpPr/>
            <p:nvPr/>
          </p:nvSpPr>
          <p:spPr>
            <a:xfrm>
              <a:off x="3855960" y="1549440"/>
              <a:ext cx="2305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O &lt;0.5 mg/kg/h x 8 h</a:t>
              </a:r>
              <a:endParaRPr b="0" lang="en-US" sz="1600" spc="-1" strike="noStrike">
                <a:solidFill>
                  <a:srgbClr val="000000"/>
                </a:solidFill>
                <a:latin typeface="Arial"/>
              </a:endParaRPr>
            </a:p>
          </p:txBody>
        </p:sp>
        <p:sp>
          <p:nvSpPr>
            <p:cNvPr id="74" name="Text Box 20"/>
            <p:cNvSpPr/>
            <p:nvPr/>
          </p:nvSpPr>
          <p:spPr>
            <a:xfrm>
              <a:off x="3812400" y="2712960"/>
              <a:ext cx="230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O &lt; 0.5 mg/kg/h x 16 h</a:t>
              </a:r>
              <a:endParaRPr b="0" lang="en-US" sz="1600" spc="-1" strike="noStrike">
                <a:solidFill>
                  <a:srgbClr val="000000"/>
                </a:solidFill>
                <a:latin typeface="Arial"/>
              </a:endParaRPr>
            </a:p>
          </p:txBody>
        </p:sp>
        <p:sp>
          <p:nvSpPr>
            <p:cNvPr id="75" name="Text Box 21"/>
            <p:cNvSpPr/>
            <p:nvPr/>
          </p:nvSpPr>
          <p:spPr>
            <a:xfrm>
              <a:off x="2328120" y="4786200"/>
              <a:ext cx="279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failure &gt;4 weeks</a:t>
              </a:r>
              <a:endParaRPr b="0" lang="en-US" sz="1600" spc="-1" strike="noStrike">
                <a:solidFill>
                  <a:srgbClr val="000000"/>
                </a:solidFill>
                <a:latin typeface="Arial"/>
              </a:endParaRPr>
            </a:p>
          </p:txBody>
        </p:sp>
        <p:sp>
          <p:nvSpPr>
            <p:cNvPr id="76" name="Text Box 22"/>
            <p:cNvSpPr/>
            <p:nvPr/>
          </p:nvSpPr>
          <p:spPr>
            <a:xfrm>
              <a:off x="3779640" y="3532320"/>
              <a:ext cx="20005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O &lt; 0.3 mg/kg/h x 24 h  or Anuria x 12 h</a:t>
              </a:r>
              <a:endParaRPr b="0" lang="en-US" sz="1600" spc="-1" strike="noStrike">
                <a:solidFill>
                  <a:srgbClr val="000000"/>
                </a:solidFill>
                <a:latin typeface="Arial"/>
              </a:endParaRPr>
            </a:p>
          </p:txBody>
        </p:sp>
        <p:sp>
          <p:nvSpPr>
            <p:cNvPr id="77" name="Text Box 23"/>
            <p:cNvSpPr/>
            <p:nvPr/>
          </p:nvSpPr>
          <p:spPr>
            <a:xfrm>
              <a:off x="2261520" y="5875200"/>
              <a:ext cx="2790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stage renal disease        (persistent failure &gt; 3 months)</a:t>
              </a:r>
              <a:endParaRPr b="0" lang="en-US" sz="1600" spc="-1" strike="noStrike">
                <a:solidFill>
                  <a:srgbClr val="000000"/>
                </a:solidFill>
                <a:latin typeface="Arial"/>
              </a:endParaRPr>
            </a:p>
          </p:txBody>
        </p:sp>
        <p:sp>
          <p:nvSpPr>
            <p:cNvPr id="78" name="Rectangle 24"/>
            <p:cNvSpPr/>
            <p:nvPr/>
          </p:nvSpPr>
          <p:spPr>
            <a:xfrm>
              <a:off x="1554840" y="6692760"/>
              <a:ext cx="3939120" cy="1652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25"/>
            <p:cNvSpPr/>
            <p:nvPr/>
          </p:nvSpPr>
          <p:spPr>
            <a:xfrm>
              <a:off x="1288080" y="2682720"/>
              <a:ext cx="230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Cl decrease by 50%</a:t>
              </a:r>
              <a:endParaRPr b="0" lang="en-US" sz="1600" spc="-1" strike="noStrike">
                <a:solidFill>
                  <a:srgbClr val="000000"/>
                </a:solidFill>
                <a:latin typeface="Arial"/>
              </a:endParaRPr>
            </a:p>
          </p:txBody>
        </p:sp>
        <p:sp>
          <p:nvSpPr>
            <p:cNvPr id="80" name="Text Box 26"/>
            <p:cNvSpPr/>
            <p:nvPr/>
          </p:nvSpPr>
          <p:spPr>
            <a:xfrm>
              <a:off x="1344600" y="3559320"/>
              <a:ext cx="2416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Cl decrease by 75% or eCCl &lt; 35ml/min/1.73 m</a:t>
              </a:r>
              <a:r>
                <a:rPr b="1" lang="en-US" sz="1600" spc="-1" strike="noStrike" baseline="30000">
                  <a:solidFill>
                    <a:srgbClr val="000000"/>
                  </a:solidFill>
                  <a:latin typeface="Arial"/>
                </a:rPr>
                <a:t>2</a:t>
              </a:r>
              <a:endParaRPr b="0" lang="en-US" sz="1600" spc="-1" strike="noStrike">
                <a:solidFill>
                  <a:srgbClr val="000000"/>
                </a:solidFill>
                <a:latin typeface="Arial"/>
              </a:endParaRPr>
            </a:p>
          </p:txBody>
        </p:sp>
      </p:grpSp>
      <p:sp>
        <p:nvSpPr>
          <p:cNvPr id="81" name="Text Box 27"/>
          <p:cNvSpPr/>
          <p:nvPr/>
        </p:nvSpPr>
        <p:spPr>
          <a:xfrm>
            <a:off x="0" y="166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ediatric-modified RIFLE (pRIFLE) criteria</a:t>
            </a:r>
            <a:endParaRPr b="0" lang="en-US" sz="3200" spc="-1" strike="noStrike">
              <a:solidFill>
                <a:srgbClr val="000000"/>
              </a:solidFill>
              <a:latin typeface="Arial"/>
            </a:endParaRPr>
          </a:p>
        </p:txBody>
      </p:sp>
      <p:sp>
        <p:nvSpPr>
          <p:cNvPr id="82" name="Line 28"/>
          <p:cNvSpPr/>
          <p:nvPr/>
        </p:nvSpPr>
        <p:spPr>
          <a:xfrm>
            <a:off x="6757920" y="1297080"/>
            <a:ext cx="0" cy="2282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29"/>
          <p:cNvSpPr/>
          <p:nvPr/>
        </p:nvSpPr>
        <p:spPr>
          <a:xfrm>
            <a:off x="5853240" y="3645000"/>
            <a:ext cx="20336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KI-earliest time point for provision of RRT</a:t>
            </a:r>
            <a:endParaRPr b="0" lang="en-US" sz="2400" spc="-1" strike="noStrike">
              <a:solidFill>
                <a:srgbClr val="000000"/>
              </a:solidFill>
              <a:latin typeface="Arial"/>
            </a:endParaRPr>
          </a:p>
        </p:txBody>
      </p:sp>
      <p:sp>
        <p:nvSpPr>
          <p:cNvPr id="84" name="Text Box 30"/>
          <p:cNvSpPr/>
          <p:nvPr/>
        </p:nvSpPr>
        <p:spPr>
          <a:xfrm>
            <a:off x="5934240" y="6489720"/>
            <a:ext cx="33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Tahoma"/>
              </a:rPr>
              <a:t>(Akcan-Arikan, Kidney Int 2007)</a:t>
            </a:r>
            <a:endParaRPr b="0" lang="en-US" sz="1800" spc="-1" strike="noStrike">
              <a:solidFill>
                <a:srgbClr val="000000"/>
              </a:solidFill>
              <a:latin typeface="Arial"/>
            </a:endParaRPr>
          </a:p>
        </p:txBody>
      </p:sp>
      <p:sp>
        <p:nvSpPr>
          <p:cNvPr id="85" name="Text Box 31"/>
          <p:cNvSpPr/>
          <p:nvPr/>
        </p:nvSpPr>
        <p:spPr>
          <a:xfrm>
            <a:off x="6913440" y="1481040"/>
            <a:ext cx="2160720" cy="1068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rection of pre-renal precipitating factors</a:t>
            </a:r>
            <a:endParaRPr b="0" lang="en-US" sz="2000" spc="-1" strike="noStrike">
              <a:solidFill>
                <a:srgbClr val="000000"/>
              </a:solidFill>
              <a:latin typeface="Arial"/>
            </a:endParaRPr>
          </a:p>
        </p:txBody>
      </p:sp>
      <p:sp>
        <p:nvSpPr>
          <p:cNvPr id="86" name="Rectangle 32"/>
          <p:cNvSpPr/>
          <p:nvPr/>
        </p:nvSpPr>
        <p:spPr>
          <a:xfrm>
            <a:off x="6954840" y="2535120"/>
            <a:ext cx="162576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rosemi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pam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84" name="PlaceHolder 2"/>
          <p:cNvSpPr>
            <a:spLocks noGrp="1"/>
          </p:cNvSpPr>
          <p:nvPr>
            <p:ph/>
          </p:nvPr>
        </p:nvSpPr>
        <p:spPr>
          <a:xfrm>
            <a:off x="457200" y="609120"/>
            <a:ext cx="8229600" cy="57913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a vào lâm sàng, có thể nói trẻ này có</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thận cấp trước thậ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ại tử ống thận cấp</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thận cấp sau thậ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a phân biệt được a, b trên lâm sàng</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ộng tác nào cần làm ngay</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ù dịch NaCl 0.9% 20ml/kg</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ặt thông tiểu theo dõi lượng nước tiểu</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cấy phâ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m các xét nghiệm sinh hóa để đánh giá độ nặng của mất nước và tìm nguyên nhân tiêu chảy</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óm xét nghiệm sinh hóa nào là cần thiế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P, ure, creatinine máu, ion đồ, protid máu, khí máu động mạch, ion đồ niệu, đường huyết</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 creatini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P, ure, creatinine, ion đồ máu, ion đồ niệ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ÌNH HUỐNG 2</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é trai 13 tháng nhập viện vì sốt 39ºC ngày thứ 2 và không đi tiểu 1 ngày. Khám: chạm thận T (+).  Các xét nghiệm sơ khởi tại phòng cấp cứu cho thấ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e = 1g/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ine = 30 mg/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a = 135 mmo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K = 5 mmo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P = 100 mg/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O3-= 18 mmo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ch cầu: 18 000/mm3, N = 8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TNT: nitrite (+), B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óm xét nghiệm nào cần thực hiện ngay tiếp theo</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êu âm bụng</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q phổ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ụp bàng quang ngược dòng</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ốc điều trị ngay khi có kết quả trên là</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ftriaxone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ftriaxone + Kayexalate+ NaHCO3 8.4%</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fotaxime + AMG</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fotaxime + AMG + Canciclorua 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ÌNH HUỐNG 3</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é gái 24 tháng bị tiêu phân đàm máu 2 ngày + sốt, ngày 3 bé tiểu ít nên nhập viện. Xét nghiệm sơ khởi cho thấ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 6g/dl, BC = 20.000/mm3, Tiểu cầu= 45.000/mm3, Ure= 1g/l, Creatinine= 48mg/l, Na+= 125, K+=6, Ca bình thườ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ước tiểu HC +++/ Pr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hẩn đoán nào phù hợp nhất</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ận cấp trước thận</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ội chứng ure huyết tán huyết</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u chảy cấp mất nước</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êm cầu thận cấp</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au 2 giờ, K+=8 mEq/l. Chọn giải pháp nào để xử trí</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iclorua 0,2 ml/kg TMC; Insuline; Glucose; Salbutamol; Kayexalat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ư trên + ECG</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yexalate + lọc máu.</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ọc má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ình huống 4</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ẻ gái 10 tuổi nhập viện vì phù, tiểu ít, </a:t>
            </a:r>
            <a:r>
              <a:rPr b="0" lang="en-US" sz="3200" spc="-1" strike="noStrike">
                <a:solidFill>
                  <a:srgbClr val="000000"/>
                </a:solidFill>
                <a:latin typeface="VNI-Times"/>
              </a:rPr>
              <a:t>nöôùc tieåu ñoû saäm ,</a:t>
            </a:r>
            <a:r>
              <a:rPr b="0" lang="en-US" sz="3200" spc="-1" strike="noStrike">
                <a:solidFill>
                  <a:srgbClr val="000000"/>
                </a:solidFill>
                <a:latin typeface="Arial"/>
              </a:rPr>
              <a:t> HA = 17/12 cm Hg sốt kéo dài &gt; 3 tuần, viêm khớp và nổi hồng ban cánh bướm ở mặ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ày 1: Ure= 1g/l, Creatinine= 33 m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ày 2: Ure= 2 g/l, Creatinine= 45 m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ày 3: ure = 3.5g/l; Creatinin= 67mg/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ên chẩn đoán có khả năng nhất lúc nhập viện với kết quả ure, creatin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êm thận lupu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ộ độc thuốc</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ội chứng thận hư không đơn thuần</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NI-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Vieâm caàu thaän caáp hauä nhieãm truø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Phương pháp điều trị ñaëc hieäu cần thiết cho trường hợp này là</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ọc máu</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ợi tiểu</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ticoides liều cao</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ạ sốt</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ong suy thận cấp thuốc hạ áp được chọn là</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óm thuốc ức chế men chuyển</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óm thuốc ức chế canci</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óm lợi tiểu quai</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 đúng</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c đú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8" name="Object 4"/>
          <p:cNvGraphicFramePr/>
          <p:nvPr/>
        </p:nvGraphicFramePr>
        <p:xfrm>
          <a:off x="1143000" y="990720"/>
          <a:ext cx="6953400" cy="3971880"/>
        </p:xfrm>
        <a:graphic>
          <a:graphicData uri="http://schemas.openxmlformats.org/presentationml/2006/ole">
            <p:oleObj r:id="rId1" spid="">
              <p:embed/>
              <p:pic>
                <p:nvPicPr>
                  <p:cNvPr id="89" name="Object 4" descr=""/>
                  <p:cNvPicPr/>
                  <p:nvPr/>
                </p:nvPicPr>
                <p:blipFill>
                  <a:blip r:embed="rId2"/>
                  <a:stretch/>
                </p:blipFill>
                <p:spPr>
                  <a:xfrm>
                    <a:off x="1143000" y="990720"/>
                    <a:ext cx="6953400" cy="3971880"/>
                  </a:xfrm>
                  <a:prstGeom prst="rect">
                    <a:avLst/>
                  </a:prstGeom>
                  <a:ln w="0">
                    <a:noFill/>
                  </a:ln>
                </p:spPr>
              </p:pic>
            </p:oleObj>
          </a:graphicData>
        </a:graphic>
      </p:graphicFrame>
      <p:sp>
        <p:nvSpPr>
          <p:cNvPr id="90" name="Rectangle 7"/>
          <p:cNvSpPr/>
          <p:nvPr/>
        </p:nvSpPr>
        <p:spPr>
          <a:xfrm>
            <a:off x="1828800" y="4800600"/>
            <a:ext cx="388620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CTr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Loirat (1983) 38%</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William ( 1998) 60%</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Flynn (2001) 37%</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enfield (2004) 60%</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2" descr="D:\QuocDung\Co_Thuy\Hinh_anh\Moi_down\Kidney2.jpg"/>
          <p:cNvPicPr/>
          <p:nvPr/>
        </p:nvPicPr>
        <p:blipFill>
          <a:blip r:embed="rId1"/>
          <a:stretch/>
        </p:blipFill>
        <p:spPr>
          <a:xfrm>
            <a:off x="762120" y="304920"/>
            <a:ext cx="7650000" cy="6221160"/>
          </a:xfrm>
          <a:prstGeom prst="rect">
            <a:avLst/>
          </a:prstGeom>
          <a:ln w="0">
            <a:noFill/>
          </a:ln>
          <a:effectLst>
            <a:outerShdw dist="153753" dir="2700000" blurRad="0" rotWithShape="0">
              <a:srgbClr val="000000">
                <a:alpha val="40000"/>
              </a:srgbClr>
            </a:outerShdw>
          </a:effectLst>
        </p:spPr>
      </p:pic>
      <p:sp>
        <p:nvSpPr>
          <p:cNvPr id="93" name="Rectangle 6"/>
          <p:cNvSpPr/>
          <p:nvPr/>
        </p:nvSpPr>
        <p:spPr>
          <a:xfrm>
            <a:off x="8381880" y="6477120"/>
            <a:ext cx="762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strVal val="#ppt_w+.3"/>
                                          </p:val>
                                        </p:tav>
                                        <p:tav tm="100000">
                                          <p:val>
                                            <p:strVal val="#ppt_w"/>
                                          </p:val>
                                        </p:tav>
                                      </p:tavLst>
                                    </p:anim>
                                    <p:anim calcmode="lin" valueType="num">
                                      <p:cBhvr additive="repl">
                                        <p:cTn id="8" dur="1000" fill="hold"/>
                                        <p:tgtEl>
                                          <p:spTgt spid="92"/>
                                        </p:tgtEl>
                                        <p:attrNameLst>
                                          <p:attrName>ppt_h</p:attrName>
                                        </p:attrNameLst>
                                      </p:cBhvr>
                                      <p:tavLst>
                                        <p:tav tm="0">
                                          <p:val>
                                            <p:strVal val="#ppt_h"/>
                                          </p:val>
                                        </p:tav>
                                        <p:tav tm="100000">
                                          <p:val>
                                            <p:strVal val="#ppt_h"/>
                                          </p:val>
                                        </p:tav>
                                      </p:tavLst>
                                    </p:anim>
                                    <p:animEffect filter="fade" transition="in">
                                      <p:cBhvr additive="repl">
                                        <p:cTn id="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38160">
            <a:solidFill>
              <a:srgbClr val="0000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FR=HP-(OP+IP)</a:t>
            </a:r>
            <a:endParaRPr b="0" lang="en-US"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P: 60 mmHg(áp lực TĐMV)</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 35 mmHg( áp lực keo)</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15 mmHg( áp lực trong nang Bowmann)</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Y THẬN CẤP TRƯỚC THẬ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R=HP-(OP+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FR=</a:t>
            </a:r>
            <a:r>
              <a:rPr b="0" lang="en-US" sz="3200" spc="-1" strike="noStrike">
                <a:solidFill>
                  <a:srgbClr val="ff0000"/>
                </a:solidFill>
                <a:latin typeface="Arial"/>
              </a:rPr>
              <a:t>HP</a:t>
            </a:r>
            <a:r>
              <a:rPr b="0" lang="en-US" sz="3200" spc="-1" strike="noStrike">
                <a:solidFill>
                  <a:srgbClr val="000000"/>
                </a:solidFill>
                <a:latin typeface="Arial"/>
              </a:rPr>
              <a:t>-(OP+IP)</a:t>
            </a:r>
            <a:endParaRPr b="0" lang="en-US" sz="3200" spc="-1" strike="noStrike">
              <a:solidFill>
                <a:srgbClr val="000000"/>
              </a:solidFill>
              <a:latin typeface="Arial"/>
            </a:endParaRPr>
          </a:p>
        </p:txBody>
      </p:sp>
      <p:sp>
        <p:nvSpPr>
          <p:cNvPr id="98" name="Text Box 4"/>
          <p:cNvSpPr/>
          <p:nvPr/>
        </p:nvSpPr>
        <p:spPr>
          <a:xfrm>
            <a:off x="23464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uanLA</cp:lastModifiedBy>
  <dcterms:modified xsi:type="dcterms:W3CDTF">2013-10-24T09:03:1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