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F19E5-E81E-4441-AEA9-DFF7CB0C2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E9F4D-0CE4-47F2-B729-85F32C745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1F998-7192-4745-8986-BCD337850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DDC73-614C-4926-AC98-6A9271BF4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1EC5D-07E5-4764-8868-3E86390848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B3DC4-F2C2-48FE-9B62-2204195DC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61F89-8E31-44F1-89B8-3C3DFAB4E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072EE-69A2-45E2-A521-8A32087D7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ACC56-155F-4E02-913B-4E9919784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5BBCC-7D2C-42D8-AA8B-D0A1E559C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765DB-992B-4814-9726-B050805AD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CD417-3262-440B-ACAC-E4D431A22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882E6-5316-4749-A349-0D89C3B31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275B4-CBD0-4EE0-9C98-64796A3AE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95776-CE85-4F66-9AEA-ED326818E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41255-BAFE-4BCB-80EC-A4A92EE04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3BB83-09D6-4B7B-89F4-283883F2E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D9BB36-6434-469F-A4E4-4266DF1C05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6223F-A652-4976-9341-C58AC17F3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DCFEE-C057-4D43-A740-373E139A39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397667-A47F-49F4-9B9C-064F958F4E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C6672A-3A8F-4A8B-A12F-600F2232CF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AEDF5-8D44-4407-9682-F80D884A3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DB9FE8-F6AA-4ADE-BAA7-2636ED769E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8B292E-04A8-4671-ACD1-D4B07FA9D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E2D82-175A-4732-A3F7-481A119C4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1AEB5-50CC-464A-8A79-5A1784EBF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BD1C96-6C5E-4150-B8A9-6180EB5DD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37D04C-3F5D-4E36-8C61-A6CE04A9AA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18DCE4-3B7C-454D-9ED8-E415C23232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CD4E65-A2A4-4EC2-9267-3EA6516776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42140A-5E0C-4D97-98D0-C7AB377136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59BE7-2A5C-491B-BF27-B5E4530D9E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6F7A4-BFFB-44D5-9CC3-A94F155F7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5E3DF-345E-49BD-A1C3-AC1B1374D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389A66-C3CE-40E0-AEA9-C07D5B9D0C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76A013-A0C2-4BDA-B8A0-0078E53D57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7662F-DC17-47E4-9EEF-2A57B69346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87C81-B8C2-4A41-AE61-163AF6C38B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5B6D8-6E7C-4CBE-B276-20CCF011AF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A76CB-4387-4E73-BEB9-474B37F90A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BFAB8C-5B54-4453-B6D7-B1DAA03EF0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A08F67-FA4E-47F7-A6A8-ACB2ED3353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5177A-D1D5-4A40-A49B-981CC1C30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38B27-4EAC-4CA2-9729-BABBE9E31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1FC3C-B016-4A0B-ACBA-87EFCA800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A7AFF-BC02-4BE7-B859-52748DFB9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FF3B8-DAE7-4E55-8340-8C021F8E4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FA17-FD7C-466B-B2F4-88E63A432B2A}"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8C16-A610-4F9B-8F8E-848016E3A2F6}"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2254-5B15-41B0-AE12-58F32EFB9C8B}"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C054-4E6A-4169-9F44-42003EF5BBE5}"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fr.wikipedia.org/wiki/Ph&#233;nicie" TargetMode="External"/><Relationship Id="rId2" Type="http://schemas.openxmlformats.org/officeDocument/2006/relationships/hyperlink" Target="http://fr.wikipedia.org/wiki/Empire_romain" TargetMode="External"/><Relationship Id="rId3" Type="http://schemas.openxmlformats.org/officeDocument/2006/relationships/hyperlink" Target="http://fr.wikipedia.org/wiki/Berytos" TargetMode="External"/><Relationship Id="rId4" Type="http://schemas.openxmlformats.org/officeDocument/2006/relationships/hyperlink" Target="http://fr.wikipedia.org/wiki/Tsunami" TargetMode="External"/><Relationship Id="rId5" Type="http://schemas.openxmlformats.org/officeDocument/2006/relationships/hyperlink" Target="http://fr.wikipedia.org/wiki/552" TargetMode="External"/><Relationship Id="rId6" Type="http://schemas.openxmlformats.org/officeDocument/2006/relationships/hyperlink" Target="http://fr.wikipedia.org/wiki/XIXe_si&#232;cle" TargetMode="External"/><Relationship Id="rId7" Type="http://schemas.openxmlformats.org/officeDocument/2006/relationships/hyperlink" Target="http://fr.wikipedia.org/wiki/XIXe_si&#232;cle" TargetMode="External"/><Relationship Id="rId8" Type="http://schemas.openxmlformats.org/officeDocument/2006/relationships/hyperlink" Target="http://fr.wikipedia.org/wiki/XIXe_si&#232;cle" TargetMode="External"/><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0" y="0"/>
            <a:ext cx="9144000" cy="6858000"/>
          </a:xfrm>
          <a:prstGeom prst="rect">
            <a:avLst/>
          </a:prstGeom>
          <a:ln w="0">
            <a:noFill/>
          </a:ln>
        </p:spPr>
      </p:pic>
      <p:pic>
        <p:nvPicPr>
          <p:cNvPr id="196" name="Titre 1" descr=""/>
          <p:cNvPicPr/>
          <p:nvPr/>
        </p:nvPicPr>
        <p:blipFill>
          <a:blip r:embed="rId2"/>
          <a:stretch/>
        </p:blipFill>
        <p:spPr>
          <a:xfrm>
            <a:off x="414360" y="1133640"/>
            <a:ext cx="8723160" cy="308448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428400"/>
            <a:ext cx="8229600" cy="589572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agglomération beyrouthine définie en analysant l’image satellitaire SPOT 5 acquise en 2003 s’étend sur une superficie de 468 km</a:t>
            </a:r>
            <a:r>
              <a:rPr b="0" lang="fr-FR" sz="1800" spc="-1" strike="noStrike" baseline="30000">
                <a:solidFill>
                  <a:srgbClr val="000000"/>
                </a:solidFill>
                <a:latin typeface="Constantia"/>
              </a:rPr>
              <a:t>2</a:t>
            </a:r>
            <a:r>
              <a:rPr b="0" lang="fr-FR" sz="1800" spc="-1" strike="noStrike">
                <a:solidFill>
                  <a:srgbClr val="000000"/>
                </a:solidFill>
                <a:latin typeface="Constantia"/>
              </a:rPr>
              <a:t> et elle regroupe 121 municipalités en comprenant plusieurs noyaux urbains secondaires, comme Jounié, Bikfaya, Beit-Méri-Broumana, Aley et Damour qui étaient des agglomérations autonomes en 1963 (</a:t>
            </a:r>
            <a:r>
              <a:rPr b="1" lang="fr-FR" sz="1800" spc="-1" strike="noStrike">
                <a:solidFill>
                  <a:srgbClr val="000000"/>
                </a:solidFill>
                <a:latin typeface="Constantia"/>
              </a:rPr>
              <a:t>fig. 2</a:t>
            </a:r>
            <a:r>
              <a:rPr b="0" lang="fr-FR" sz="1800" spc="-1" strike="noStrike">
                <a:solidFill>
                  <a:srgbClr val="000000"/>
                </a:solidFill>
                <a:latin typeface="Constantia"/>
              </a:rPr>
              <a:t>). Elle s’étend sur plus de 60 km du nord au sud, entre Halate et Jiyeh, soit près de 30% du littoral libanais et sur plus de 25 km vers l’intérieur jusqu’à Sofar (altitude 1 550 m). Elle dépasse largement la région métropolitaine de Beyrouth (RMB), définie dans le cadre du Schéma directeur de la RMB, en 1986, s’étendant sur une superficie de 232 km</a:t>
            </a:r>
            <a:r>
              <a:rPr b="0" lang="fr-FR" sz="1800" spc="-1" strike="noStrike" baseline="30000">
                <a:solidFill>
                  <a:srgbClr val="000000"/>
                </a:solidFill>
                <a:latin typeface="Constantia"/>
              </a:rPr>
              <a:t>2</a:t>
            </a:r>
            <a:r>
              <a:rPr b="0" lang="fr-FR" sz="1800" spc="-1" strike="noStrike">
                <a:solidFill>
                  <a:srgbClr val="000000"/>
                </a:solidFill>
                <a:latin typeface="Constantia"/>
              </a:rPr>
              <a:t> même si cette dernière ne prétendait pas couvrir l’ensemble de l’agglomération au sens morphologique (CDR, 1986).</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es caractéristiques du site s’imposent comme un facteur essentiel pour comprendre l’extension de l’urbanisation. La </a:t>
            </a:r>
            <a:r>
              <a:rPr b="1" lang="fr-FR" sz="1800" spc="-1" strike="noStrike">
                <a:solidFill>
                  <a:srgbClr val="000000"/>
                </a:solidFill>
                <a:latin typeface="Constantia"/>
              </a:rPr>
              <a:t>figure 3</a:t>
            </a:r>
            <a:r>
              <a:rPr b="0" lang="fr-FR" sz="1800" spc="-1" strike="noStrike">
                <a:solidFill>
                  <a:srgbClr val="000000"/>
                </a:solidFill>
                <a:latin typeface="Constantia"/>
              </a:rPr>
              <a:t> superposant l’urbanisation en 2003 avec les pentes et l’altitude montre que l’urbain occupe prioritairement la plaine littorale (à l’exception notable de la plaine de Damour), et se prolonge sur les crêtes, en délaissant les vallées. L’urbanisation évite toutefois les pentes les plus fortes, puisque seulement 2% du tissu urbain se développe sur les pentes supérieures à 60%, ce qui confirme des observations précédentes (Arnaud, 1997). La partie sud-est de l’agglomération se caractérise par l’importance des constructions sur les pentes moyennes, supérieures à 30%, ce qui ne va pas sans poser de nombreux problèmes écologiques, liés notamment à l’intensité du ruissellement sur les surfaces imperméabilisées et aux mouvements de masse (Bou Kheir </a:t>
            </a:r>
            <a:r>
              <a:rPr b="0" i="1" lang="fr-FR" sz="1800" spc="-1" strike="noStrike">
                <a:solidFill>
                  <a:srgbClr val="000000"/>
                </a:solidFill>
                <a:latin typeface="Constantia"/>
              </a:rPr>
              <a:t>et al</a:t>
            </a:r>
            <a:r>
              <a:rPr b="0" lang="fr-FR" sz="1800" spc="-1" strike="noStrike">
                <a:solidFill>
                  <a:srgbClr val="000000"/>
                </a:solidFill>
                <a:latin typeface="Constantia"/>
              </a:rPr>
              <a:t>., 2001).</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428400"/>
            <a:ext cx="8229600" cy="5895720"/>
          </a:xfrm>
          <a:prstGeom prst="rect">
            <a:avLst/>
          </a:prstGeom>
          <a:noFill/>
          <a:ln w="0">
            <a:noFill/>
          </a:ln>
        </p:spPr>
        <p:txBody>
          <a:bodyPr anchor="t">
            <a:normAutofit fontScale="96000"/>
          </a:bodyPr>
          <a:p>
            <a:pPr lvl="2" marL="877680" indent="-23616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6a3"/>
                </a:solidFill>
                <a:latin typeface="Constantia"/>
              </a:rPr>
              <a:t>Les étapes de la croissance urbaine</a:t>
            </a:r>
            <a:endParaRPr b="0" lang="en-US" sz="16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analyse diachronique de l’urbanisation en 1963, 1987, 1994, 1998 et 2003 a permis de calculer l’accroissement annuel moyen entre les différentes dates. Il s’établit à 2,58 km</a:t>
            </a:r>
            <a:r>
              <a:rPr b="0" lang="fr-FR" sz="2000" spc="-1" strike="noStrike" baseline="30000">
                <a:solidFill>
                  <a:srgbClr val="000000"/>
                </a:solidFill>
                <a:latin typeface="Constantia"/>
              </a:rPr>
              <a:t>2</a:t>
            </a:r>
            <a:r>
              <a:rPr b="0" lang="fr-FR" sz="2000" spc="-1" strike="noStrike">
                <a:solidFill>
                  <a:srgbClr val="000000"/>
                </a:solidFill>
                <a:latin typeface="Constantia"/>
              </a:rPr>
              <a:t>/an pour l’ensemble de la période (</a:t>
            </a:r>
            <a:r>
              <a:rPr b="1" lang="fr-FR" sz="2000" spc="-1" strike="noStrike">
                <a:solidFill>
                  <a:srgbClr val="000000"/>
                </a:solidFill>
                <a:latin typeface="Constantia"/>
              </a:rPr>
              <a:t>tabl. 1</a:t>
            </a:r>
            <a:r>
              <a:rPr b="0" lang="fr-FR" sz="2000" spc="-1" strike="noStrike">
                <a:solidFill>
                  <a:srgbClr val="000000"/>
                </a:solidFill>
                <a:latin typeface="Constantia"/>
              </a:rPr>
              <a:t>). Il est plus fort que celui calculé pour tout le Liban dans le projet SDATL (CDR, 2002), égal à 2,36 km</a:t>
            </a:r>
            <a:r>
              <a:rPr b="0" lang="fr-FR" sz="2000" spc="-1" strike="noStrike" baseline="30000">
                <a:solidFill>
                  <a:srgbClr val="000000"/>
                </a:solidFill>
                <a:latin typeface="Constantia"/>
              </a:rPr>
              <a:t>2</a:t>
            </a:r>
            <a:r>
              <a:rPr b="0" lang="fr-FR" sz="2000" spc="-1" strike="noStrike">
                <a:solidFill>
                  <a:srgbClr val="000000"/>
                </a:solidFill>
                <a:latin typeface="Constantia"/>
              </a:rPr>
              <a:t>/an. Cela indique que l’urbanisation beyrouthine est plus rapide, d’autant plus que le tissu urbain comporte davantage d’immeubles de taille élevée que le reste du pays: 26% des constructions ont plus de 4 étages, contre 15% seulement dans la région Centre (Mont-Liban et Beyrouth) (Bibas, Roelj, Huybrechts, 1998).</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allure générale de la courbe permet de distinguer les grandes scansions de l’accroissement urbain (</a:t>
            </a:r>
            <a:r>
              <a:rPr b="1" lang="fr-FR" sz="2000" spc="-1" strike="noStrike">
                <a:solidFill>
                  <a:srgbClr val="000000"/>
                </a:solidFill>
                <a:latin typeface="Constantia"/>
              </a:rPr>
              <a:t>fig. 4</a:t>
            </a:r>
            <a:r>
              <a:rPr b="0" lang="fr-FR" sz="2000" spc="-1" strike="noStrike">
                <a:solidFill>
                  <a:srgbClr val="000000"/>
                </a:solidFill>
                <a:latin typeface="Constantia"/>
              </a:rPr>
              <a:t>). Durant la première période, le mouvement d’expansion est très limité. Il s’infléchit à la fin de la guerre (1987-1994), ce qui traduit des déplacements résidentiels vers les zones éloignées de l’agglomération. Ceux-ci peuvent s’expliquer par une fuite loin des combats comme par la reprise économique suivant immédiatement l’arrêt des hostilités en 1990. Cette tendance se confirme pour la période 1994-1998, qui connaît une véritable explosion des surfaces urbanisées. Le net ralentissement du mouvement de construction pour la période 1998-2003 est le signe de la récession qui touche le pays dans la deuxième moitié des années 1990 (Huybrechts, Verdeil, 2000).</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Espace réservé du contenu 4" descr="http://mappemonde.mgm.fr/num7/articles/Beyrouth4.png"/>
          <p:cNvPicPr/>
          <p:nvPr/>
        </p:nvPicPr>
        <p:blipFill>
          <a:blip r:embed="rId1"/>
          <a:stretch/>
        </p:blipFill>
        <p:spPr>
          <a:xfrm>
            <a:off x="285840" y="928800"/>
            <a:ext cx="3929040" cy="4714920"/>
          </a:xfrm>
          <a:prstGeom prst="rect">
            <a:avLst/>
          </a:prstGeom>
          <a:ln w="0">
            <a:noFill/>
          </a:ln>
        </p:spPr>
      </p:pic>
      <p:pic>
        <p:nvPicPr>
          <p:cNvPr id="216" name="Image 5" descr="http://mappemonde.mgm.fr/num7/articles/Beyrouth_T1.png"/>
          <p:cNvPicPr/>
          <p:nvPr/>
        </p:nvPicPr>
        <p:blipFill>
          <a:blip r:embed="rId2"/>
          <a:stretch/>
        </p:blipFill>
        <p:spPr>
          <a:xfrm>
            <a:off x="4286160" y="928800"/>
            <a:ext cx="4572000" cy="4857480"/>
          </a:xfrm>
          <a:prstGeom prst="rect">
            <a:avLst/>
          </a:prstGeom>
          <a:ln w="0">
            <a:noFill/>
          </a:ln>
        </p:spPr>
      </p:pic>
      <p:sp>
        <p:nvSpPr>
          <p:cNvPr id="217" name="Rectangle 7"/>
          <p:cNvSpPr/>
          <p:nvPr/>
        </p:nvSpPr>
        <p:spPr>
          <a:xfrm>
            <a:off x="0" y="5786280"/>
            <a:ext cx="107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fig. 4</a:t>
            </a:r>
            <a:endParaRPr b="0" lang="en-US" sz="2000" spc="-1" strike="noStrike">
              <a:solidFill>
                <a:srgbClr val="000000"/>
              </a:solidFill>
              <a:latin typeface="Arial"/>
            </a:endParaRPr>
          </a:p>
        </p:txBody>
      </p:sp>
      <p:sp>
        <p:nvSpPr>
          <p:cNvPr id="218" name="Rectangle 8"/>
          <p:cNvSpPr/>
          <p:nvPr/>
        </p:nvSpPr>
        <p:spPr>
          <a:xfrm>
            <a:off x="785880" y="5857920"/>
            <a:ext cx="337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rPr>
              <a:t>Croissance urbaine entre 1963 et 2003</a:t>
            </a:r>
            <a:endParaRPr b="0" lang="en-US" sz="1400" spc="-1" strike="noStrike">
              <a:solidFill>
                <a:srgbClr val="000000"/>
              </a:solidFill>
              <a:latin typeface="Arial"/>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285840"/>
            <a:ext cx="8229600" cy="6038640"/>
          </a:xfrm>
          <a:prstGeom prst="rect">
            <a:avLst/>
          </a:prstGeom>
          <a:noFill/>
          <a:ln w="0">
            <a:noFill/>
          </a:ln>
        </p:spPr>
        <p:txBody>
          <a:bodyPr anchor="t">
            <a:normAutofit fontScale="94000"/>
          </a:bodyPr>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a croissance urbaine dans l’agglomération beyrouthine a été aussi calculée par période pour les parties des </a:t>
            </a:r>
            <a:r>
              <a:rPr b="0" i="1" lang="fr-FR" sz="2200" spc="-1" strike="noStrike">
                <a:solidFill>
                  <a:srgbClr val="000000"/>
                </a:solidFill>
                <a:latin typeface="Constantia"/>
              </a:rPr>
              <a:t>cazas</a:t>
            </a:r>
            <a:r>
              <a:rPr b="0" lang="fr-FR" sz="2200" spc="-1" strike="noStrike">
                <a:solidFill>
                  <a:srgbClr val="000000"/>
                </a:solidFill>
                <a:latin typeface="Constantia"/>
              </a:rPr>
              <a:t> du Mont-Liban incluses dans l’agglomération (</a:t>
            </a:r>
            <a:r>
              <a:rPr b="1" lang="fr-FR" sz="2200" spc="-1" strike="noStrike">
                <a:solidFill>
                  <a:srgbClr val="000000"/>
                </a:solidFill>
                <a:latin typeface="Constantia"/>
              </a:rPr>
              <a:t>tabl. 2, fig. 4 et 5</a:t>
            </a:r>
            <a:r>
              <a:rPr b="0" lang="fr-FR" sz="2200" spc="-1" strike="noStrike">
                <a:solidFill>
                  <a:srgbClr val="000000"/>
                </a:solidFill>
                <a:latin typeface="Constantia"/>
              </a:rPr>
              <a:t>; les </a:t>
            </a:r>
            <a:r>
              <a:rPr b="0" i="1" lang="fr-FR" sz="2200" spc="-1" strike="noStrike">
                <a:solidFill>
                  <a:srgbClr val="000000"/>
                </a:solidFill>
                <a:latin typeface="Constantia"/>
              </a:rPr>
              <a:t>cazas </a:t>
            </a:r>
            <a:r>
              <a:rPr b="0" lang="fr-FR" sz="2200" spc="-1" strike="noStrike">
                <a:solidFill>
                  <a:srgbClr val="000000"/>
                </a:solidFill>
                <a:latin typeface="Constantia"/>
              </a:rPr>
              <a:t>sont des subdivisions administratives correspondant approximativement à des cantons). Globalement, les </a:t>
            </a:r>
            <a:r>
              <a:rPr b="0" i="1" lang="fr-FR" sz="2200" spc="-1" strike="noStrike">
                <a:solidFill>
                  <a:srgbClr val="000000"/>
                </a:solidFill>
                <a:latin typeface="Constantia"/>
              </a:rPr>
              <a:t>cazas</a:t>
            </a:r>
            <a:r>
              <a:rPr b="0" lang="fr-FR" sz="2200" spc="-1" strike="noStrike">
                <a:solidFill>
                  <a:srgbClr val="000000"/>
                </a:solidFill>
                <a:latin typeface="Constantia"/>
              </a:rPr>
              <a:t> de Aley, Baabda et El-Metn, limitrophes de la ville de Beyrouth, sont les plus touchés par l’urbanisation.</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Durant la période 1963-1987, la croissance est partout très limitée, voire nulle. Hormis Beyrouth, toutes les régions connaissent dès 1987 une croissance, plus particulièrement sensible dans les zones chrétiennes périphériques de Jbeil et du Metn. La poussée de l’urbanisation est générale entre 1994 et 1998, sauf dans la capitale. Elle atteint 9,4% par an pour l’ensemble de l’agglomération, et culmine à 21% par an pour Jbeil. Plus généralement, ce sont les zones périphériques qui connaissent l’accroissement le plus marqué. À partir de la récession de 1998, on assiste à un effondrement des taux de croissance. Ils ne demeurent supérieurs à 2% que dans le Chouf et autour de Jbeil, et sont ailleurs inférieurs à 1% (</a:t>
            </a:r>
            <a:r>
              <a:rPr b="1" lang="fr-FR" sz="2200" spc="-1" strike="noStrike">
                <a:solidFill>
                  <a:srgbClr val="000000"/>
                </a:solidFill>
                <a:latin typeface="Constantia"/>
              </a:rPr>
              <a:t>fig. 5</a:t>
            </a:r>
            <a:r>
              <a:rPr b="0" lang="fr-FR" sz="2200" spc="-1" strike="noStrike">
                <a:solidFill>
                  <a:srgbClr val="000000"/>
                </a:solidFill>
                <a:latin typeface="Constantia"/>
              </a:rPr>
              <a:t>).</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Espace réservé du contenu 3" descr="http://mappemonde.mgm.fr/num7/articles/Beyrouth5.png"/>
          <p:cNvPicPr/>
          <p:nvPr/>
        </p:nvPicPr>
        <p:blipFill>
          <a:blip r:embed="rId1"/>
          <a:stretch/>
        </p:blipFill>
        <p:spPr>
          <a:xfrm>
            <a:off x="428760" y="571680"/>
            <a:ext cx="4143240" cy="5286240"/>
          </a:xfrm>
          <a:prstGeom prst="rect">
            <a:avLst/>
          </a:prstGeom>
          <a:ln w="0">
            <a:noFill/>
          </a:ln>
        </p:spPr>
      </p:pic>
      <p:sp>
        <p:nvSpPr>
          <p:cNvPr id="221" name="Rectangle 4"/>
          <p:cNvSpPr/>
          <p:nvPr/>
        </p:nvSpPr>
        <p:spPr>
          <a:xfrm>
            <a:off x="214200" y="600084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rPr>
              <a:t>Croissance urbaine par période pour chaque </a:t>
            </a:r>
            <a:r>
              <a:rPr b="1" i="1" lang="fr-FR" sz="1400" spc="-1" strike="noStrike">
                <a:solidFill>
                  <a:srgbClr val="000000"/>
                </a:solidFill>
                <a:latin typeface="Constantia"/>
              </a:rPr>
              <a:t>caza</a:t>
            </a:r>
            <a:endParaRPr b="0" lang="en-US" sz="1400" spc="-1" strike="noStrike">
              <a:solidFill>
                <a:srgbClr val="000000"/>
              </a:solidFill>
              <a:latin typeface="Arial"/>
            </a:endParaRPr>
          </a:p>
        </p:txBody>
      </p:sp>
      <p:pic>
        <p:nvPicPr>
          <p:cNvPr id="222" name="Image 6" descr="http://mappemonde.mgm.fr/num7/articles/Beyrouth_T2.png"/>
          <p:cNvPicPr/>
          <p:nvPr/>
        </p:nvPicPr>
        <p:blipFill>
          <a:blip r:embed="rId2"/>
          <a:stretch/>
        </p:blipFill>
        <p:spPr>
          <a:xfrm>
            <a:off x="4643280" y="642960"/>
            <a:ext cx="4286520" cy="5429160"/>
          </a:xfrm>
          <a:prstGeom prst="rect">
            <a:avLst/>
          </a:prstGeom>
          <a:ln w="0">
            <a:noFill/>
          </a:ln>
        </p:spPr>
      </p:pic>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357120"/>
            <a:ext cx="8229600" cy="5967360"/>
          </a:xfrm>
          <a:prstGeom prst="rect">
            <a:avLst/>
          </a:prstGeom>
          <a:noFill/>
          <a:ln w="0">
            <a:noFill/>
          </a:ln>
        </p:spPr>
        <p:txBody>
          <a:bodyPr anchor="t">
            <a:normAutofit fontScale="94000"/>
          </a:bodyPr>
          <a:p>
            <a:pPr marL="256320" indent="-2563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6a3"/>
                </a:solidFill>
                <a:latin typeface="Constantia"/>
              </a:rPr>
              <a:t>Guerre, reconstruction et croissance urbain</a:t>
            </a:r>
            <a:endParaRPr b="0" lang="en-US" sz="1600" spc="-1" strike="noStrike">
              <a:solidFill>
                <a:srgbClr val="000000"/>
              </a:solidFill>
              <a:latin typeface="Constantia"/>
            </a:endParaRPr>
          </a:p>
          <a:p>
            <a:pPr marL="256320" indent="-256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      </a:t>
            </a:r>
            <a:r>
              <a:rPr b="0" lang="fr-FR" sz="1600" spc="-1" strike="noStrike">
                <a:solidFill>
                  <a:srgbClr val="000000"/>
                </a:solidFill>
                <a:latin typeface="Constantia"/>
              </a:rPr>
              <a:t>La chronologie politique est un premier élément d’explication des différences de croissance dans l’espace et dans le temps. On ne saurait analyser l’urbanisation du Liban sans tenir compte de très forts mouvements de population pendant la guerre (1975-1990) et après (Davie, 1991). En effet, la guerre a fait fuir plus du quart de la population du pays et induit un déplacement forcé et définitif d’un autre quart de la population. Beyrouth a été le principal, mais pas le seul, lieu d’accueil des déplacés. En même temps, la capitale a été le centre de combats qui ont entraîné des déplacements de population. À la recherche de sécurité par les habitants, se sont ajoutées des expulsions organisées par certaines milices dans une logique de contrôle territorial.</a:t>
            </a:r>
            <a:endParaRPr b="0" lang="en-US" sz="1600" spc="-1" strike="noStrike">
              <a:solidFill>
                <a:srgbClr val="000000"/>
              </a:solidFill>
              <a:latin typeface="Constantia"/>
            </a:endParaRPr>
          </a:p>
          <a:p>
            <a:pPr marL="256320" indent="-2563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a densification de l’agglomération, en particulier dans la banlieue sud de Beyrouth, peut s’expliquer par l’arrivée massive de réfugiés et la construction de quartiers irréguliers, dans les dix premières années de la guerre. Mais l’extension des périphéries, notamment les grands lotissements dans le «réduit chrétien», au nord-est de la capitale, ne date véritablement que de la dernière période de la guerre, lorsque la division confessionnelle de l’agglomération est apparue comme irréversible. À l’occupation provisoire de maisons familiales ou de «chalets» dans les centres balnéaires, afin de fuir les zones de combats, a succédé l’urbanisation de nouveaux espaces (Glazse, 2003).</a:t>
            </a:r>
            <a:endParaRPr b="0" lang="en-US" sz="1600" spc="-1" strike="noStrike">
              <a:solidFill>
                <a:srgbClr val="000000"/>
              </a:solidFill>
              <a:latin typeface="Constantia"/>
            </a:endParaRPr>
          </a:p>
          <a:p>
            <a:pPr marL="256320" indent="-2563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a période dite de reconstruction correspond principalement à un mouvement d’extension de l’agglomération. Les projets de reconstruction à proprement parler, situés essentiellement au cœur des zones déjà urbanisées, ne sont, par définition, pas mesurés dans cette étude sauf les remblais (cf. </a:t>
            </a:r>
            <a:r>
              <a:rPr b="1" lang="fr-FR" sz="1600" spc="-1" strike="noStrike">
                <a:solidFill>
                  <a:srgbClr val="000000"/>
                </a:solidFill>
                <a:latin typeface="Constantia"/>
              </a:rPr>
              <a:t>fig. 2</a:t>
            </a:r>
            <a:r>
              <a:rPr b="0" lang="fr-FR" sz="1600" spc="-1" strike="noStrike">
                <a:solidFill>
                  <a:srgbClr val="000000"/>
                </a:solidFill>
                <a:latin typeface="Constantia"/>
              </a:rPr>
              <a:t>). La caractéristique principale de cette période est que l’extension concerne l’ensemble de l’agglomération et pas seulement le nord. Elle peut aussi être mise en rapport avec le développement d’infrastructures routières de meilleure qualité dans la zone sud. En ce sens, cette période est aussi celle du retour de l’État qui reprend son rôle dans l’orientation de l’urbanisation, même si ses principaux acteurs sont des propriétaires et promoteurs privés, qui alimentent une bulle spéculative dont l’éclatement après 1995 marque le coup d’arrêt de l’extension.</a:t>
            </a:r>
            <a:endParaRPr b="0" lang="en-US" sz="1600" spc="-1" strike="noStrike">
              <a:solidFill>
                <a:srgbClr val="000000"/>
              </a:solidFill>
              <a:latin typeface="Constantia"/>
            </a:endParaRPr>
          </a:p>
        </p:txBody>
      </p:sp>
    </p:spTree>
  </p:cSld>
  <p:transition>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Cas d’étude</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e9632"/>
                </a:solidFill>
                <a:latin typeface="Constantia"/>
              </a:rPr>
              <a:t>Historique :</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Petit port </a:t>
            </a:r>
            <a:r>
              <a:rPr b="0" lang="fr-FR" sz="2400" spc="-1" strike="noStrike" u="sng">
                <a:solidFill>
                  <a:srgbClr val="e2d700"/>
                </a:solidFill>
                <a:uFillTx/>
                <a:latin typeface="Constantia"/>
                <a:hlinkClick r:id="rId1"/>
              </a:rPr>
              <a:t>phénicien</a:t>
            </a:r>
            <a:r>
              <a:rPr b="0" lang="fr-FR" sz="2400" spc="-1" strike="noStrike">
                <a:solidFill>
                  <a:srgbClr val="000000"/>
                </a:solidFill>
                <a:latin typeface="Constantia"/>
              </a:rPr>
              <a:t>, puis cité moyennement importante de l'</a:t>
            </a:r>
            <a:r>
              <a:rPr b="0" lang="fr-FR" sz="2400" spc="-1" strike="noStrike" u="sng">
                <a:solidFill>
                  <a:srgbClr val="e2d700"/>
                </a:solidFill>
                <a:uFillTx/>
                <a:latin typeface="Constantia"/>
                <a:hlinkClick r:id="rId2"/>
              </a:rPr>
              <a:t>Empire romain</a:t>
            </a:r>
            <a:r>
              <a:rPr b="0" lang="fr-FR" sz="2400" spc="-1" strike="noStrike">
                <a:solidFill>
                  <a:srgbClr val="000000"/>
                </a:solidFill>
                <a:latin typeface="Constantia"/>
              </a:rPr>
              <a:t>, renommée pour son école de droit, </a:t>
            </a:r>
            <a:r>
              <a:rPr b="0" lang="fr-FR" sz="2400" spc="-1" strike="noStrike" u="sng">
                <a:solidFill>
                  <a:srgbClr val="e2d700"/>
                </a:solidFill>
                <a:uFillTx/>
                <a:latin typeface="Constantia"/>
                <a:hlinkClick r:id="rId3"/>
              </a:rPr>
              <a:t>Béryte</a:t>
            </a:r>
            <a:r>
              <a:rPr b="0" lang="fr-FR" sz="2400" spc="-1" strike="noStrike">
                <a:solidFill>
                  <a:srgbClr val="000000"/>
                </a:solidFill>
                <a:latin typeface="Constantia"/>
              </a:rPr>
              <a:t> est détruite par un violent séisme accompagné d'un </a:t>
            </a:r>
            <a:r>
              <a:rPr b="0" lang="fr-FR" sz="2400" spc="-1" strike="noStrike" u="sng">
                <a:solidFill>
                  <a:srgbClr val="e2d700"/>
                </a:solidFill>
                <a:uFillTx/>
                <a:latin typeface="Constantia"/>
                <a:hlinkClick r:id="rId4"/>
              </a:rPr>
              <a:t>tsunami</a:t>
            </a:r>
            <a:r>
              <a:rPr b="0" lang="fr-FR" sz="2400" spc="-1" strike="noStrike">
                <a:solidFill>
                  <a:srgbClr val="000000"/>
                </a:solidFill>
                <a:latin typeface="Constantia"/>
              </a:rPr>
              <a:t> en </a:t>
            </a:r>
            <a:r>
              <a:rPr b="0" lang="fr-FR" sz="2400" spc="-1" strike="noStrike" u="sng">
                <a:solidFill>
                  <a:srgbClr val="e2d700"/>
                </a:solidFill>
                <a:uFillTx/>
                <a:latin typeface="Constantia"/>
                <a:hlinkClick r:id="rId5"/>
              </a:rPr>
              <a:t>552</a:t>
            </a:r>
            <a:r>
              <a:rPr b="0" lang="fr-FR" sz="2400" spc="-1" strike="noStrike">
                <a:solidFill>
                  <a:srgbClr val="000000"/>
                </a:solidFill>
                <a:latin typeface="Constantia"/>
              </a:rPr>
              <a:t>. Elle ne retrouvera sa place qu'à l'époque moderne. Elle redevient une ville à proprement parler au milieu du </a:t>
            </a:r>
            <a:r>
              <a:rPr b="0" lang="fr-FR" sz="2400" spc="-1" strike="noStrike" u="sng">
                <a:solidFill>
                  <a:srgbClr val="e2d700"/>
                </a:solidFill>
                <a:uFillTx/>
                <a:latin typeface="Constantia"/>
                <a:hlinkClick r:id="rId6"/>
              </a:rPr>
              <a:t>XIX</a:t>
            </a:r>
            <a:r>
              <a:rPr b="0" lang="fr-FR" sz="2400" spc="-1" strike="noStrike" u="sng" baseline="30000">
                <a:solidFill>
                  <a:srgbClr val="e2d700"/>
                </a:solidFill>
                <a:uFillTx/>
                <a:latin typeface="Constantia"/>
                <a:hlinkClick r:id="rId7"/>
              </a:rPr>
              <a:t>e</a:t>
            </a:r>
            <a:r>
              <a:rPr b="0" lang="fr-FR" sz="2400" spc="-1" strike="noStrike" u="sng" baseline="30000">
                <a:solidFill>
                  <a:srgbClr val="e2d700"/>
                </a:solidFill>
                <a:uFillTx/>
                <a:latin typeface="Constantia"/>
                <a:hlinkClick r:id="rId8"/>
              </a:rPr>
              <a:t> siècle</a:t>
            </a:r>
            <a:r>
              <a:rPr b="0" lang="fr-FR" sz="2400" spc="-1" strike="noStrike">
                <a:solidFill>
                  <a:srgbClr val="000000"/>
                </a:solidFill>
                <a:latin typeface="Constantia"/>
              </a:rPr>
              <a:t> avec notamment l'afflux de réfugiés fuyant les affrontements de 1860 dans la montagne entre druzes et maronites.</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sor de la ville doit beaucoup à son port, le premier de la région à avoir été doté d'une Quarantaine au XIX</a:t>
            </a:r>
            <a:r>
              <a:rPr b="0" lang="fr-FR" sz="2400" spc="-1" strike="noStrike" baseline="30000">
                <a:solidFill>
                  <a:srgbClr val="000000"/>
                </a:solidFill>
                <a:latin typeface="Constantia"/>
              </a:rPr>
              <a:t>e</a:t>
            </a:r>
            <a:r>
              <a:rPr b="0" lang="fr-FR" sz="2400" spc="-1" strike="noStrike">
                <a:solidFill>
                  <a:srgbClr val="000000"/>
                </a:solidFill>
                <a:latin typeface="Constantia"/>
              </a:rPr>
              <a:t> siècle, et au choix de Beyrouth par les puissances occidentales qui y ont implanté leurs missions religieuses, leurs universités et leurs comptoirs commerciaux</a:t>
            </a:r>
            <a:endParaRPr b="0" lang="en-US" sz="2400" spc="-1" strike="noStrike">
              <a:solidFill>
                <a:srgbClr val="000000"/>
              </a:solidFill>
              <a:latin typeface="Constantia"/>
            </a:endParaRPr>
          </a:p>
        </p:txBody>
      </p:sp>
    </p:spTree>
  </p:cSld>
  <p:transition>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571680"/>
            <a:ext cx="8229600" cy="5736960"/>
          </a:xfrm>
          <a:prstGeom prst="rect">
            <a:avLst/>
          </a:prstGeom>
          <a:noFill/>
          <a:ln w="0">
            <a:noFill/>
          </a:ln>
        </p:spPr>
        <p:txBody>
          <a:bodyPr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Beyrouth a été au cœur d'une intense </a:t>
            </a:r>
            <a:r>
              <a:rPr b="0" lang="fr-FR" sz="2400" spc="-1" strike="noStrike" u="sng">
                <a:solidFill>
                  <a:srgbClr val="000000"/>
                </a:solidFill>
                <a:uFillTx/>
                <a:latin typeface="Constantia"/>
              </a:rPr>
              <a:t>guerre civile</a:t>
            </a:r>
            <a:r>
              <a:rPr b="0" lang="fr-FR" sz="2400" spc="-1" strike="noStrike">
                <a:solidFill>
                  <a:srgbClr val="000000"/>
                </a:solidFill>
                <a:latin typeface="Constantia"/>
              </a:rPr>
              <a:t> de </a:t>
            </a:r>
            <a:r>
              <a:rPr b="0" lang="fr-FR" sz="2400" spc="-1" strike="noStrike" u="sng">
                <a:solidFill>
                  <a:srgbClr val="000000"/>
                </a:solidFill>
                <a:uFillTx/>
                <a:latin typeface="Constantia"/>
              </a:rPr>
              <a:t>1975</a:t>
            </a:r>
            <a:r>
              <a:rPr b="0" lang="fr-FR" sz="2400" spc="-1" strike="noStrike">
                <a:solidFill>
                  <a:srgbClr val="000000"/>
                </a:solidFill>
                <a:latin typeface="Constantia"/>
              </a:rPr>
              <a:t> à </a:t>
            </a:r>
            <a:r>
              <a:rPr b="0" lang="fr-FR" sz="2400" spc="-1" strike="noStrike" u="sng">
                <a:solidFill>
                  <a:srgbClr val="000000"/>
                </a:solidFill>
                <a:uFillTx/>
                <a:latin typeface="Constantia"/>
              </a:rPr>
              <a:t>1990</a:t>
            </a:r>
            <a:r>
              <a:rPr b="0" lang="fr-FR" sz="2400" spc="-1" strike="noStrike">
                <a:solidFill>
                  <a:srgbClr val="000000"/>
                </a:solidFill>
                <a:latin typeface="Constantia"/>
              </a:rPr>
              <a:t>, qui a entraîné la division de la ville en deux : une partie Est, majoritairement habitée par les chrétiens et une partie Ouest, majoritairement habitée par les musulmans. Durant l'été 1982, elle a été soumise par l'armée israélienne à un siège et à un blocus hermétique. Sa reconstruction depuis les </a:t>
            </a:r>
            <a:r>
              <a:rPr b="0" lang="fr-FR" sz="2400" spc="-1" strike="noStrike" u="sng">
                <a:solidFill>
                  <a:srgbClr val="000000"/>
                </a:solidFill>
                <a:uFillTx/>
                <a:latin typeface="Constantia"/>
              </a:rPr>
              <a:t>années 1990</a:t>
            </a:r>
            <a:r>
              <a:rPr b="0" lang="fr-FR" sz="2400" spc="-1" strike="noStrike">
                <a:solidFill>
                  <a:srgbClr val="000000"/>
                </a:solidFill>
                <a:latin typeface="Constantia"/>
              </a:rPr>
              <a:t> a fait d'elle un énorme chantier. Beyrouth, qui a survécu à quinze années de conflits, a été surnommée « la ville qui refuse de disparaître ».</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En </a:t>
            </a:r>
            <a:r>
              <a:rPr b="0" lang="fr-FR" sz="2400" spc="-1" strike="noStrike" u="sng">
                <a:solidFill>
                  <a:srgbClr val="000000"/>
                </a:solidFill>
                <a:uFillTx/>
                <a:latin typeface="Constantia"/>
              </a:rPr>
              <a:t>juillet 2006</a:t>
            </a:r>
            <a:r>
              <a:rPr b="0" lang="fr-FR" sz="2400" spc="-1" strike="noStrike">
                <a:solidFill>
                  <a:srgbClr val="000000"/>
                </a:solidFill>
                <a:latin typeface="Constantia"/>
              </a:rPr>
              <a:t>, la banlieue et ses alentours ont été bombardés par l'aviation et la marine israélienne dans le cadre d'une opération de l'</a:t>
            </a:r>
            <a:r>
              <a:rPr b="0" lang="fr-FR" sz="2400" spc="-1" strike="noStrike" u="sng">
                <a:solidFill>
                  <a:srgbClr val="000000"/>
                </a:solidFill>
                <a:uFillTx/>
                <a:latin typeface="Constantia"/>
              </a:rPr>
              <a:t>armée israélienne</a:t>
            </a:r>
            <a:r>
              <a:rPr b="0" lang="fr-FR" sz="2400" spc="-1" strike="noStrike">
                <a:solidFill>
                  <a:srgbClr val="000000"/>
                </a:solidFill>
                <a:latin typeface="Constantia"/>
              </a:rPr>
              <a:t>. De nombreux quartiers, infrastructures et voies d'accès ont été détruits. Depuis, leurs reconstructions et leur modernisation vont bon train. L'immense chantier du centre ville est entré dans sa phase d'activité maximale.</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571680"/>
            <a:ext cx="8229600" cy="573696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e9632"/>
                </a:solidFill>
                <a:latin typeface="Constantia"/>
              </a:rPr>
              <a:t>Situation :</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Beyrouth se situe sur un cap rocheux qui constitue, à égale distance des frontières nord et sud du Liban, un élargissement de la plaine côtière du pays. La ville comprend deux collines : Achrafiyeh à l'est et Ras-Beyrouth à l'ouest et entre les deux, l'avenue venant de l'aéroport plonge vers le centre-ville, quartier le plus ancien.</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 sud de la ville (Bir Hassan, </a:t>
            </a:r>
            <a:r>
              <a:rPr b="0" lang="fr-FR" sz="2400" spc="-1" strike="noStrike" u="sng">
                <a:solidFill>
                  <a:srgbClr val="000000"/>
                </a:solidFill>
                <a:uFillTx/>
                <a:latin typeface="Constantia"/>
              </a:rPr>
              <a:t>bois de pain</a:t>
            </a:r>
            <a:r>
              <a:rPr b="0" lang="fr-FR" sz="2400" spc="-1" strike="noStrike">
                <a:solidFill>
                  <a:srgbClr val="000000"/>
                </a:solidFill>
                <a:latin typeface="Constantia"/>
              </a:rPr>
              <a:t>, Badaro...) est sablonneux. Beyrouth est tangeanté sur son flanc est par le fleuve de Beyrouth dont les sources se situent dans le Haut-Metn. Au nord, les collines plongent de manière abrupte dans la mer et les profondeurs marines sont importantes (ce qui avantage le port). À l'ouest, le bord de mer est marqué par quelques falaises (Raouché, Grotte aux Pigeons), puis par une plage sableuse (Ramlet el-Baida).</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571680"/>
            <a:ext cx="8229600" cy="5736960"/>
          </a:xfrm>
          <a:prstGeom prst="rect">
            <a:avLst/>
          </a:prstGeom>
          <a:noFill/>
          <a:ln w="0">
            <a:noFill/>
          </a:ln>
        </p:spPr>
        <p:txBody>
          <a:bodyPr anchor="t">
            <a:normAutofit fontScale="92000"/>
          </a:bodyPr>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e9632"/>
                </a:solidFill>
                <a:latin typeface="Constantia"/>
              </a:rPr>
              <a:t>-Transports </a:t>
            </a:r>
            <a:r>
              <a:rPr b="1" lang="fr-FR" sz="2600" spc="-1" strike="noStrike">
                <a:solidFill>
                  <a:srgbClr val="000000"/>
                </a:solidFill>
                <a:latin typeface="Constantia"/>
              </a:rPr>
              <a:t>:</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Beyrouth est desservie par l'aéroport international Rafik Hariri au sud de la ville. L'accès s'y fait par taxi.</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Beyrouth est également reliée à plusieurs villes grâce aux TTS BUSES : Beyrouth-Amman et Amman-Beyrouth. D'autres compagnies de bus relient Beyrouth à d'autres villes du pays : Zahlé, Tripoli, Saida</a:t>
            </a:r>
            <a:r>
              <a:rPr b="0" lang="fr-FR" sz="2600" spc="-1" strike="noStrike" baseline="30000">
                <a:solidFill>
                  <a:srgbClr val="000000"/>
                </a:solidFill>
                <a:latin typeface="Constantia"/>
              </a:rPr>
              <a:t> </a:t>
            </a:r>
            <a:r>
              <a:rPr b="0" lang="fr-FR" sz="2600" spc="-1" strike="noStrike">
                <a:solidFill>
                  <a:srgbClr val="000000"/>
                </a:solidFill>
                <a:latin typeface="Constantia"/>
              </a:rPr>
              <a:t>.</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agglomération est traversée par onze lignes de bus. Le tarif du ticket est d'environ 1 500 Lbp, soit 0,75 euros ou 1 USD. Les lignes couvrent 186 km de l'agglomération et vont même jusqu'à Aley, Jbeil, Broummana et Khaldé. Elles fonctionnent de 6h à 18h et certaines jusqu'à 22h .</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Plan de travaille</a:t>
            </a:r>
            <a:endParaRPr b="0" lang="en-US" sz="5000" spc="-1" strike="noStrike">
              <a:solidFill>
                <a:srgbClr val="04617b"/>
              </a:solidFill>
              <a:latin typeface="Calibri"/>
            </a:endParaRPr>
          </a:p>
        </p:txBody>
      </p:sp>
      <p:sp>
        <p:nvSpPr>
          <p:cNvPr id="198" name=""/>
          <p:cNvSpPr txBox="1"/>
          <p:nvPr/>
        </p:nvSpPr>
        <p:spPr>
          <a:xfrm>
            <a:off x="457200" y="1571760"/>
            <a:ext cx="8229600" cy="47527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onstantia"/>
              </a:rPr>
              <a:t>-Introduction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onstantia"/>
              </a:rPr>
              <a:t>-Politique d’aménagement au liba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onstantia"/>
              </a:rPr>
              <a:t>-la structure urbaine de beyrout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onstantia"/>
              </a:rPr>
              <a:t>-Cas d’étud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onstantia"/>
              </a:rPr>
              <a:t>        </a:t>
            </a:r>
            <a:r>
              <a:rPr b="0" i="1" lang="fr-FR" sz="2600" spc="-1" strike="noStrike">
                <a:solidFill>
                  <a:srgbClr val="000000"/>
                </a:solidFill>
                <a:latin typeface="Constantia"/>
              </a:rPr>
              <a:t>Historique de la ville de beiyrout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Constantia"/>
              </a:rPr>
              <a:t>       </a:t>
            </a:r>
            <a:r>
              <a:rPr b="0" i="1" lang="fr-FR" sz="2600" spc="-1" strike="noStrike">
                <a:solidFill>
                  <a:srgbClr val="000000"/>
                </a:solidFill>
                <a:latin typeface="Constantia"/>
              </a:rPr>
              <a:t>Différents  activité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onstantia"/>
              </a:rPr>
              <a:t>-</a:t>
            </a:r>
            <a:r>
              <a:rPr b="0" i="1" lang="fr-FR" sz="2600" spc="-1" strike="noStrike">
                <a:solidFill>
                  <a:srgbClr val="000000"/>
                </a:solidFill>
                <a:latin typeface="Constantia"/>
              </a:rPr>
              <a:t>conclusion</a:t>
            </a:r>
            <a:endParaRPr b="0" lang="en-US" sz="2600" spc="-1" strike="noStrike">
              <a:solidFill>
                <a:srgbClr val="000000"/>
              </a:solidFill>
              <a:latin typeface="Constantia"/>
            </a:endParaRPr>
          </a:p>
        </p:txBody>
      </p:sp>
    </p:spTree>
  </p:cSld>
  <p:transition>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Espace réservé du contenu 3" descr=""/>
          <p:cNvPicPr/>
          <p:nvPr/>
        </p:nvPicPr>
        <p:blipFill>
          <a:blip r:embed="rId1"/>
          <a:stretch/>
        </p:blipFill>
        <p:spPr>
          <a:xfrm>
            <a:off x="1785960" y="0"/>
            <a:ext cx="4929120" cy="685800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1244520" y="98280"/>
            <a:ext cx="5827680" cy="3830760"/>
          </a:xfrm>
          <a:prstGeom prst="rect">
            <a:avLst/>
          </a:prstGeom>
          <a:ln w="0">
            <a:noFill/>
          </a:ln>
        </p:spPr>
      </p:pic>
      <p:sp>
        <p:nvSpPr>
          <p:cNvPr id="231" name="Rectangle 4"/>
          <p:cNvSpPr/>
          <p:nvPr/>
        </p:nvSpPr>
        <p:spPr>
          <a:xfrm>
            <a:off x="1000080" y="4435560"/>
            <a:ext cx="600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Intérieur de l'Aéroport international de Beyrouth - Rafic Hariri</a:t>
            </a:r>
            <a:endParaRPr b="0" lang="en-US" sz="1800" spc="-1" strike="noStrike">
              <a:solidFill>
                <a:srgbClr val="000000"/>
              </a:solidFill>
              <a:latin typeface="Arial"/>
            </a:endParaRPr>
          </a:p>
        </p:txBody>
      </p:sp>
    </p:spTree>
  </p:cSld>
  <p:transition>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285920"/>
            <a:ext cx="8229600" cy="5038560"/>
          </a:xfrm>
          <a:prstGeom prst="rect">
            <a:avLst/>
          </a:prstGeom>
          <a:noFill/>
          <a:ln w="0">
            <a:noFill/>
          </a:ln>
        </p:spPr>
        <p:txBody>
          <a:bodyPr anchor="t">
            <a:normAutofit fontScale="94000"/>
          </a:bodyPr>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Ce secteur comprend toutes les activités des "services" comme le commerce, les activités bancaires, le bâtiment et le foncier, les services sociaux, le transport et le transit, le tourisme, etc. Beaucoup de ces domaines et activités, qui étaient très florissants avant la guerre de 1975, furent très durement touchés sinon complètement arrêtés, comme le tourisme. </a:t>
            </a:r>
            <a:br>
              <a:rPr sz="1800"/>
            </a:br>
            <a:r>
              <a:rPr b="0" lang="fr-FR" sz="1800" spc="-1" strike="noStrike">
                <a:solidFill>
                  <a:srgbClr val="000000"/>
                </a:solidFill>
                <a:latin typeface="Constantia"/>
              </a:rPr>
              <a:t>Il est indispensable de faire quelques remarques générales concernant les domaines les plus importants de ce secteur: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1- Le secteur commercial occupait, depuis les années cinquante la place la plus importante au sein de l'économie libanaise. sa contribution à la formation du revenu national dépassait 30%, c'est-à-dire presque autant que la contribution des secteurs industriel et agricole réunis. </a:t>
            </a:r>
            <a:br>
              <a:rPr sz="1800"/>
            </a:br>
            <a:r>
              <a:rPr b="0" lang="fr-FR" sz="1800" spc="-1" strike="noStrike">
                <a:solidFill>
                  <a:srgbClr val="000000"/>
                </a:solidFill>
                <a:latin typeface="Constantia"/>
              </a:rPr>
              <a:t>Le rapport importation/revenu national dépasse les 50%; et la couverture des importations par les exportations dépasse rarement les 30%. </a:t>
            </a:r>
            <a:br>
              <a:rPr sz="1800"/>
            </a:br>
            <a:r>
              <a:rPr b="0" lang="fr-FR" sz="1800" spc="-1" strike="noStrike">
                <a:solidFill>
                  <a:srgbClr val="000000"/>
                </a:solidFill>
                <a:latin typeface="Constantia"/>
              </a:rPr>
              <a:t>Ce secteur commercial est resté assez actif, même durant les années de la guerre, et il se remet de ses problèmes actuellement vu les besoins des Libanais en produits de consommation, dont plus de 75% sont des produits importés. </a:t>
            </a:r>
            <a:br>
              <a:rPr sz="1800"/>
            </a:br>
            <a:endParaRPr b="0" lang="en-US" sz="1800" spc="-1" strike="noStrike">
              <a:solidFill>
                <a:srgbClr val="000000"/>
              </a:solidFill>
              <a:latin typeface="Constantia"/>
            </a:endParaRPr>
          </a:p>
        </p:txBody>
      </p:sp>
      <p:sp>
        <p:nvSpPr>
          <p:cNvPr id="233" name="Rectangle 2"/>
          <p:cNvSpPr/>
          <p:nvPr/>
        </p:nvSpPr>
        <p:spPr>
          <a:xfrm>
            <a:off x="500040" y="642960"/>
            <a:ext cx="8143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1b2c9"/>
                </a:solidFill>
                <a:latin typeface="Constantia"/>
              </a:rPr>
              <a:t>Différentes activit</a:t>
            </a:r>
            <a:r>
              <a:rPr b="1" i="1" lang="fr-FR" sz="2000" spc="-1" strike="noStrike">
                <a:solidFill>
                  <a:srgbClr val="21b2c9"/>
                </a:solidFill>
                <a:latin typeface="Constantia"/>
              </a:rPr>
              <a:t>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b5395"/>
                </a:solidFill>
                <a:latin typeface="Constantia"/>
              </a:rPr>
              <a:t>Le secteur tertiaire:</a:t>
            </a:r>
            <a:r>
              <a:rPr b="0" lang="fr-FR" sz="1800" spc="-1" strike="noStrike">
                <a:solidFill>
                  <a:srgbClr val="0b5395"/>
                </a:solidFill>
                <a:latin typeface="Constantia"/>
              </a:rPr>
              <a:t> </a:t>
            </a:r>
            <a:endParaRPr b="0" lang="en-US" sz="1800" spc="-1" strike="noStrike">
              <a:solidFill>
                <a:srgbClr val="000000"/>
              </a:solidFill>
              <a:latin typeface="Arial"/>
            </a:endParaRPr>
          </a:p>
        </p:txBody>
      </p:sp>
    </p:spTree>
  </p:cSld>
  <p:transition>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428400"/>
            <a:ext cx="8229600" cy="589572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     </a:t>
            </a:r>
            <a:r>
              <a:rPr b="0" lang="fr-FR" sz="2200" spc="-1" strike="noStrike">
                <a:solidFill>
                  <a:srgbClr val="000000"/>
                </a:solidFill>
                <a:latin typeface="Constantia"/>
              </a:rPr>
              <a:t>2- Le secteur du bâtiment très durement touché durant toutes les </a:t>
            </a:r>
            <a:r>
              <a:rPr b="0" lang="fr-FR" sz="2000" spc="-1" strike="noStrike">
                <a:solidFill>
                  <a:srgbClr val="000000"/>
                </a:solidFill>
                <a:latin typeface="Constantia"/>
              </a:rPr>
              <a:t>années de la guerre, connaît un rapide mouvement de développement, surtout depuis 1991. Les permis de construire couvraient plus de 6 millions de m2 en 1991, d'après les chiffres de l'ordre des ingénieurs; ils ont atteint les 12 millions de m2 en 1993, pour des investissements évalués à environ 1631 millions de U.S.$; pour atteindre un maximum de 34,9 millions de m2 en 1995, puis se rééquilibrer à 13,6 millions de m2 en 1996.</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br>
              <a:rPr sz="2000"/>
            </a:br>
            <a:r>
              <a:rPr b="0" lang="fr-FR" sz="2000" spc="-1" strike="noStrike">
                <a:solidFill>
                  <a:srgbClr val="000000"/>
                </a:solidFill>
                <a:latin typeface="Constantia"/>
              </a:rPr>
              <a:t>      </a:t>
            </a:r>
            <a:r>
              <a:rPr b="0" lang="fr-FR" sz="2000" spc="-1" strike="noStrike">
                <a:solidFill>
                  <a:srgbClr val="000000"/>
                </a:solidFill>
                <a:latin typeface="Constantia"/>
              </a:rPr>
              <a:t>3- Le secteur du transport et du transit, qui contribuait à environ 8% dans la formation du revenu national, fut pratiquement arrêté durant les années de la guerre ou réduit à 10% de ses activités dans les meilleures hypothèses. </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a:solidFill>
                  <a:srgbClr val="000000"/>
                </a:solidFill>
                <a:latin typeface="Constantia"/>
              </a:rPr>
              <a:t>En effet le Port de Beyrouth, qui se trouvait sur la ligne des combats, fut totalement fermé et supplanté par des ports de fortune tout au long du littoral pour assurer les importations. l'aéroport ne fonctionnait que durant de très courtes périodes, la MEA, compagnie aérienne nationale, était la seule qui l'utilisait pour quelques vols très irréguliers. Le transit routier, qui transportait toutes les exportations libanaises vers les pays arabes, surtout ceux du Golf, et toutes les importations de ces pays à travers le port de Beyrouth, fut réduit très considérablement. </a:t>
            </a:r>
            <a:br>
              <a:rPr sz="2000"/>
            </a:br>
            <a:r>
              <a:rPr b="0" lang="fr-FR" sz="2000" spc="-1" strike="noStrike">
                <a:solidFill>
                  <a:srgbClr val="000000"/>
                </a:solidFill>
                <a:latin typeface="Constantia"/>
              </a:rPr>
              <a:t> </a:t>
            </a:r>
            <a:endParaRPr b="0" lang="en-US" sz="2000" spc="-1" strike="noStrike">
              <a:solidFill>
                <a:srgbClr val="000000"/>
              </a:solidFill>
              <a:latin typeface="Constantia"/>
            </a:endParaRPr>
          </a:p>
        </p:txBody>
      </p:sp>
    </p:spTree>
  </p:cSld>
  <p:transition>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499680"/>
            <a:ext cx="8229600" cy="5824440"/>
          </a:xfrm>
          <a:prstGeom prst="rect">
            <a:avLst/>
          </a:prstGeom>
          <a:noFill/>
          <a:ln w="0">
            <a:noFill/>
          </a:ln>
        </p:spPr>
        <p:txBody>
          <a:bodyPr anchor="t">
            <a:normAutofit fontScale="98000"/>
          </a:bodyPr>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r>
              <a:rPr b="0" lang="fr-FR" sz="2000" spc="-1" strike="noStrike">
                <a:solidFill>
                  <a:srgbClr val="000000"/>
                </a:solidFill>
                <a:latin typeface="Constantia"/>
              </a:rPr>
              <a:t>Depuis 1992, ce secteur de transport connaît un regain d'activités et retrouve progressivement sa vitalité et son dynamisme. La plupart des compagnies aériennes utilisent de nouveaux l'aéroport de Beyrouth, qui a reçu plus de 1,2 millions de passagers en 1992, et plus de 1,7 millions en 1996; alors que le port de Beyrouth reçoit annuellement, depuis 1992, environ 3000 bateaux qui vident plus de 500.000 tonnes de marchandises. </a:t>
            </a:r>
            <a:br>
              <a:rPr sz="2000"/>
            </a:br>
            <a:r>
              <a:rPr b="0" lang="fr-FR" sz="2000" spc="-1" strike="noStrike">
                <a:solidFill>
                  <a:srgbClr val="000000"/>
                </a:solidFill>
                <a:latin typeface="Constantia"/>
              </a:rPr>
              <a:t>         Le gouvernement a déjà étudié et décidé plusieurs projets pour le réaménagement, 1'équipement et 1'expansion de ce secteur: par exemple, aménagement et équipements nouveaux du port de Beyrouth; rééquipement et agrandissement de l'aéroport; remplacement et modernisation du transport ferroviaire; nouveau réseau routier et d'autoroutes, etc. D'ailleurs, plusieurs gouvernements et sociétés étrangers ont signé déjà des contrats et commencé l’exécution de quelques projets. </a:t>
            </a:r>
            <a:br>
              <a:rPr sz="2000"/>
            </a:br>
            <a:r>
              <a:rPr b="0" lang="fr-FR" sz="2000" spc="-1" strike="noStrike">
                <a:solidFill>
                  <a:srgbClr val="000000"/>
                </a:solidFill>
                <a:latin typeface="Constantia"/>
              </a:rPr>
              <a:t>       4- Le secteur touristique: Le Liban était considéré un pays de tourisme par excellence, et surtout d'estivage spécialement par les ressortissants des pays du Golf. Durant les années précédant juste la guerre, le nombre des touristes (Syriens non compris) dépassait un million de personnes. Les rentrées de ce secteur étaient l'une des sources importantes qui comblaient le déficit de la balance Commerciale.</a:t>
            </a:r>
            <a:endParaRPr b="0" lang="en-US" sz="2000" spc="-1" strike="noStrike">
              <a:solidFill>
                <a:srgbClr val="000000"/>
              </a:solidFill>
              <a:latin typeface="Constantia"/>
            </a:endParaRPr>
          </a:p>
        </p:txBody>
      </p:sp>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428400"/>
            <a:ext cx="8229600" cy="589572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Actuellement, malgré un mouvement de relance promotteur surtout au niveau du réaménagement et du rééquipement des hôtels de luxe, ce secteur reste à son niveau le plus bas et il se limite à des Libanais, vivant ou travaillant à 1'étranger, qui viennent passer l'été dans le pays, à quelques ressortissants arabes et des rares autres étrangers, et finalement à des hommes d'affaires de passage au Liba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b5395"/>
                </a:solidFill>
                <a:latin typeface="Constantia"/>
              </a:rPr>
              <a:t> </a:t>
            </a:r>
            <a:r>
              <a:rPr b="1" lang="fr-FR" sz="2400" spc="-1" strike="noStrike">
                <a:solidFill>
                  <a:srgbClr val="0b5395"/>
                </a:solidFill>
                <a:latin typeface="Constantia"/>
              </a:rPr>
              <a:t>4- Le secteur industriel</a:t>
            </a:r>
            <a:r>
              <a:rPr b="1" lang="fr-FR" sz="2400" spc="-1" strike="noStrike">
                <a:solidFill>
                  <a:srgbClr val="000000"/>
                </a:solidFill>
                <a:latin typeface="Constantia"/>
              </a:rPr>
              <a:t>:</a:t>
            </a:r>
            <a:r>
              <a:rPr b="0" lang="fr-FR" sz="2400" spc="-1" strike="noStrike">
                <a:solidFill>
                  <a:srgbClr val="000000"/>
                </a:solidFill>
                <a:latin typeface="Constantia"/>
              </a:rPr>
              <a:t> </a:t>
            </a:r>
            <a:br>
              <a:rPr sz="2400"/>
            </a:br>
            <a:r>
              <a:rPr b="0" lang="fr-FR" sz="2400" spc="-1" strike="noStrike">
                <a:solidFill>
                  <a:srgbClr val="000000"/>
                </a:solidFill>
                <a:latin typeface="Constantia"/>
              </a:rPr>
              <a:t>Ce secteur, épuisé par la guerre et qui a supporté de très grosses pertes, n'a pas encore retrouvé sa santé surtout à cause du manque de crédits et des sources de financement, de la concurrence qu'il subit des produits étrangers importés, et du marasme économique qui prévaut dans le marché interne. </a:t>
            </a:r>
            <a:br>
              <a:rPr sz="2400"/>
            </a:br>
            <a:r>
              <a:rPr b="0" lang="fr-FR" sz="2400" spc="-1" strike="noStrike">
                <a:solidFill>
                  <a:srgbClr val="000000"/>
                </a:solidFill>
                <a:latin typeface="Constantia"/>
              </a:rPr>
              <a:t>L'industrie au Liban connaît des problèmes structurels, dont les plus importants à noter sont: </a:t>
            </a:r>
            <a:br>
              <a:rPr sz="2400"/>
            </a:br>
            <a:r>
              <a:rPr b="0" lang="fr-FR" sz="2400" spc="-1" strike="noStrike">
                <a:solidFill>
                  <a:srgbClr val="000000"/>
                </a:solidFill>
                <a:latin typeface="Constantia"/>
              </a:rPr>
              <a:t>  </a:t>
            </a:r>
            <a:endParaRPr b="0" lang="en-US" sz="2400" spc="-1" strike="noStrike">
              <a:solidFill>
                <a:srgbClr val="000000"/>
              </a:solidFill>
              <a:latin typeface="Constantia"/>
            </a:endParaRPr>
          </a:p>
        </p:txBody>
      </p:sp>
    </p:spTree>
  </p:cSld>
  <p:transition>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28760" y="356760"/>
            <a:ext cx="8229600" cy="5961240"/>
          </a:xfrm>
          <a:prstGeom prst="rect">
            <a:avLst/>
          </a:prstGeom>
          <a:noFill/>
          <a:ln w="0">
            <a:noFill/>
          </a:ln>
        </p:spPr>
        <p:txBody>
          <a:bodyPr anchor="t">
            <a:normAutofit fontScale="97000"/>
          </a:bodyPr>
          <a:p>
            <a:pPr marL="264600" indent="-264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1- L'inégale répartition géographique des activités et des entreprises industrielles: nous constatons une concentration dans Beyrouth et sa banlieue représentant, en 1970, 60% de l'ensemble des entreprises industrielles occupant plus de 63% de la main d'oeuvre industrielle. </a:t>
            </a:r>
            <a:endParaRPr b="0" lang="en-US" sz="2200" spc="-1" strike="noStrike">
              <a:solidFill>
                <a:srgbClr val="000000"/>
              </a:solidFill>
              <a:latin typeface="Constantia"/>
            </a:endParaRPr>
          </a:p>
          <a:p>
            <a:pPr marL="264600" indent="-264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fr-FR" sz="2200" spc="-1" strike="noStrike">
                <a:solidFill>
                  <a:srgbClr val="000000"/>
                </a:solidFill>
                <a:latin typeface="Constantia"/>
              </a:rPr>
              <a:t>2- L'industrie libanaise s'est essentiellement constituée selon un processus de "substitution aux importations": l'industrie s'est développée, non d'après une planification plus ou moins rationnelle, mais surtout pour supplanter les importations et subvenir à des besoins spécifiques de consommation. Ainsi, la création d'une industrie donnée répondait, souvent, à un besoin du marché local qui est très limités, d'où l'importance des industries, de taille moyenne et même petite, orientées vers les objets de consommation finale: produits alimentaires, textiles et habillement, bois et meubles, et matériaux de construction représentent plus de 75% de l'activité industrielle, et occupent plus de 70% de la main-d'oeuvre industrielle. </a:t>
            </a:r>
            <a:br>
              <a:rPr sz="2200"/>
            </a:br>
            <a:r>
              <a:rPr b="0" lang="fr-FR" sz="2200" spc="-1" strike="noStrike">
                <a:solidFill>
                  <a:srgbClr val="000000"/>
                </a:solidFill>
                <a:latin typeface="Constantia"/>
              </a:rPr>
              <a:t>3- C'est une industrie tributaire essentiellement des marchés extérieurs, tant pour ses matières premières que pour 1'écoulement de sa production</a:t>
            </a:r>
            <a:endParaRPr b="0" lang="en-US" sz="2200" spc="-1" strike="noStrike">
              <a:solidFill>
                <a:srgbClr val="000000"/>
              </a:solidFill>
              <a:latin typeface="Constantia"/>
            </a:endParaRPr>
          </a:p>
        </p:txBody>
      </p:sp>
    </p:spTree>
  </p:cSld>
  <p:transition>
    <p:wheel spokes="8"/>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357120"/>
            <a:ext cx="8229600" cy="5967360"/>
          </a:xfrm>
          <a:prstGeom prst="rect">
            <a:avLst/>
          </a:prstGeom>
          <a:noFill/>
          <a:ln w="0">
            <a:noFill/>
          </a:ln>
        </p:spPr>
        <p:txBody>
          <a:bodyPr anchor="t">
            <a:normAutofit fontScale="95000"/>
          </a:bodyPr>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4- Certaines branches de cette industrie ne sont pas concurrentielles, même sur le marché local: le textile, par exemple, ne peut continuer à fonctionner que par des exonérations fiscales et la protection de l'Etat.</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a guerre a détruit plus de 50% des usines et des entreprises industrielles; plus de 30% ne fonctionnent que partiellement, et dans des conditions très défavorables à toute relance: manque d'é1ectricitè et d'autres sources d'énergie; manque de matières premières importées presque en totalité et payées en devises; difficulté de trouver une main-d'oeuvre qualifiée dont une bonne partie a émigré; difficulté d'exporter et de trouver des marchés d'écoulement... Ajoutez à cela le fait que l'équipement de production est devenu désuet, faute d'avoir été renouvelé. </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000000"/>
                </a:solidFill>
                <a:latin typeface="Constantia"/>
              </a:rPr>
              <a:t>Aussi l'industrie a-t-elle besoin de beaucoup de capitaux pour se relancer et se moderniser or ces capitaux manquent, soit parce que l'Etat est incapable d'aider et de créditer ce secteur, soit parce que les capitaux privés n'osent pas encore investir en attendant d'être plus assurés que la situation se soit stabilisée au Liban et dans la région. En fait, l'état d'insécurité, qui a prévalu durant la guerre, a entraîné la fuite des capitaux libanais et étrangers qui furent transférés et investis dans d'autres pays.</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br>
              <a:rPr sz="1800"/>
            </a:br>
            <a:r>
              <a:rPr b="0" lang="fr-FR" sz="1800" spc="-1" strike="noStrike">
                <a:solidFill>
                  <a:srgbClr val="000000"/>
                </a:solidFill>
                <a:latin typeface="Constantia"/>
              </a:rPr>
              <a:t>La part du secteur industriel dans les activités économiques et la formation du revenu national est toujours relativement faible: il fait travailler environ 27% de la population active, et contribue à presque16% du PNB. </a:t>
            </a:r>
            <a:br>
              <a:rPr sz="1800"/>
            </a:br>
            <a:r>
              <a:rPr b="0" lang="fr-FR" sz="1800" spc="-1" strike="noStrike">
                <a:solidFill>
                  <a:srgbClr val="000000"/>
                </a:solidFill>
                <a:latin typeface="Constantia"/>
              </a:rPr>
              <a:t> </a:t>
            </a:r>
            <a:endParaRPr b="0" lang="en-US" sz="1800" spc="-1" strike="noStrike">
              <a:solidFill>
                <a:srgbClr val="000000"/>
              </a:solidFill>
              <a:latin typeface="Constantia"/>
            </a:endParaRPr>
          </a:p>
        </p:txBody>
      </p:sp>
    </p:spTree>
  </p:cSld>
  <p:transition>
    <p:wheel spokes="8"/>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428400"/>
            <a:ext cx="8229600" cy="5895720"/>
          </a:xfrm>
          <a:prstGeom prst="rect">
            <a:avLst/>
          </a:prstGeom>
          <a:noFill/>
          <a:ln w="0">
            <a:noFill/>
          </a:ln>
        </p:spPr>
        <p:txBody>
          <a:bodyPr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Pourtant, du fait que l'industrie constitue un secteur productif qui n'est pas aussi sensible que le tertiaire aux fluctuations des marchés et aux aléas des crises, et que, malgré ses problèmes et ses difficultés, l'industrie n'a cessé de croître et d'augmenter sa contribution au produit national, il faudrait donner une attention particulière a ce secteur et regarder, aussi et surtout, sa rentabilité sociale. En effet, c'est l'activité industrielle qui est la plus apte à faire travailler un grand nombre de personnes -elle emploie d'après le recensement industriel de 1995, plus de 144.000 ouvriers-, et à créer de nouveaux emplois pour aider à résoudre le problème de chômage, et à freiner l'émigration de la main-d'oeuvre et de la jeunesse.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0b5395"/>
                </a:solidFill>
                <a:latin typeface="Constantia"/>
              </a:rPr>
              <a:t>  </a:t>
            </a:r>
            <a:r>
              <a:rPr b="1" lang="fr-FR" sz="1800" spc="-1" strike="noStrike">
                <a:solidFill>
                  <a:srgbClr val="0b5395"/>
                </a:solidFill>
                <a:latin typeface="Constantia"/>
              </a:rPr>
              <a:t>5- Le secteur agricole</a:t>
            </a:r>
            <a:r>
              <a:rPr b="0" lang="fr-FR" sz="1800" spc="-1" strike="noStrike">
                <a:solidFill>
                  <a:srgbClr val="0b5395"/>
                </a:solidFill>
                <a:latin typeface="Constantia"/>
              </a:rPr>
              <a:t> </a:t>
            </a:r>
            <a:r>
              <a:rPr b="1" lang="fr-FR" sz="1800" spc="-1" strike="noStrike">
                <a:solidFill>
                  <a:srgbClr val="0b5395"/>
                </a:solidFill>
                <a:latin typeface="Constantia"/>
              </a:rPr>
              <a:t>:</a:t>
            </a:r>
            <a:br>
              <a:rPr sz="1800"/>
            </a:br>
            <a:r>
              <a:rPr b="0" lang="fr-FR" sz="1800" spc="-1" strike="noStrike">
                <a:solidFill>
                  <a:srgbClr val="000000"/>
                </a:solidFill>
                <a:latin typeface="Constantia"/>
              </a:rPr>
              <a:t>    Le secteur productif compte, jusqu'à présent, sur ses propres ressources et ses moyens qui sont habituellement très limité que ce soit au niveau des moyens financiers, des moyens techniques, ou des moyens de production. En outre, le dumping des produits agricoles importés menacent sérieusement les possibilités de développement économique de ce secteur. Or le retard de ce secteur agricole conduit a des résultats économiques et sociaux indésirables, en renforçant le phénomène de l'exode rural, et en augmentant la dépendance vis- à -vis de l'extérieur pour satisfaire les besoins alimentaires. </a:t>
            </a:r>
            <a:br>
              <a:rPr sz="1800"/>
            </a:br>
            <a:r>
              <a:rPr b="0" lang="fr-FR" sz="1800" spc="-1" strike="noStrike">
                <a:solidFill>
                  <a:srgbClr val="000000"/>
                </a:solidFill>
                <a:latin typeface="Constantia"/>
              </a:rPr>
              <a:t>Le secteur agricole au Liban se caractérise par quelques traits, dont les plus importants sont: </a:t>
            </a:r>
            <a:br>
              <a:rPr sz="1800"/>
            </a:br>
            <a:r>
              <a:rPr b="0" lang="fr-FR" sz="1800" spc="-1" strike="noStrike">
                <a:solidFill>
                  <a:srgbClr val="000000"/>
                </a:solidFill>
                <a:latin typeface="Constantia"/>
              </a:rPr>
              <a:t>  </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499680"/>
            <a:ext cx="8229600" cy="582444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1- Le Liban est un pays de petite superficie dépassant a peine 10400 KM2. Les terres cultivées -forêts comprises- représentent environ 38% de la superficie totale, et si nous y ajoutons les 324000 hectares aptes à être valorisés et bonifiés, nous aurons au maximum 50% de terres cultivables au Liban. </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a:solidFill>
                  <a:srgbClr val="000000"/>
                </a:solidFill>
                <a:latin typeface="Constantia"/>
              </a:rPr>
              <a:t>2- La population, peu nombreuse dans l'absolu dépassant à peine les 3 millions, pose d'une part le problème d'une très grande densité (plus de 300 habitants au Km'), et, d'autre part, elle présente un rapport très défavorable avec la superficie des terres cultivées; la proportion serait de dix personnes environ par hectare cultivé, proportion extrêmement faible et qui deviendra de plus en plus faible vu l'accroissement ultérieur de la population. Le taux de croissance démographique est très élevé au Liban dépassant 2,6%. </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a:solidFill>
                  <a:srgbClr val="000000"/>
                </a:solidFill>
                <a:latin typeface="Constantia"/>
              </a:rPr>
              <a:t>3- A la fin des années cinquante, la population active travaillant dans le secteur agricole était estimé à 50% du total de la population active libanaise; au milieu des années soixante la population est tombée à 34%; au début des années soixante-dix, une enquête officielle sur la population active ne donnait qu'une proportion de 18,9%; et le "Rapport mondial sur le développement humain 1993" publié par le PNUD parle de 14%. </a:t>
            </a:r>
            <a:br>
              <a:rPr sz="2000"/>
            </a:br>
            <a:r>
              <a:rPr b="0" lang="fr-FR" sz="2000" spc="-1" strike="noStrike">
                <a:solidFill>
                  <a:srgbClr val="000000"/>
                </a:solidFill>
                <a:latin typeface="Constantia"/>
              </a:rPr>
              <a:t> </a:t>
            </a:r>
            <a:endParaRPr b="0" lang="en-US" sz="2000" spc="-1" strike="noStrike">
              <a:solidFill>
                <a:srgbClr val="000000"/>
              </a:solidFill>
              <a:latin typeface="Constantia"/>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Beyrouth  est la capitale du liban et la ville la plus importante du pays. Elle compte environ 1 200 000 habitants et l'agglomération urbaine plus de 2 millions d’habitants (2007). La ville est un centre financier, un port de commerce et un centre culturel d'une importance majeure à l'est de la méditérranet au Proche-Orient. Elle est située entre l’</a:t>
            </a:r>
            <a:r>
              <a:rPr b="0" lang="fr-FR" sz="2000" spc="-1" strike="noStrike" u="sng">
                <a:solidFill>
                  <a:srgbClr val="000000"/>
                </a:solidFill>
                <a:uFillTx/>
                <a:latin typeface="Constantia"/>
              </a:rPr>
              <a:t>asie</a:t>
            </a:r>
            <a:r>
              <a:rPr b="0" lang="fr-FR" sz="2000" spc="-1" strike="noStrike">
                <a:solidFill>
                  <a:srgbClr val="000000"/>
                </a:solidFill>
                <a:latin typeface="Constantia"/>
              </a:rPr>
              <a:t>, l’</a:t>
            </a:r>
            <a:r>
              <a:rPr b="0" lang="fr-FR" sz="2000" spc="-1" strike="noStrike" u="sng">
                <a:solidFill>
                  <a:srgbClr val="000000"/>
                </a:solidFill>
                <a:uFillTx/>
                <a:latin typeface="Constantia"/>
              </a:rPr>
              <a:t>afrique</a:t>
            </a:r>
            <a:r>
              <a:rPr b="0" lang="fr-FR" sz="2000" spc="-1" strike="noStrike">
                <a:solidFill>
                  <a:srgbClr val="000000"/>
                </a:solidFill>
                <a:latin typeface="Constantia"/>
              </a:rPr>
              <a:t> et l’</a:t>
            </a:r>
            <a:r>
              <a:rPr b="0" lang="fr-FR" sz="2000" spc="-1" strike="noStrike" u="sng">
                <a:solidFill>
                  <a:srgbClr val="000000"/>
                </a:solidFill>
                <a:uFillTx/>
                <a:latin typeface="Constantia"/>
              </a:rPr>
              <a:t>europe</a:t>
            </a:r>
            <a:r>
              <a:rPr b="0" lang="fr-FR" sz="2000" spc="-1" strike="noStrike">
                <a:solidFill>
                  <a:srgbClr val="000000"/>
                </a:solidFill>
                <a:latin typeface="Constantia"/>
              </a:rPr>
              <a:t>, ce qui lui donne une place stratégique dans les échanges mondiaux.</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Avec sa banlieue, la ville forme le </a:t>
            </a:r>
            <a:r>
              <a:rPr b="0" lang="fr-FR" sz="2000" spc="-1" strike="noStrike" u="sng">
                <a:solidFill>
                  <a:srgbClr val="000000"/>
                </a:solidFill>
                <a:uFillTx/>
                <a:latin typeface="Constantia"/>
              </a:rPr>
              <a:t>gouvernorat</a:t>
            </a:r>
            <a:r>
              <a:rPr b="0" lang="fr-FR" sz="2000" spc="-1" strike="noStrike">
                <a:solidFill>
                  <a:srgbClr val="000000"/>
                </a:solidFill>
                <a:latin typeface="Constantia"/>
              </a:rPr>
              <a:t> (</a:t>
            </a:r>
            <a:r>
              <a:rPr b="0" i="1" lang="fr-FR" sz="2000" spc="-1" strike="noStrike">
                <a:solidFill>
                  <a:srgbClr val="000000"/>
                </a:solidFill>
                <a:latin typeface="Constantia"/>
              </a:rPr>
              <a:t>muhafazat</a:t>
            </a:r>
            <a:r>
              <a:rPr b="0" lang="fr-FR" sz="2000" spc="-1" strike="noStrike">
                <a:solidFill>
                  <a:srgbClr val="000000"/>
                </a:solidFill>
                <a:latin typeface="Constantia"/>
              </a:rPr>
              <a:t>) de </a:t>
            </a:r>
            <a:r>
              <a:rPr b="0" lang="fr-FR" sz="2000" spc="-1" strike="noStrike" u="sng">
                <a:solidFill>
                  <a:srgbClr val="000000"/>
                </a:solidFill>
                <a:uFillTx/>
                <a:latin typeface="Constantia"/>
              </a:rPr>
              <a:t>beyrouth</a:t>
            </a:r>
            <a:r>
              <a:rPr b="0" lang="fr-FR" sz="2000" spc="-1" strike="noStrike">
                <a:solidFill>
                  <a:srgbClr val="000000"/>
                </a:solidFill>
                <a:latin typeface="Constantia"/>
              </a:rPr>
              <a:t>, le seul qui n'est pas divisé en </a:t>
            </a:r>
            <a:r>
              <a:rPr b="0" lang="fr-FR" sz="2000" spc="-1" strike="noStrike" u="sng">
                <a:solidFill>
                  <a:srgbClr val="000000"/>
                </a:solidFill>
                <a:uFillTx/>
                <a:latin typeface="Constantia"/>
              </a:rPr>
              <a:t>districts</a:t>
            </a:r>
            <a:r>
              <a:rPr b="0" lang="fr-FR" sz="2000" spc="-1" strike="noStrike">
                <a:solidFill>
                  <a:srgbClr val="000000"/>
                </a:solidFill>
                <a:latin typeface="Constantia"/>
              </a:rPr>
              <a:t>. Elle abrite le siège du Gouvernement.</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Elle joue un rôle central dans l'économie du pays, du fait de la présence de nombreuses entreprises et de grandes banques internationales. Beyrouth est également le poumon culturel de la région, renommée pour ses publications ainsi que pour ses activités culturelles sans égal. La ville a été nommée capitale mondiale du livre 2009 par l'UNESCO. Beyrouth a également été citée dans le </a:t>
            </a:r>
            <a:r>
              <a:rPr b="0" i="1" lang="fr-FR" sz="2000" spc="-1" strike="noStrike">
                <a:solidFill>
                  <a:srgbClr val="000000"/>
                </a:solidFill>
                <a:latin typeface="Constantia"/>
              </a:rPr>
              <a:t>New York Times</a:t>
            </a:r>
            <a:r>
              <a:rPr b="0" lang="fr-FR" sz="2000" spc="-1" strike="noStrike">
                <a:solidFill>
                  <a:srgbClr val="000000"/>
                </a:solidFill>
                <a:latin typeface="Constantia"/>
              </a:rPr>
              <a:t> comme première destination à visiter en 2009.</a:t>
            </a:r>
            <a:endParaRPr b="0" lang="en-US" sz="2000" spc="-1" strike="noStrike">
              <a:solidFill>
                <a:srgbClr val="000000"/>
              </a:solidFill>
              <a:latin typeface="Constantia"/>
            </a:endParaRPr>
          </a:p>
        </p:txBody>
      </p:sp>
    </p:spTree>
  </p:cSld>
  <p:transition>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499680"/>
            <a:ext cx="8229600" cy="5824440"/>
          </a:xfrm>
          <a:prstGeom prst="rect">
            <a:avLst/>
          </a:prstGeom>
          <a:noFill/>
          <a:ln w="0">
            <a:noFill/>
          </a:ln>
        </p:spPr>
        <p:txBody>
          <a:bodyPr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4- Ce dépeuplement conduit a un délaissement de la terre: en 1969 déjà, 45% des terres cultivées étaient laissées en jachère; ce phénomène fut très sensiblement aggravé durant la guerre, à cause de l'expulsion massive des ruraux de leurs terres et de leurs villages. Aussi l'agresseur détruisait-il, souvent intentionnellement, toutes les installations, les équipements technologiques et les entreprises modernes: fermes, vergers, canalisations d'eau, etc.</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Devant de telles pertes, les ruraux qui sont dans leur grande majorité de petits propriétaires, et dont plusieurs ont perdu presque tout ce qu'ils possédaient, sont devenus incapables d'assurer le rééquipement de leurs propriétés, et la relance de leurs activités agricoles. Ce secteur a, donc, d'énormes besoins en aides pour le rendre humainement viable et économiquement rentable. </a:t>
            </a:r>
            <a:endParaRPr b="0" lang="en-US" sz="18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000000"/>
                </a:solidFill>
                <a:latin typeface="Constantia"/>
              </a:rPr>
              <a:t>      </a:t>
            </a:r>
            <a:r>
              <a:rPr b="0" lang="fr-FR" sz="1800" spc="-1" strike="noStrike">
                <a:solidFill>
                  <a:srgbClr val="000000"/>
                </a:solidFill>
                <a:latin typeface="Constantia"/>
              </a:rPr>
              <a:t>La part de ce secteur agricole a la formation du revenu national ne dépasse pas 10%, mais ce chiffre ne reflète pas l'importance réelle de ce secteur au niveau économique et social; en effet, le secteur agricole est un secteur très complexe où l'économique, le social et l'humain interférent. Aborder ce secteur et l'analyser en privilégiant l'un ou l'autre de ces aspects c'est fausser le problème, et arriver nécessairement a des conclusions divergentes. </a:t>
            </a:r>
            <a:br>
              <a:rPr sz="1800"/>
            </a:br>
            <a:br>
              <a:rPr sz="1800"/>
            </a:br>
            <a:endParaRPr b="0" lang="en-US" sz="1800" spc="-1" strike="noStrike">
              <a:solidFill>
                <a:srgbClr val="000000"/>
              </a:solidFill>
              <a:latin typeface="Constantia"/>
            </a:endParaRPr>
          </a:p>
        </p:txBody>
      </p:sp>
    </p:spTree>
  </p:cSld>
  <p:transition>
    <p:wheel spokes="8"/>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499680"/>
            <a:ext cx="8229600" cy="5824440"/>
          </a:xfrm>
          <a:prstGeom prst="rect">
            <a:avLst/>
          </a:prstGeom>
          <a:noFill/>
          <a:ln w="0">
            <a:noFill/>
          </a:ln>
        </p:spPr>
        <p:txBody>
          <a:bodyPr anchor="t">
            <a:normAutofit fontScale="96000"/>
          </a:bodyPr>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En fait, sur le plan économique, le secteur agricole a déclenché, dans son récent mouvement de capitalisation, tout un processus d'opérations "en amont et en aval": grâce à l'agriculture, il y a eu une expansion de nombreuses activités para-agricoles se rattachant, d'une part, à l'industrie (industrie agro-alimentaire; réfrigération et conditionnement, etc.) et, d'autre part, au secteur tertiaire (circuits de commercialisation, de distribution, d'exportation, etc.) et qui ont dynamisé le marché intérieur de travail par la création d'un grand nombre de nouveaux emplois. </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000000"/>
                </a:solidFill>
                <a:latin typeface="Constantia"/>
              </a:rPr>
              <a:t>    </a:t>
            </a:r>
            <a:r>
              <a:rPr b="0" lang="fr-FR" sz="1800" spc="-1" strike="noStrike">
                <a:solidFill>
                  <a:srgbClr val="000000"/>
                </a:solidFill>
                <a:latin typeface="Constantia"/>
              </a:rPr>
              <a:t>Aussi, au niveau socio-humain, si le secteur agricole touche directement 14% de la population active, il toucherait indirectement plus de 75% de la population libanaise, vu les liens étroits socio-économiques que garde tout libanais avec son village, et vu le fait que plus de 80% des Libanais ont une propriété foncière, si petite que soit sa superficie. </a:t>
            </a:r>
            <a:endParaRPr b="0" lang="en-US" sz="1800" spc="-1" strike="noStrike">
              <a:solidFill>
                <a:srgbClr val="000000"/>
              </a:solidFill>
              <a:latin typeface="Constantia"/>
            </a:endParaRPr>
          </a:p>
          <a:p>
            <a:pPr marL="261720" indent="-261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000000"/>
                </a:solidFill>
                <a:latin typeface="Constantia"/>
              </a:rPr>
              <a:t>    </a:t>
            </a:r>
            <a:r>
              <a:rPr b="0" lang="fr-FR" sz="1800" spc="-1" strike="noStrike">
                <a:solidFill>
                  <a:srgbClr val="000000"/>
                </a:solidFill>
                <a:latin typeface="Constantia"/>
              </a:rPr>
              <a:t>C'est pourquoi toute amélioration, dans ce secteur agricole, ne peut qu'avoir des retombées bénéfiques sur l'ensemble de la population libanaise. Aider, donc, ce secteur à se développer revêt une importance capitale à l'heure actuelle; en effet, depuis plus d'une dizaine d'années, nous assistons a un phénomène assez unique qu'on peut qualifier de mouvement de "contre-exode", qui signifie le retour des habitants de la ville pour se fixer et habiter dans des zones considérées comme rurales ou semi-rurales. Aussi une bonne politique de développement pourrait aider a fixer ces gens définitivement dans ces zones, et ainsi aider à résoudre beaucoup de problèmes sociaux. </a:t>
            </a:r>
            <a:br>
              <a:rPr sz="1800"/>
            </a:br>
            <a:endParaRPr b="0" lang="en-US" sz="1800" spc="-1" strike="noStrike">
              <a:solidFill>
                <a:srgbClr val="000000"/>
              </a:solidFill>
              <a:latin typeface="Constantia"/>
            </a:endParaRPr>
          </a:p>
        </p:txBody>
      </p:sp>
    </p:spTree>
  </p:cSld>
  <p:transition>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499680"/>
            <a:ext cx="8229600" cy="58244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A la fin de ce survol rapide des secteurs importants de l'économie libanaise, nous devons indiquer qu'un taux d'accroissement économique de l'ordre de 6% est enregistré annuellement, ce qui est un taux assez élevé dans l'absolu, mais dont l'importance reste très relative dans l'économie libanaise, vu le niveau antérieur très bas qu'a atteint cette économie. Ainsi, cette relance amorcée n'est qu'un début de relèvement, mais qui reste très fragile puisque les problèmes structurels ne sont pas résolus. </a:t>
            </a:r>
            <a:br>
              <a:rPr sz="1800"/>
            </a:br>
            <a:r>
              <a:rPr b="0" lang="fr-FR" sz="2600" spc="-1" strike="noStrike">
                <a:solidFill>
                  <a:srgbClr val="000000"/>
                </a:solidFill>
                <a:latin typeface="Constantia"/>
              </a:rPr>
              <a:t>  </a:t>
            </a:r>
            <a:br>
              <a:rPr sz="2600"/>
            </a:br>
            <a:endParaRPr b="0" lang="en-US" sz="2600" spc="-1" strike="noStrike">
              <a:solidFill>
                <a:srgbClr val="000000"/>
              </a:solidFill>
              <a:latin typeface="Constantia"/>
            </a:endParaRPr>
          </a:p>
        </p:txBody>
      </p:sp>
    </p:spTree>
  </p:cSld>
  <p:transition>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357120"/>
            <a:ext cx="8229600" cy="5967360"/>
          </a:xfrm>
          <a:prstGeom prst="rect">
            <a:avLst/>
          </a:prstGeom>
          <a:noFill/>
          <a:ln w="0">
            <a:noFill/>
          </a:ln>
        </p:spPr>
        <p:txBody>
          <a:bodyPr anchor="t">
            <a:normAutofit fontScale="98000"/>
          </a:bodyPr>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b0f0"/>
                </a:solidFill>
                <a:latin typeface="Constantia"/>
              </a:rPr>
              <a:t>conclusion</a:t>
            </a:r>
            <a:endParaRPr b="0" lang="en-US" sz="1800" spc="-1" strike="noStrike">
              <a:solidFill>
                <a:srgbClr val="000000"/>
              </a:solidFill>
              <a:latin typeface="Constantia"/>
            </a:endParaRPr>
          </a:p>
          <a:p>
            <a:pPr marL="267120" indent="-267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           </a:t>
            </a:r>
            <a:r>
              <a:rPr b="0" lang="fr-FR" sz="1600" spc="-1" strike="noStrike">
                <a:solidFill>
                  <a:srgbClr val="000000"/>
                </a:solidFill>
                <a:latin typeface="Constantia"/>
              </a:rPr>
              <a:t>l’absence d’institution de gestion et de suivi à l’échelle métropolitaine, tant administrative que politique, qui aurait pour tâche d’évaluer à moyen et long terme les conséquences de la mise en place de projets stratégiques au fur et à mesure de leur mise en oeuvre et d’adapter en fonction les projets nouveaux. La planification d’échelle métropolitaine n’a donc pas trouvé sa place dans le dispositif décisionnel libanais, malgré des tentatives environ tous les dix ans depuis les années 1960. Le paradoxe réside en définitive dans la cohérence relative, mais partielle, des réalisations par rapport aux perspectives énoncées dans cette planification . </a:t>
            </a:r>
            <a:endParaRPr b="0" lang="en-US" sz="1600" spc="-1" strike="noStrike">
              <a:solidFill>
                <a:srgbClr val="000000"/>
              </a:solidFill>
              <a:latin typeface="Constantia"/>
            </a:endParaRPr>
          </a:p>
          <a:p>
            <a:pPr marL="267120" indent="-267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           </a:t>
            </a:r>
            <a:r>
              <a:rPr b="0" lang="fr-FR" sz="1600" spc="-1" strike="noStrike">
                <a:solidFill>
                  <a:srgbClr val="000000"/>
                </a:solidFill>
                <a:latin typeface="Constantia"/>
              </a:rPr>
              <a:t>Plus fondamentalement, ce à quoi l’on assiste est la mise en oeuvre de politiques sectorielles ou locales d’équipements et d’infrastructures ainsi qu'à celle, au coup par coup, de quelques grands projets. Ces derniers rentrent formellement dans le cadre d’une planification métropolitaine, étant le fruit d’anticipations à l’échelle régionale et des négociations entre des acteurs privés stratégiquement placés et l’État, conducteur des politiques sectorielles et acteur incontournable, mais non unique, dans la définition des projets métropolitains. Le résultat de ce jeu d'acteurs sans repère où la planification n’est pas réellement prise en compte, est la mise en place de projets démesurés par rapport aux capacités de la métropole. Le développement urbain révèle rapidement l’incohérence économique de ces décisions. Cela conduit les décideurs à procéder à des ajustements à la baisse et à replacer leurs projets dans des durées (75 ans pour la reconstruction du centre-ville) qui dépassent largement celles proposées par tout exercice de prospective urbaine.</a:t>
            </a:r>
            <a:endParaRPr b="0" lang="en-US" sz="1600" spc="-1" strike="noStrike">
              <a:solidFill>
                <a:srgbClr val="000000"/>
              </a:solidFill>
              <a:latin typeface="Constantia"/>
            </a:endParaRPr>
          </a:p>
          <a:p>
            <a:pPr marL="267120" indent="-267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Politique d’aménagement au liban</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e9632"/>
                </a:solidFill>
                <a:latin typeface="Constantia"/>
              </a:rPr>
              <a:t>-La planification urbain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 planification spatiale du Liban comprend, d’une part, un système de planification urbaine, prévu</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par la législation de l’urbanisme, et présentant d’assez nombreuses imperfections (4.1) et d’ autr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part un document de planification stratégique établi à l’échelle de tout le pays, qui a été adopté e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ehors de la législation de l’urbanisme (4.2) mais qui a vocation à encadrer les plans locaux</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urbanisme et nécessite que le régime de ces derniers soit réformé (4.3).</a:t>
            </a:r>
            <a:endParaRPr b="0" lang="en-US" sz="2400" spc="-1" strike="noStrike">
              <a:solidFill>
                <a:srgbClr val="000000"/>
              </a:solidFill>
              <a:latin typeface="Constantia"/>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499680"/>
            <a:ext cx="8229600" cy="5824440"/>
          </a:xfrm>
          <a:prstGeom prst="rect">
            <a:avLst/>
          </a:prstGeom>
          <a:noFill/>
          <a:ln w="0">
            <a:noFill/>
          </a:ln>
        </p:spPr>
        <p:txBody>
          <a:bodyPr anchor="t">
            <a:normAutofit fontScale="91000"/>
          </a:bodyPr>
          <a:p>
            <a:pPr marL="248040" indent="-2480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f6fc6"/>
                </a:solidFill>
                <a:latin typeface="Constantia"/>
              </a:rPr>
              <a:t>Les imperfections du système de planification urbaine.</a:t>
            </a:r>
            <a:endParaRPr b="0" lang="en-US" sz="1600" spc="-1" strike="noStrike">
              <a:solidFill>
                <a:srgbClr val="000000"/>
              </a:solidFill>
              <a:latin typeface="Constantia"/>
            </a:endParaRPr>
          </a:p>
          <a:p>
            <a:pPr marL="248040" indent="-248040">
              <a:lnSpc>
                <a:spcPct val="7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 les échelles de planification</a:t>
            </a:r>
            <a:endParaRPr b="0" lang="en-US" sz="1500" spc="-1" strike="noStrike">
              <a:solidFill>
                <a:srgbClr val="000000"/>
              </a:solidFill>
              <a:latin typeface="Constantia"/>
            </a:endParaRPr>
          </a:p>
          <a:p>
            <a:pPr marL="248040" indent="-248040">
              <a:lnSpc>
                <a:spcPct val="7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Les articles 4 et suivants du decret‐loi du 9 septembre 1983, communément appelé code de</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l'urbanisme, prévoient trois niveaux de planification :</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 </a:t>
            </a:r>
            <a:r>
              <a:rPr b="0" lang="fr-FR" sz="1500" spc="-1" strike="noStrike">
                <a:solidFill>
                  <a:srgbClr val="000000"/>
                </a:solidFill>
                <a:latin typeface="Constantia"/>
              </a:rPr>
              <a:t>un plan d’aménagement du territoire national,</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 </a:t>
            </a:r>
            <a:r>
              <a:rPr b="0" lang="fr-FR" sz="1500" spc="-1" strike="noStrike">
                <a:solidFill>
                  <a:srgbClr val="000000"/>
                </a:solidFill>
                <a:latin typeface="Constantia"/>
              </a:rPr>
              <a:t>des plans et règlements directeurs qui « </a:t>
            </a:r>
            <a:r>
              <a:rPr b="0" i="1" lang="fr-FR" sz="1500" spc="-1" strike="noStrike">
                <a:solidFill>
                  <a:srgbClr val="000000"/>
                </a:solidFill>
                <a:latin typeface="Constantia"/>
              </a:rPr>
              <a:t>posent le cadre d’aménagement d’une localité et en</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Constantia"/>
              </a:rPr>
              <a:t>   </a:t>
            </a:r>
            <a:r>
              <a:rPr b="0" i="1" lang="fr-FR" sz="1500" spc="-1" strike="noStrike">
                <a:solidFill>
                  <a:srgbClr val="000000"/>
                </a:solidFill>
                <a:latin typeface="Constantia"/>
              </a:rPr>
              <a:t>définissent les règles et orientations essentielles » qui « constituent des documents de</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Constantia"/>
              </a:rPr>
              <a:t>   </a:t>
            </a:r>
            <a:r>
              <a:rPr b="0" i="1" lang="fr-FR" sz="1500" spc="-1" strike="noStrike">
                <a:solidFill>
                  <a:srgbClr val="000000"/>
                </a:solidFill>
                <a:latin typeface="Constantia"/>
              </a:rPr>
              <a:t>référence sur lesquelles doivent s’aligner les autres projets des administrations, des</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Constantia"/>
              </a:rPr>
              <a:t>   </a:t>
            </a:r>
            <a:r>
              <a:rPr b="0" i="1" lang="fr-FR" sz="1500" spc="-1" strike="noStrike">
                <a:solidFill>
                  <a:srgbClr val="000000"/>
                </a:solidFill>
                <a:latin typeface="Constantia"/>
              </a:rPr>
              <a:t>établissements publics et des municipalités »</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 </a:t>
            </a:r>
            <a:r>
              <a:rPr b="0" lang="fr-FR" sz="1500" spc="-1" strike="noStrike">
                <a:solidFill>
                  <a:srgbClr val="000000"/>
                </a:solidFill>
                <a:latin typeface="Constantia"/>
              </a:rPr>
              <a:t>des plans et règlements détaillés qui définissent des règles sur la base desquelles sont</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délivrées les autorisations d’urbanisme.</a:t>
            </a:r>
            <a:endParaRPr b="0" lang="en-US" sz="1500" spc="-1" strike="noStrike">
              <a:solidFill>
                <a:srgbClr val="000000"/>
              </a:solidFill>
              <a:latin typeface="Constantia"/>
            </a:endParaRPr>
          </a:p>
          <a:p>
            <a:pPr marL="248040" indent="-248040">
              <a:lnSpc>
                <a:spcPct val="7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Ni le plan d’aménagement du territoire national, ni les plans et règlements directeurs n’ont vu le</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jour. Seuls ont été élaborés des plans et règlements détaillés ; et encore, il ne semble pas qu’il en ait</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été élaboré pour toutes les localités où le decret‐loi oblige de le faire. Cette insuffisante couverture</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du territoire par les plans d’urbanisme tient pour une part au manque de moyens humains qui, dans</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le système très centralisé du Liban, relèvent de la Direction générale de l’urbanisme ; mais elle est</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aussi et surtout la conséquence de la législation de la construction qui attribue aux terrains situés</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dans des territoires non couverts par un plan d’urbanisme des droits de construire très significatifs</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voir infra) : on comprend dès lors la résistance à l’élaboration de plans qui, en distinguant entre des</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zones constructibles et non constructibles, privent un certain nombre de propriétaires de leurs</a:t>
            </a:r>
            <a:endParaRPr b="0" lang="en-US" sz="1500" spc="-1" strike="noStrike">
              <a:solidFill>
                <a:srgbClr val="000000"/>
              </a:solidFill>
              <a:latin typeface="Constantia"/>
            </a:endParaRPr>
          </a:p>
          <a:p>
            <a:pPr marL="248040" indent="-248040">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nstantia"/>
              </a:rPr>
              <a:t>   </a:t>
            </a:r>
            <a:r>
              <a:rPr b="0" lang="fr-FR" sz="1500" spc="-1" strike="noStrike">
                <a:solidFill>
                  <a:srgbClr val="000000"/>
                </a:solidFill>
                <a:latin typeface="Constantia"/>
              </a:rPr>
              <a:t>droits de construire.</a:t>
            </a:r>
            <a:endParaRPr b="0" lang="en-US" sz="1500" spc="-1" strike="noStrike">
              <a:solidFill>
                <a:srgbClr val="000000"/>
              </a:solidFill>
              <a:latin typeface="Constantia"/>
            </a:endParaRPr>
          </a:p>
        </p:txBody>
      </p: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357120"/>
            <a:ext cx="8229600" cy="5967360"/>
          </a:xfrm>
          <a:prstGeom prst="rect">
            <a:avLst/>
          </a:prstGeom>
          <a:noFill/>
          <a:ln w="0">
            <a:noFill/>
          </a:ln>
        </p:spPr>
        <p:txBody>
          <a:bodyPr anchor="t">
            <a:normAutofit fontScale="95000"/>
          </a:bodyPr>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Le contenu des plans</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       </a:t>
            </a:r>
            <a:r>
              <a:rPr b="0" lang="fr-FR" sz="1400" spc="-1" strike="noStrike">
                <a:solidFill>
                  <a:srgbClr val="000000"/>
                </a:solidFill>
                <a:latin typeface="Constantia"/>
              </a:rPr>
              <a:t>Le decret‐loi prévoit bien au travers des plans d’urbanisme une multiplicité de moyens d’intervention</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sur l’usage du sol: zonage, détermination de règles applicables à l’édification des bâtiments, densité</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déterminée par un coefficient d’exploitation), emplacements réservés pour les voies et ouvrages</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publics ; il semble d’ailleurs que certains des outils soient peu ou pas utilisés en pratique, comme</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c’est le cas de la délimitation de quartiers, rues et bâtiments historiques à préserver. Mais il manque</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dans les plans une étude générale rendant compte du parti d’urbanisme retenu et expliquant les</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raisons des restrictions apportées au droit de propriété. Ce défaut est d’autant plus préoccupant que</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l’absence de plans directeurs n’offre pas la possibilité de se référer aux stratégies urbaines qui</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auraient pu être exposées dans ces documents supérieurs.</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a:t>
            </a:r>
            <a:r>
              <a:rPr b="0" lang="fr-FR" sz="1800" spc="-1" strike="noStrike">
                <a:solidFill>
                  <a:srgbClr val="000000"/>
                </a:solidFill>
                <a:latin typeface="Constantia"/>
              </a:rPr>
              <a:t>L’obstacle lié aux règles d’indemnisation des servitudes d’urbanisme</a:t>
            </a:r>
            <a:endParaRPr b="0" lang="en-US" sz="1800" spc="-1" strike="noStrike">
              <a:solidFill>
                <a:srgbClr val="000000"/>
              </a:solidFill>
              <a:latin typeface="Constantia"/>
            </a:endParaRPr>
          </a:p>
          <a:p>
            <a:pPr marL="259200" indent="-2592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      </a:t>
            </a:r>
            <a:r>
              <a:rPr b="0" lang="fr-FR" sz="1400" spc="-1" strike="noStrike">
                <a:solidFill>
                  <a:srgbClr val="000000"/>
                </a:solidFill>
                <a:latin typeface="Constantia"/>
              </a:rPr>
              <a:t>Le decret‐loi pose le principe de la non indemnisation des servitudes d’urbanisme mais en lui</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apportant une exception de taille, concernant les servitudes non aedificandi à caractère permanent ;</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nstantia"/>
              </a:rPr>
              <a:t>selon l’article 17 du decret‐loi, « </a:t>
            </a:r>
            <a:r>
              <a:rPr b="0" i="1" lang="fr-FR" sz="1400" spc="-1" strike="noStrike">
                <a:solidFill>
                  <a:srgbClr val="000000"/>
                </a:solidFill>
                <a:latin typeface="Constantia"/>
              </a:rPr>
              <a:t>L’indemnisation devra être calculée sur la base de la valeur moyenne</a:t>
            </a:r>
            <a:endParaRPr b="0" lang="en-US" sz="1400" spc="-1" strike="noStrike">
              <a:solidFill>
                <a:srgbClr val="000000"/>
              </a:solidFill>
              <a:latin typeface="Constantia"/>
            </a:endParaRPr>
          </a:p>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nstantia"/>
              </a:rPr>
              <a:t>du bien‐fonds avant et après l’imposition de la servitude (…). Le montant de l’indemnité est égal à la</a:t>
            </a:r>
            <a:endParaRPr b="0" lang="en-US" sz="1400" spc="-1" strike="noStrike">
              <a:solidFill>
                <a:srgbClr val="000000"/>
              </a:solidFill>
              <a:latin typeface="Constantia"/>
            </a:endParaRPr>
          </a:p>
          <a:p>
            <a:pPr marL="259200" indent="-25920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Constantia"/>
              </a:rPr>
              <a:t>moitié de la différence entre les deux valeurs ». Il est vrai que la portée de la reconnaissance </a:t>
            </a:r>
            <a:r>
              <a:rPr b="0" i="1" lang="fr-FR" sz="1200" spc="-1" strike="noStrike">
                <a:solidFill>
                  <a:srgbClr val="000000"/>
                </a:solidFill>
                <a:latin typeface="Constantia"/>
              </a:rPr>
              <a:t>du droit</a:t>
            </a:r>
            <a:endParaRPr b="0" lang="en-US" sz="1200" spc="-1" strike="noStrike">
              <a:solidFill>
                <a:srgbClr val="000000"/>
              </a:solidFill>
              <a:latin typeface="Constantia"/>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Structure urbaine de beyrouth</a:t>
            </a:r>
            <a:endParaRPr b="0" lang="en-US" sz="5000" spc="-1" strike="noStrike">
              <a:solidFill>
                <a:srgbClr val="04617b"/>
              </a:solidFill>
              <a:latin typeface="Calibri"/>
            </a:endParaRPr>
          </a:p>
        </p:txBody>
      </p:sp>
      <p:sp>
        <p:nvSpPr>
          <p:cNvPr id="206" name=""/>
          <p:cNvSpPr txBox="1"/>
          <p:nvPr/>
        </p:nvSpPr>
        <p:spPr>
          <a:xfrm>
            <a:off x="357120" y="1934640"/>
            <a:ext cx="8329680" cy="438948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Selon les estimations disponibles, la population du Grand Beyrouth aurait atteint, en 1997, 1,3 million (CDR, 2002), ce qui représenterait 33% de la population libanaise. Après une période de très forte croissance entre l’indépendance en 1943 et la guerre civile qui a commencé en 1975, passant d’environ 400 000 habitants à 1,1 million en 1970, la population de la capitale a presque stagné (Bourgey, 1970).</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Plusieurs définitions administratives ou opérationnelles de l’agglomération beyrouthine ont été proposées depuis les années 1960 (Davie, 1995; Verdeil, 2002, p. 119, 254, 405-407). Depuis la fin des années 1980, plusieurs études utilisant l’imagerie satellite ou traditionnelle se sont attachées à cette question, en se fondant sur des notions probabilistes (Jamel </a:t>
            </a:r>
            <a:r>
              <a:rPr b="0" i="1" lang="fr-FR" sz="1600" spc="-1" strike="noStrike">
                <a:solidFill>
                  <a:srgbClr val="000000"/>
                </a:solidFill>
                <a:latin typeface="Constantia"/>
              </a:rPr>
              <a:t>et al.</a:t>
            </a:r>
            <a:r>
              <a:rPr b="0" lang="fr-FR" sz="1600" spc="-1" strike="noStrike">
                <a:solidFill>
                  <a:srgbClr val="000000"/>
                </a:solidFill>
                <a:latin typeface="Constantia"/>
              </a:rPr>
              <a:t>, 1994; Kamal </a:t>
            </a:r>
            <a:r>
              <a:rPr b="0" i="1" lang="fr-FR" sz="1600" spc="-1" strike="noStrike">
                <a:solidFill>
                  <a:srgbClr val="000000"/>
                </a:solidFill>
                <a:latin typeface="Constantia"/>
              </a:rPr>
              <a:t>et al.</a:t>
            </a:r>
            <a:r>
              <a:rPr b="0" lang="fr-FR" sz="1600" spc="-1" strike="noStrike">
                <a:solidFill>
                  <a:srgbClr val="000000"/>
                </a:solidFill>
                <a:latin typeface="Constantia"/>
              </a:rPr>
              <a:t>, 1994) ou sur le bâti (Arnaud, 1997). Faute de cohérence entre les critères utilisés aux différentes dates, ces travaux ne permettent pas de mesurer la croissance urbaine. Malgré la contribution majeure de l’Institut d’aménagement et d’urbanisme de la région d’Île-de-France, dans sa coopération avec le Conseil du développement et de la reconstruction, cette lacune caractérise aussi ses travaux cartographiques (CDR, 1984, 1986, 1999, 2002; IAURIF, 1989). On ne dispose que d’une étude récente, utilisant une méthode de classification automatique pour extraire l’urbain de données satellitaires, pour la période 1994-1998 (Zaarour </a:t>
            </a:r>
            <a:r>
              <a:rPr b="0" i="1" lang="fr-FR" sz="1600" spc="-1" strike="noStrike">
                <a:solidFill>
                  <a:srgbClr val="000000"/>
                </a:solidFill>
                <a:latin typeface="Constantia"/>
              </a:rPr>
              <a:t>et al.</a:t>
            </a:r>
            <a:r>
              <a:rPr b="0" lang="fr-FR" sz="1600" spc="-1" strike="noStrike">
                <a:solidFill>
                  <a:srgbClr val="000000"/>
                </a:solidFill>
                <a:latin typeface="Constantia"/>
              </a:rPr>
              <a:t>, 2002).</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357120"/>
            <a:ext cx="8229600" cy="59673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Parmi les enjeux liés à cette mesure d’une agglomération en croissance rapide, figure la question du lien entre le contexte politique et l’urbanisation. Les discours souvent tenus au Liban font de la guerre civile (1975-1990) un facteur essentiel dans le changement des paysages et l’extension urbaine (CDR, 2002; Arnaud, 1997). Mesurer et dater les grandes scansions de l’urbanisation, même approximativement, apporte des éléments de réponse à cette question. Que l’urbanisation ne soit pas produite uniquement en période de guerre, mais apparaisse liée à la reconstruction, renvoie à d’autres modes d’explications et en particulier au rôle, même indirect, de l’État (Huybrechts, Verdeil, 2000). Enfin, dernier point, la question est, à travers une meilleure connaissance de la croissance de Beyrouth, de la mettre en regard des évolutions spectaculaires qu’ont connues les grandes métropoles de la région.</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Cet article vise à suivre l’évolution de l’urbanisation beyrouthine depuis 1963 jusqu’à 2003 à l’échelle de 1/20 000 en interprétant des cartes et images satellitaires. Il propose ainsi une définition de l’agglomération de Beyrouth et de son évolution, et offre une interprétation des modalités physiques de sa croissance en utilisant le système d’information géographique (SIG). Il permet de cerner les effets des périodes de la guerre (1975-1990) et de la reconstruction sur celle-ci (</a:t>
            </a:r>
            <a:r>
              <a:rPr b="0" lang="fr-FR" sz="2000" spc="-1" strike="noStrike" u="sng">
                <a:solidFill>
                  <a:srgbClr val="000000"/>
                </a:solidFill>
                <a:uFillTx/>
                <a:latin typeface="Constantia"/>
              </a:rPr>
              <a:t>1</a:t>
            </a:r>
            <a:r>
              <a:rPr b="0" lang="fr-FR" sz="2000" spc="-1" strike="noStrike">
                <a:solidFill>
                  <a:srgbClr val="000000"/>
                </a:solidFill>
                <a:latin typeface="Constantia"/>
              </a:rPr>
              <a: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428400"/>
            <a:ext cx="8229600" cy="5895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76a3"/>
                </a:solidFill>
                <a:latin typeface="Constantia"/>
              </a:rPr>
              <a:t>Les formes de l’urbanis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9" name="Image 3" descr="http://mappemonde.mgm.fr/num7/articles/beyrouth2.png"/>
          <p:cNvPicPr/>
          <p:nvPr/>
        </p:nvPicPr>
        <p:blipFill>
          <a:blip r:embed="rId1"/>
          <a:stretch/>
        </p:blipFill>
        <p:spPr>
          <a:xfrm>
            <a:off x="214200" y="928800"/>
            <a:ext cx="4143600" cy="5143320"/>
          </a:xfrm>
          <a:prstGeom prst="rect">
            <a:avLst/>
          </a:prstGeom>
          <a:ln w="0">
            <a:noFill/>
          </a:ln>
        </p:spPr>
      </p:pic>
      <p:pic>
        <p:nvPicPr>
          <p:cNvPr id="210" name="Image 4" descr="http://mappemonde.mgm.fr/num7/articles/Beyrouth3.png"/>
          <p:cNvPicPr/>
          <p:nvPr/>
        </p:nvPicPr>
        <p:blipFill>
          <a:blip r:embed="rId2"/>
          <a:stretch/>
        </p:blipFill>
        <p:spPr>
          <a:xfrm>
            <a:off x="4429080" y="928800"/>
            <a:ext cx="3929040" cy="5143320"/>
          </a:xfrm>
          <a:prstGeom prst="rect">
            <a:avLst/>
          </a:prstGeom>
          <a:ln w="0">
            <a:noFill/>
          </a:ln>
        </p:spPr>
      </p:pic>
      <p:sp>
        <p:nvSpPr>
          <p:cNvPr id="211" name="Rectangle 5"/>
          <p:cNvSpPr/>
          <p:nvPr/>
        </p:nvSpPr>
        <p:spPr>
          <a:xfrm>
            <a:off x="142920" y="6215040"/>
            <a:ext cx="407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rPr>
              <a:t>Délimitation de l’agglomération de Beyrouth</a:t>
            </a:r>
            <a:r>
              <a:rPr b="0" lang="fr-FR" sz="1400" spc="-1" strike="noStrike">
                <a:solidFill>
                  <a:srgbClr val="000000"/>
                </a:solidFill>
                <a:latin typeface="Constantia"/>
              </a:rPr>
              <a:t> </a:t>
            </a:r>
            <a:endParaRPr b="0" lang="en-US" sz="1400" spc="-1" strike="noStrike">
              <a:solidFill>
                <a:srgbClr val="000000"/>
              </a:solidFill>
              <a:latin typeface="Arial"/>
            </a:endParaRPr>
          </a:p>
        </p:txBody>
      </p:sp>
      <p:sp>
        <p:nvSpPr>
          <p:cNvPr id="212" name="Rectangle 6"/>
          <p:cNvSpPr/>
          <p:nvPr/>
        </p:nvSpPr>
        <p:spPr>
          <a:xfrm>
            <a:off x="4780080" y="6215040"/>
            <a:ext cx="294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rPr>
              <a:t>Urbanisation, pente et altitude</a:t>
            </a:r>
            <a:endParaRPr b="0" lang="en-US" sz="1400" spc="-1" strike="noStrike">
              <a:solidFill>
                <a:srgbClr val="000000"/>
              </a:solidFill>
              <a:latin typeface="Arial"/>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10:02:15Z</dcterms:created>
  <dc:creator>SWEET</dc:creator>
  <dc:description/>
  <dc:language>en-US</dc:language>
  <cp:lastModifiedBy>SWEET</cp:lastModifiedBy>
  <dcterms:modified xsi:type="dcterms:W3CDTF">2011-06-09T12:20:22Z</dcterms:modified>
  <cp:revision>37</cp:revision>
  <dc:subject/>
  <dc:title>Métropole de beiyrouth </dc:title>
</cp:coreProperties>
</file>