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5.jpeg" ContentType="image/jpeg"/>
  <Override PartName="/ppt/media/Il%20silenzio%20Nino%20Rosso.wav" ContentType="audio/x-wav"/>
  <Override PartName="/ppt/media/image14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ED65-C149-4409-A410-42D9AC1B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B1D-F198-412A-B332-8CF37E6E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618-0DEB-4B25-B973-D20CF9CD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ABD-BC39-4D66-A19E-681F85FA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6ACA-3E51-412E-BE9E-0D242D16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6F3-000B-41D0-BA62-0596AA38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BDE-FE1D-48D4-825B-DE34D4BB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B457-E97C-4E01-A79D-B2775359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DCE-1B28-49EE-BFE5-563B9B4F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6121-5755-49FA-8C3A-992E701C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995-DC88-41CE-97A4-80FBE5AF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5A9-0342-42EF-80DB-7E66D92F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9FAF-3CEC-4366-B50A-9599C92D4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Il%20silenzio%20Nino%20Rosso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image" Target="../media/image20.gif"/><Relationship Id="rId6" Type="http://schemas.openxmlformats.org/officeDocument/2006/relationships/hyperlink" Target="mailto:dcalistrat@aol.com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1523880"/>
            <a:ext cx="79250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UXURY LIBRARIES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EUROPE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601992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IC: IL SILENZIO  TRUMPET NINO RO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5410080"/>
            <a:ext cx="2209680" cy="112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  <p:sndAc>
      <p:stSnd>
        <p:snd r:embed="rId3" name="Il%20silenzio%20Nino%20Ross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59436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bliothèque de l’Abbaye de Saint-Florian, Autriche. ©Ahmet Ert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64771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bliothèque de l’Abbaye de Saint-Gallen, Suisse. ©Ahmet Ert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bliothèque nationale de Tchécoslovaquie, Prague, Tchécoslovaquie. ©Ahmet Ert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64771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bliothèque du Trinity College de Dublin, Irlande. ©Ahmet Ert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4008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bliothèque bénédictine de l’Abbaye de Metten, Allemagne. ©Ahmet Ert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0492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248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bliothèque de l’Abbaye de Waldassen, Bavière, Allemagne. ©Ahmet Ertu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1905120" cy="1589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343400" y="1905120"/>
            <a:ext cx="2057400" cy="1681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514600" y="1981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6934320" y="1905120"/>
            <a:ext cx="164448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880" y="3049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ow go to your library and enjoy reading a good 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800600"/>
            <a:ext cx="4419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BY DAN CALISTRA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calistrat@aol.co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TURES FROM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5105520" y="39625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324480"/>
            <a:ext cx="7925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bliothèque du Monastère de Wiblingen, Allemagne. ©Ahmet Ertug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0"/>
            <a:ext cx="8686800" cy="6515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blioteca Angelica, Rome, Italie. ©Ahmet Ert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-152280"/>
            <a:ext cx="8763120" cy="6572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53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blioteca Di bella Arti, Milan, Italie. ©Ahmet Ert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38088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553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bliothèque Sainte-Geneviève, Paris, France. ©Ahmet Ert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-45720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52280" y="6477120"/>
            <a:ext cx="96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bliothèque nationale de France, site Richelieu, salle Labrouste, Paris, France, 200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-38088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bliothèque nationale de France, site Richelieu, salle Ovale, Paris, France, 200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-38088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553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exe de la Bibliothèque du Sénat, Paris, France. ©Ahmet Ert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0"/>
            <a:ext cx="8382240" cy="6286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icton Reading Room, Liverpool Public Library, Angleterre. ©Ahmet Ert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20:44:41Z</dcterms:created>
  <dc:creator>dan</dc:creator>
  <dc:description/>
  <dc:language>en-US</dc:language>
  <cp:lastModifiedBy>dan</cp:lastModifiedBy>
  <dcterms:modified xsi:type="dcterms:W3CDTF">2009-05-23T21:36:06Z</dcterms:modified>
  <cp:revision>5</cp:revision>
  <dc:subject/>
  <dc:title>Photo Album</dc:title>
</cp:coreProperties>
</file>