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l%20silenzio%20Nino%20Rosso.wav" ContentType="audio/x-wav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E2E-684D-4E7D-B112-9CFB5BB3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ECB-CCDD-4D6E-8648-E522231D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0DB-444F-47FF-8654-4776D2DF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9C3-E1F0-46F2-92AC-6AA31A6B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15D-11BC-4772-9174-66D62F71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443-F264-42EA-AA39-D039D32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5A1-7F1E-4BCF-8A5D-A8B74209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CDB-125D-4B59-A030-389724A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BF1-1A6F-4C62-89EA-C5D155B3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C58-307B-4737-A21D-DBFD2C0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7E6-9397-4D07-8506-0C251BD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0B4-8914-4E05-AEC4-618FB0A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1CD-CFEA-4095-ABC4-76F2E9D0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Il%20silenzio%20Nino%20Rosso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hyperlink" Target="mailto:dcalistrat@aol.com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523880"/>
            <a:ext cx="7925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UXURY LIBRARIES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EUROPE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60199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IC: IL SILENZIO  TRUMPET NINO 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2209680" cy="11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  <p:sndAc>
      <p:stSnd>
        <p:snd r:embed="rId3" name="Il%20silenzio%20Nino%20Ros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5943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Saint-Florian, Autrich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477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Saint-Gallen, Suiss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Tchécoslovaquie, Prague, Tchécoslovaqui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6477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u Trinity College de Dublin, Irland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400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bénédictine de l’Abbaye de Metten, Allemagn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0492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248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thèque de l’Abbaye de Waldassen, Bavière, Allemagne. ©Ahmet Ertu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905120" cy="158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2057400" cy="16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14600" y="1981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164448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w go to your library and enjoy reading a good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8006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BY DAN CALISTRA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calistrat@aol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 FROM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105520" y="39625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324480"/>
            <a:ext cx="7925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du Monastère de Wiblingen, Allemagne. ©Ahmet Ertug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8686800" cy="651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eca Angelica, Rome, Italie. ©Ahmet Ert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-152280"/>
            <a:ext cx="8763120" cy="6572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eca Di bella Arti, Milan, Itali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Sainte-Geneviève, Paris, France. ©Ahmet Ert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45720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2280" y="6477120"/>
            <a:ext cx="96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France, site Richelieu, salle Labrouste, Paris, France, 200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bliothèque nationale de France, site Richelieu, salle Ovale, Paris, France, 200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38088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exe de la Bibliothèque du Sénat, Paris, France. ©Ahmet Ert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0"/>
            <a:ext cx="8382240" cy="6286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icton Reading Room, Liverpool Public Library, Angleterre. ©Ahmet Ert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4:41Z</dcterms:created>
  <dc:creator>dan</dc:creator>
  <dc:description/>
  <dc:language>en-US</dc:language>
  <cp:lastModifiedBy>dan</cp:lastModifiedBy>
  <dcterms:modified xsi:type="dcterms:W3CDTF">2009-05-23T21:36:06Z</dcterms:modified>
  <cp:revision>5</cp:revision>
  <dc:subject/>
  <dc:title>Photo Album</dc:title>
</cp:coreProperties>
</file>