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179AF-A6F8-4791-8665-9DFD60EA9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7721A-F615-455D-B330-FFA196AD4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22927-3ED2-409B-AB42-FB8C17AA1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F3E13-C793-47F9-8052-2141C6EAA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CF814-47F4-4555-ADA8-8F37B67CB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3F19B-02A5-4951-AF01-4B30A1DA1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E1DD4-1F09-4754-84AF-E61839E11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62B94-528C-44DA-8063-6149D9FA5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73074-F250-4813-A2A4-CF5973BA4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9728B-5AF0-4F47-B5CB-28351883A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0BE3E-176C-40D1-A711-D0D111D39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904F1-8047-4321-96E4-0AE1BC853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BCB5-BB5B-4DD8-AAC2-23B8BD9A91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9"/>
          <p:cNvSpPr/>
          <p:nvPr/>
        </p:nvSpPr>
        <p:spPr>
          <a:xfrm>
            <a:off x="380880" y="971280"/>
            <a:ext cx="8534520" cy="512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Times New Roman"/>
              </a:rPr>
              <a:t>PHÒNG GIÁO DỤC ĐÀO TẠO PHÚ GIÁ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Times New Roman"/>
                <a:ea typeface="Times New Roman"/>
              </a:rPr>
              <a:t>Tập huấn</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Times New Roman"/>
                <a:ea typeface="Times New Roman"/>
              </a:rPr>
              <a:t>TÍCH HỢP NỘI DUNG PHỔ BIẾN GIÁO DỤC PHÁP LUẬT THCS</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ea typeface="Times New Roman"/>
              </a:rPr>
              <a:t>Môn: GDC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380880" y="500040"/>
            <a:ext cx="8458200" cy="583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33ff"/>
                </a:solidFill>
                <a:latin typeface="Times New Roman"/>
                <a:ea typeface="Times New Roman"/>
              </a:rPr>
              <a: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0000"/>
                </a:solidFill>
                <a:latin typeface="Times New Roman"/>
                <a:ea typeface="Times New Roman"/>
              </a:rPr>
              <a:t>HƯỚNG DẪN KIỂM TRA ĐÁNH GIÁ MÔN GDCD CÓ NỘI DUNG TÍCH HỢP PHỔ BIẾN GIÁO DỤC PHÁP LUẬ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700" spc="-1" strike="noStrike">
                <a:solidFill>
                  <a:srgbClr val="000000"/>
                </a:solidFill>
                <a:latin typeface="Times New Roman"/>
                <a:ea typeface="Times New Roman"/>
              </a:rPr>
              <a:t>Kiểm tra, đánh giá các bài có tích hợp nội dung phổ biến giáo dục pháp luật trong môn GDCD chịu sự chi phối của yêu cầu đổi mới kiểm tra đánh giá môn GDCD.</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rong kiểm tra, đánh giá kết quả học tập của học sinh cần bám sát vào Chuẩn kiến thức, kĩ năng và nội dung tích hợp phổ biến giáo dục pháp luật để kiểm tra, đánh giá, đảm bảo các yêu cầu cơ bản, tối thiểu về kiến thức, kĩ năng, yêu cầu về thái độ và nội dung tích hợp sau mỗi bài, mỗi chủ đề (chương), mỗi lớp học. Tránh tình trạng không thống nhất giữa dạy học và kiểm tra, đánh giá.</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209520" y="398160"/>
            <a:ext cx="853452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Phải đảm bảo sự cân đối các yêu cầu kiểm tra về kiến thức (nhớ, hiểu, vận dụng), rèn luyện kỹ năng và yêu cầu về thái độ đối với học sinh và hướng dẫn học sinh biết tự đánh giá kết quả học tập, rèn luyện năng lực tự học và tư duy độc lập ( cả KT và K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Khắc phục tình trạng thiên về kiểm tra ghi nhớ kiến thức; tăng cường ra đề “mở” nhằm kiểm tra mức độ </a:t>
            </a:r>
            <a:r>
              <a:rPr b="0" i="1" lang="en-US" sz="2400" spc="-1" strike="noStrike">
                <a:solidFill>
                  <a:srgbClr val="000000"/>
                </a:solidFill>
                <a:latin typeface="Times New Roman"/>
                <a:ea typeface="Times New Roman"/>
              </a:rPr>
              <a:t>thông hiểu</a:t>
            </a:r>
            <a:r>
              <a:rPr b="0" lang="en-US" sz="2400" spc="-1" strike="noStrike">
                <a:solidFill>
                  <a:srgbClr val="000000"/>
                </a:solidFill>
                <a:latin typeface="Times New Roman"/>
                <a:ea typeface="Times New Roman"/>
              </a:rPr>
              <a:t> và </a:t>
            </a:r>
            <a:r>
              <a:rPr b="0" i="1" lang="en-US" sz="2400" spc="-1" strike="noStrike">
                <a:solidFill>
                  <a:srgbClr val="000000"/>
                </a:solidFill>
                <a:latin typeface="Times New Roman"/>
                <a:ea typeface="Times New Roman"/>
              </a:rPr>
              <a:t>vận dụng tổng hợp tri thức </a:t>
            </a:r>
            <a:r>
              <a:rPr b="0" lang="en-US" sz="2400" spc="-1" strike="noStrike">
                <a:solidFill>
                  <a:srgbClr val="000000"/>
                </a:solidFill>
                <a:latin typeface="Times New Roman"/>
                <a:ea typeface="Times New Roman"/>
              </a:rPr>
              <a:t>để giải quyết vấn đề; rèn luyện các kỹ năng và học sinh được tự do biểu đạt chính kiến khi trình bày </a:t>
            </a:r>
            <a:r>
              <a:rPr b="0" lang="en-US" sz="2400" spc="-1" strike="noStrike">
                <a:solidFill>
                  <a:srgbClr val="3333ff"/>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Vận dụng linh hoạt các hình thức và xác định rõ yêu cầu về KTĐG phù hợp với thời lượng và tính chất đề kiểm t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304920" y="328680"/>
            <a:ext cx="8534160" cy="5640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ea typeface="Times New Roman"/>
              </a:rPr>
              <a:t>Cần giảm nhẹ yêu cầu kiểm tra tái hiện kiến thức. Tăng cư­ờng yêu cầu HS vận dụng kiến thức theo h­ướng câu hỏi “mở” để HS liên hệ, phân tích, bình luận biểu đạt chính kiến và định h­ướng hành vi của mình. </a:t>
            </a:r>
            <a:endParaRPr b="0" lang="en-US" sz="3200" spc="-1" strike="noStrike">
              <a:solidFill>
                <a:srgbClr val="000000"/>
              </a:solidFill>
              <a:latin typeface="Arial"/>
            </a:endParaRPr>
          </a:p>
          <a:p>
            <a:pPr marL="343080" indent="-343080" algn="just">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ea typeface="Times New Roman"/>
              </a:rPr>
              <a:t>Cần xác lập đ­ược các quan hệ đánh giá: giữa thầy với trò, giữa trò với trò, tự đánh giá của bản thân HS. Kết hợp một cách hợp lí câu hỏi tự luận và trắc nghiệm khách quan trong kiểm tra, đánh giá môn GDCD. </a:t>
            </a:r>
            <a:endParaRPr b="0" lang="en-US" sz="3200" spc="-1" strike="noStrike">
              <a:solidFill>
                <a:srgbClr val="000000"/>
              </a:solidFill>
              <a:latin typeface="Arial"/>
            </a:endParaRPr>
          </a:p>
          <a:p>
            <a:pPr marL="343080" indent="-343080">
              <a:lnSpc>
                <a:spcPct val="130000"/>
              </a:lnSpc>
              <a:spcBef>
                <a:spcPts val="300"/>
              </a:spcBef>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314280" y="617040"/>
            <a:ext cx="853452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Kiểm tra, đánh giá thường xuyên: Bao gồm kiểm tra miệng (cho điểm hoặc đánh giá bằng nhận xét) cần vận dụng linh hoạt giữa câu hỏi trắc nghiệm và tự luận. Khi kiểm tra miệng, cần chú ý rèn luyện kỹ năng nói, kỹ năng diễn đạt trước tập th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Trong kiểm tra, đánh giá học kì cần chú trọng đánh giá kỹ năng phân tích, tổng hợp, khái quát hoá kiến thức, rèn luyện khả năng vận dụng các kiến thức vào giải quyết các vấn đề trong học tập và thực tiễn, đặc biệt chú ý kỹ năng viết, kỹ năng trình bày một vấn đ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304920" y="-42120"/>
            <a:ext cx="8534160" cy="694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Times New Roman"/>
                <a:ea typeface="Times New Roman"/>
              </a:rPr>
              <a:t> </a:t>
            </a:r>
            <a:r>
              <a:rPr b="0" lang="en-US" sz="2200" spc="-1" strike="noStrike">
                <a:solidFill>
                  <a:srgbClr val="000000"/>
                </a:solidFill>
                <a:latin typeface="Times New Roman"/>
                <a:ea typeface="Times New Roman"/>
              </a:rPr>
              <a:t>-</a:t>
            </a:r>
            <a:r>
              <a:rPr b="0" lang="en-US" sz="2200" spc="-1" strike="noStrike">
                <a:solidFill>
                  <a:srgbClr val="3333ff"/>
                </a:solidFill>
                <a:latin typeface="Times New Roman"/>
                <a:ea typeface="Times New Roman"/>
              </a:rPr>
              <a:t> </a:t>
            </a:r>
            <a:r>
              <a:rPr b="0" lang="en-US" sz="2200" spc="-1" strike="noStrike">
                <a:solidFill>
                  <a:srgbClr val="000000"/>
                </a:solidFill>
                <a:latin typeface="Times New Roman"/>
                <a:ea typeface="Times New Roman"/>
              </a:rPr>
              <a:t>Khuyến khích vận dụng các hình thức kiểm tra đánh giá thông qua các hoạt động học tập ngoài lớp học của học sinh nh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Hoạt động thực hành như:  </a:t>
            </a:r>
            <a:r>
              <a:rPr b="0" lang="da-DK" sz="2200" spc="-1" strike="noStrike">
                <a:solidFill>
                  <a:srgbClr val="000000"/>
                </a:solidFill>
                <a:latin typeface="Times New Roman"/>
                <a:ea typeface="Times New Roman"/>
              </a:rPr>
              <a:t>các hoạt động góp phần bảo vệ môi trường ở trường, ở địa phương; các hoạt động đền ơn đáp nghĩa; tuyên truyền chính sách dân số kế hoạch hoá gia đình, tuyên truyền nghĩa vụ quân sự ...</a:t>
            </a: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Hoạt động thực tế: </a:t>
            </a:r>
            <a:r>
              <a:rPr b="0" lang="da-DK" sz="2200" spc="-1" strike="noStrike">
                <a:solidFill>
                  <a:srgbClr val="000000"/>
                </a:solidFill>
                <a:latin typeface="Times New Roman"/>
                <a:ea typeface="Times New Roman"/>
              </a:rPr>
              <a:t>Có thể tổ chức cho học sinh đi tham quan các các chiến khu xưa, thăm và gặp gỡ các cựu chiến binh, các bà mẹ Việt Nam anh hùng; tham quan các công trình lớn, những nơi bị ảnh hưởng nặng nề của tình trạng ô nhiễm môi trường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Times New Roman"/>
                <a:ea typeface="Times New Roman"/>
              </a:rPr>
              <a:t>+ Hoạt động ngoại khóa :Tổ chức cho học sinh nghe nói chuyện, giao lưu về thực hiện nghĩa vụ quân sự, bảo vệ môi trường, tài nguyên thiên nhiên, công tác dân số ... Tổ chức các cuộc thi về các chủ đề công dân với tình yêu, hôn nhân và gia đình, công dân với sự nghiệp xây dựng và bảo vệ Tổ quốc</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ác hình thức kiểm thông qua các hoạt động học tập ngoài lớp đều lấy điểm thay cho các bài kiểm tra trong lớp học</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808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1"/>
          <p:cNvSpPr/>
          <p:nvPr/>
        </p:nvSpPr>
        <p:spPr>
          <a:xfrm>
            <a:off x="762120" y="685800"/>
            <a:ext cx="701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tra, đánh giá không chỉ dựa vào phần đánh giá của giáo viên mà </a:t>
            </a:r>
            <a:r>
              <a:rPr b="0" lang="en-US" sz="1800" spc="-1" strike="noStrike">
                <a:solidFill>
                  <a:srgbClr val="ff0000"/>
                </a:solidFill>
                <a:latin typeface="Arial"/>
              </a:rPr>
              <a:t>đánh giá bằng nhiều lực lượng giáo dục trong nhà trường</a:t>
            </a:r>
            <a:r>
              <a:rPr b="0" lang="en-US" sz="1800" spc="-1" strike="noStrike">
                <a:solidFill>
                  <a:srgbClr val="000000"/>
                </a:solidFill>
                <a:latin typeface="Arial"/>
              </a:rPr>
              <a:t>( phụ huynh học sinh, sự theo dõi liên độ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02:58:37Z</dcterms:created>
  <dc:creator>Windows xp sp2 Full</dc:creator>
  <dc:description/>
  <dc:language>en-US</dc:language>
  <cp:lastModifiedBy>Admin</cp:lastModifiedBy>
  <dcterms:modified xsi:type="dcterms:W3CDTF">2019-08-02T05:44:07Z</dcterms:modified>
  <cp:revision>307</cp:revision>
  <dc:subject/>
  <dc:title>Slide 1</dc:title>
</cp:coreProperties>
</file>