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E00-5832-46EF-AB00-5396FD49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BA0-0B41-4313-B1A1-FECC3DF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8AD-3078-4B40-9BAE-FF1F58D7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A6F-78FD-491A-B0AC-1EA79F44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BD0-5016-4B51-9A4D-A033A6C9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115-3075-43CB-B9BF-5CC5AEB6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D65-DDEA-480B-AD55-1078E235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166-08C7-4303-BBCB-31612218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B4F-4F54-4C5E-906F-51669FEB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3AF-D726-41E8-B2B7-3BE00B6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AD8-85A5-41A9-A35F-FC0063F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0FE-D68B-4022-BBAD-3B8AB32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86952-9128-4042-8524-4F93A247CA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36C1D-684B-4347-A39D-7F479C8163A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5:54:44Z</dcterms:created>
  <dc:creator>최봉수</dc:creator>
  <dc:description/>
  <dc:language>en-US</dc:language>
  <cp:lastModifiedBy>맛있다 군만두</cp:lastModifiedBy>
  <dcterms:modified xsi:type="dcterms:W3CDTF">2024-10-01T03:05:25Z</dcterms:modified>
  <cp:revision>3</cp:revision>
  <dc:subject/>
  <dc:title>슬라이드 1</dc:title>
</cp:coreProperties>
</file>