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271-2646-4374-82A2-E3E2C5FF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54C-1CE1-4F76-9B31-6ED4BB6C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7D3-D21C-45CF-9FE1-9F8E817A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D3C-8C5B-4631-9F1D-5F784D58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060-4AE7-4577-9892-0BC3FD60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D58-D2E0-4BD1-8401-61F5F3A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266-79E7-4AF2-AF91-DAC9EC5F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DF6-C3A8-47C9-B861-66D695A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118-9DBD-468B-B6A9-1D69451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708-AE4D-45F9-B7AC-27B5462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F87-7689-4CB6-ACA5-56D88270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3DB-CAAF-4388-92A4-88B60A44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1EE27-6B3F-4D54-AF87-345A7FD2F6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6A40E-C16F-47D5-92DE-2C81068ABD3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5:54:44Z</dcterms:created>
  <dc:creator>최봉수</dc:creator>
  <dc:description/>
  <dc:language>en-US</dc:language>
  <cp:lastModifiedBy>맛있다 군만두</cp:lastModifiedBy>
  <dcterms:modified xsi:type="dcterms:W3CDTF">2024-10-01T03:05:25Z</dcterms:modified>
  <cp:revision>3</cp:revision>
  <dc:subject/>
  <dc:title>슬라이드 1</dc:title>
</cp:coreProperties>
</file>