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arah%20Brightman&amp;Andrea%20Bocelli%20-%20Con%20Te%20Partiro2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CF9-23C2-424A-95C3-AE376A8A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450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06C-150B-421B-AE87-4BAB524D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004-64ED-40F5-B6E8-E8DEAEE6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112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112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450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450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450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48E-C4CF-41E8-BE7D-5062C9C6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11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C53-4387-41E8-9CE7-2CCD90DB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87C-B49A-49F9-9636-3C4BC10D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5E0-3132-42AF-8E8E-B1F35408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CCA-FAF2-4522-8D02-2F44FD2D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5848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A03-1B53-47B4-9284-6EF3880E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613-6261-4FD0-8F08-F94E9A26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F06-BA7F-4ABE-AE25-4E512ED6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450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72F-2144-4564-81AC-E19EB681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11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900400"/>
            <a:ext cx="21337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900400"/>
            <a:ext cx="2895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900400"/>
            <a:ext cx="21337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BC5E-39C0-4E68-BC10-B081E7917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arah%20Brightman&amp;Andrea%20Bocelli%20-%20Con%20Te%20Partiro2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7596360" y="5832360"/>
            <a:ext cx="1331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cc66"/>
                </a:solidFill>
                <a:latin typeface="Comic Sans MS"/>
              </a:rPr>
              <a:t>Clique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287280"/>
            <a:ext cx="28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Bom dia!!!</a:t>
            </a:r>
            <a:endParaRPr b="0" i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71640" y="2952720"/>
            <a:ext cx="38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Quando Falar</a:t>
            </a:r>
            <a:endParaRPr b="0" i="1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" nodeType="afterEffect" fill="hold" presetClass="emph" presetID="3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0920" y="4319640"/>
            <a:ext cx="8661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sobre a dor,  deixe abertas as janelas  da  alma  para  compreender  que 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amor e a dor são tão parecidos que até os confundimos ao vê-los bem de pertinh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250920" y="4319640"/>
            <a:ext cx="8642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sobre a paz, faça-o no rumor da guerra, e para ser ouvido na  mais alta voz.</a:t>
            </a:r>
            <a:br>
              <a:rPr sz="3000"/>
            </a:b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sobre sonhos, acorde par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vivê-los na melhor lucidez do seu di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79280" y="4680000"/>
            <a:ext cx="8805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amizade, estenda a mão aos seus  inimigos  para  que  possa  provar  a  s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mesmo aquilo que gosta de dizer aos outr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50920" y="4319640"/>
            <a:ext cx="8661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fome, faça um minuto de jejum para lembrar daqueles que jejuam tod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os dias, mesmo sem querer.</a:t>
            </a:r>
            <a:br>
              <a:rPr sz="3000"/>
            </a:b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frio, abrace algué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9280" y="4319640"/>
            <a:ext cx="8805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calor, estenda a mão.</a:t>
            </a:r>
            <a:br>
              <a:rPr sz="3000"/>
            </a:b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estender a mão, mantenha 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braço erguido para que perdure.</a:t>
            </a:r>
            <a:br>
              <a:rPr sz="3000"/>
            </a:b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felicidade, acredite nel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50920" y="4319640"/>
            <a:ext cx="8661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fé, cerre os olhos para encontrar a razão daquilo em que crê.</a:t>
            </a:r>
            <a:br>
              <a:rPr sz="3000"/>
            </a:b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Deus, faça-o pel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silêncio do seu testemunh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79280" y="4464000"/>
            <a:ext cx="880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omic Sans MS"/>
              </a:rPr>
              <a:t>Quando falar de si mesmo, aprenda a calar,  para entender o am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omic Sans MS"/>
              </a:rPr>
              <a:t>a dor, a paz, os sonhos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8360" y="59040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mic Sans MS"/>
              </a:rPr>
              <a:t>D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12840"/>
            <a:ext cx="8496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99"/>
                </a:solidFill>
                <a:latin typeface="Comic Sans MS"/>
              </a:rPr>
              <a:t>Tenha um dia sem dor, com muito amor, muita paz e bons sonhos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7:34:20Z</dcterms:created>
  <dc:creator>USUARIO</dc:creator>
  <dc:description/>
  <dc:language>en-US</dc:language>
  <cp:lastModifiedBy>USUARIO</cp:lastModifiedBy>
  <dcterms:modified xsi:type="dcterms:W3CDTF">2009-10-27T07:02:35Z</dcterms:modified>
  <cp:revision>5</cp:revision>
  <dc:subject/>
  <dc:title>Slide 1</dc:title>
</cp:coreProperties>
</file>