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Sarah%20Brightman&amp;Andrea%20Bocelli%20-%20Con%20Te%20Partiro2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73D5-639E-4FEE-B889-23FCE2FB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450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9DD7-3CA1-4304-B26A-9E29972B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112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450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450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E0AC-B16B-4246-A53C-9512CC9B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112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112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450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450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450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E330-7AF0-44F7-BDF1-BBF9DBDB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11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4E0B-BBB7-4FA6-9D64-DF714635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82F9-2746-471F-8F27-76CB702B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112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8CCB-C0B1-49EF-B2D9-AF2FEE81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70C9-CB08-4E04-9B1E-7284E116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58480"/>
            <a:ext cx="82296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2348-6FE7-4A11-9711-C6BDFDA6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112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450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81D9-58E6-4FBE-B343-1F14EDD1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112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450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AF43-A3D7-4C01-A42C-AE2E8F76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112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450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4CE6-ADDD-4A3D-9639-86BFDADB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112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900400"/>
            <a:ext cx="21337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900400"/>
            <a:ext cx="28958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900400"/>
            <a:ext cx="21337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8683-87C2-476C-8835-67CB95568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arah%20Brightman&amp;Andrea%20Bocelli%20-%20Con%20Te%20Partiro2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8928000" cy="61912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7596360" y="5832360"/>
            <a:ext cx="1331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cc66"/>
                </a:solidFill>
                <a:latin typeface="Comic Sans MS"/>
              </a:rPr>
              <a:t>Clique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24000" y="287280"/>
            <a:ext cx="280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Bom dia!!!</a:t>
            </a:r>
            <a:endParaRPr b="0" i="1" lang="en-US" sz="18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771640" y="2952720"/>
            <a:ext cx="381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Quando Falar</a:t>
            </a:r>
            <a:endParaRPr b="0" i="1" lang="en-US" sz="1800" spc="1" strike="noStrike">
              <a:ln w="2232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" nodeType="afterEffect" fill="hold" presetClass="emph" presetID="3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8928000" cy="61912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250920" y="4319640"/>
            <a:ext cx="8661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Quando falar sobre a dor,  deixe abertas as janelas  da  alma  para  compreender  que 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amor e a dor são tão parecidos que até os confundimos ao vê-los bem de pertinh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8928000" cy="61912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250920" y="4319640"/>
            <a:ext cx="8642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Quando falar sobre a paz, faça-o no rumor da guerra, e para ser ouvido na  mais alta voz.</a:t>
            </a:r>
            <a:br>
              <a:rPr sz="3000"/>
            </a:b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Quando falar sobre sonhos, acorde par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vivê-los na melhor lucidez do seu di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8928000" cy="61912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79280" y="4680000"/>
            <a:ext cx="88059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Quando falar de amizade, estenda a mão aos seus  inimigos  para  que  possa  provar  a  s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mesmo aquilo que gosta de dizer aos outr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8928000" cy="61912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250920" y="4319640"/>
            <a:ext cx="8661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Quando falar de fome, faça um minuto de jejum para lembrar daqueles que jejuam tod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os dias, mesmo sem querer.</a:t>
            </a:r>
            <a:br>
              <a:rPr sz="3000"/>
            </a:b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Quando falar de frio, abrace alguém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8928000" cy="61912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79280" y="4319640"/>
            <a:ext cx="8805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Quando falar de calor, estenda a mão.</a:t>
            </a:r>
            <a:br>
              <a:rPr sz="3000"/>
            </a:b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Quando estender a mão, mantenha 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braço erguido para que perdure.</a:t>
            </a:r>
            <a:br>
              <a:rPr sz="3000"/>
            </a:b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Quando falar de felicidade, acredite nel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8928000" cy="61912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50920" y="4319640"/>
            <a:ext cx="8661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Quando falar de fé, cerre os olhos para encontrar a razão daquilo em que crê.</a:t>
            </a:r>
            <a:br>
              <a:rPr sz="3000"/>
            </a:b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Quando falar de Deus, faça-o pel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omic Sans MS"/>
              </a:rPr>
              <a:t>silêncio do seu testemunh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8928000" cy="61912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79280" y="4464000"/>
            <a:ext cx="880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omic Sans MS"/>
              </a:rPr>
              <a:t>Quando falar de si mesmo, aprenda a calar,  para entender o amo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omic Sans MS"/>
              </a:rPr>
              <a:t>a dor, a paz, os sonhos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8360" y="590400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Comic Sans MS"/>
              </a:rPr>
              <a:t>D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12840"/>
            <a:ext cx="8496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99"/>
                </a:solidFill>
                <a:latin typeface="Comic Sans MS"/>
              </a:rPr>
              <a:t>Tenha um dia sem dor, com muito amor, muita paz e bons sonhos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3" presetSubtype="52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7:34:20Z</dcterms:created>
  <dc:creator>USUARIO</dc:creator>
  <dc:description/>
  <dc:language>en-US</dc:language>
  <cp:lastModifiedBy>USUARIO</cp:lastModifiedBy>
  <dcterms:modified xsi:type="dcterms:W3CDTF">2009-10-27T07:02:35Z</dcterms:modified>
  <cp:revision>5</cp:revision>
  <dc:subject/>
  <dc:title>Slide 1</dc:title>
</cp:coreProperties>
</file>